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36.wmf" ContentType="image/x-wmf"/>
  <Override PartName="/ppt/media/image37.wmf" ContentType="image/x-wmf"/>
  <Override PartName="/ppt/media/image39.wmf" ContentType="image/x-wmf"/>
  <Override PartName="/ppt/media/image41.jpeg" ContentType="image/jpeg"/>
  <Override PartName="/ppt/media/image42.png" ContentType="image/png"/>
  <Override PartName="/ppt/media/image43.png" ContentType="image/png"/>
  <Override PartName="/ppt/media/image33.png" ContentType="image/png"/>
  <Override PartName="/ppt/media/image8.png" ContentType="image/png"/>
  <Override PartName="/ppt/media/image45.png" ContentType="image/png"/>
  <Override PartName="/ppt/media/image44.png" ContentType="image/png"/>
  <Override PartName="/ppt/media/image40.jpeg" ContentType="image/jpeg"/>
  <Override PartName="/ppt/media/image9.png" ContentType="image/png"/>
  <Override PartName="/ppt/media/image46.png" ContentType="image/png"/>
  <Override PartName="/ppt/media/image38.wmf" ContentType="image/x-wmf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2.png" ContentType="image/png"/>
  <Override PartName="/ppt/media/image7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2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6.png" ContentType="image/png"/>
  <Override PartName="/ppt/media/image2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5440" y="3802320"/>
            <a:ext cx="8381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8060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8060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19360" y="12949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353280" y="12949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85440" y="38023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519360" y="38023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353280" y="38023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8060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218960" y="-360"/>
            <a:ext cx="7848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8060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4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8060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98060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8060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440" y="3802320"/>
            <a:ext cx="8381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95280"/>
            <a:ext cx="1143000" cy="480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nguiat Gothic Medium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nguiat Gothic Medium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700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nguiat Gothic Mediu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2" marL="1523880" indent="-285480">
              <a:spcBef>
                <a:spcPts val="700"/>
              </a:spcBef>
              <a:buClr>
                <a:srgbClr val="000000"/>
              </a:buClr>
              <a:buFont typeface="Benguiat Gothic 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nguiat Gothic Medium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3" marL="2000160" indent="-285480">
              <a:spcBef>
                <a:spcPts val="700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nguiat Gothic Medium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4" marL="2476440" indent="-285840">
              <a:spcBef>
                <a:spcPts val="700"/>
              </a:spcBef>
              <a:buClr>
                <a:srgbClr val="000000"/>
              </a:buClr>
              <a:buFont typeface="Benguiat Gothic 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nguiat Gothic Medium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5" marL="2476440" indent="-285840">
              <a:spcBef>
                <a:spcPts val="700"/>
              </a:spcBef>
              <a:buClr>
                <a:srgbClr val="000000"/>
              </a:buClr>
              <a:buFont typeface="Benguiat Gothic 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nguiat Gothic Medium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6" marL="2476440" indent="-285840">
              <a:spcBef>
                <a:spcPts val="700"/>
              </a:spcBef>
              <a:buClr>
                <a:srgbClr val="000000"/>
              </a:buClr>
              <a:buFont typeface="Benguiat Gothic 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nguiat Gothic Medium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4400" y="6134040"/>
            <a:ext cx="1113840" cy="1128240"/>
            <a:chOff x="14400" y="6134040"/>
            <a:chExt cx="1113840" cy="1128240"/>
          </a:xfrm>
        </p:grpSpPr>
        <p:sp>
          <p:nvSpPr>
            <p:cNvPr id="4" name=""/>
            <p:cNvSpPr/>
            <p:nvPr/>
          </p:nvSpPr>
          <p:spPr>
            <a:xfrm>
              <a:off x="571320" y="6723000"/>
              <a:ext cx="556920" cy="10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995400" y="6703920"/>
              <a:ext cx="83520" cy="88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0160" y="6703920"/>
              <a:ext cx="80640" cy="88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2040" y="6703920"/>
              <a:ext cx="78840" cy="88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6440" y="6703920"/>
              <a:ext cx="7884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33280" y="6703920"/>
              <a:ext cx="8208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6600" y="6703920"/>
              <a:ext cx="8532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4400" y="6134040"/>
              <a:ext cx="555480" cy="58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5160" y="6189840"/>
              <a:ext cx="1015200" cy="106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6" y="0"/>
                  </a:moveTo>
                  <a:arcTo wR="10800" hR="10800" stAng="-5410744" swAng="54005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6" y="0"/>
                  </a:moveTo>
                  <a:arcTo wR="10800" hR="10800" stAng="-5410744" swAng="5400512"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46520" y="6280200"/>
              <a:ext cx="84960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0" y="0"/>
                  </a:moveTo>
                  <a:arcTo wR="10800" hR="10800" stAng="-5412781" swAng="54005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0" y="0"/>
                  </a:moveTo>
                  <a:arcTo wR="10800" hR="10800" stAng="-5412781" swAng="540050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7240" y="6369120"/>
              <a:ext cx="674640" cy="71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9" y="0"/>
                  </a:moveTo>
                  <a:arcTo wR="10800" hR="10800" stAng="-5416101" swAng="5416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9" y="0"/>
                  </a:moveTo>
                  <a:arcTo wR="10800" hR="10800" stAng="-5416101" swAng="5416101"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16440" y="6458040"/>
              <a:ext cx="513000" cy="53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7959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10040" y="6543720"/>
              <a:ext cx="33192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8" y="0"/>
                  </a:moveTo>
                  <a:arcTo wR="10800" hR="10800" stAng="-5432442" swAng="5402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8" y="0"/>
                  </a:moveTo>
                  <a:arcTo wR="10800" hR="10800" stAng="-5432442" swAng="5402010"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89240" y="6635880"/>
              <a:ext cx="173520" cy="1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07" y="2"/>
                  </a:moveTo>
                  <a:arcTo wR="10800" hR="10800" stAng="-5461382" swAng="53988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07" y="2"/>
                  </a:moveTo>
                  <a:arcTo wR="10800" hR="10800" stAng="-5461382" swAng="539888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6600" y="6189840"/>
              <a:ext cx="1014840" cy="10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68"/>
                  </a:moveTo>
                  <a:arcTo wR="10800" hR="10800" stAng="-10789830" swAng="537908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68"/>
                  </a:moveTo>
                  <a:arcTo wR="10800" hR="10800" stAng="-10789830" swAng="5379087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3720" y="6280200"/>
              <a:ext cx="84060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62"/>
                  </a:moveTo>
                  <a:arcTo wR="10800" hR="10800" stAng="-10787768" swAng="537479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62"/>
                  </a:moveTo>
                  <a:arcTo wR="10800" hR="10800" stAng="-10787768" swAng="537479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34720" y="6369120"/>
              <a:ext cx="678600" cy="71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389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3899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18960" y="6458040"/>
              <a:ext cx="510120" cy="53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6"/>
                  </a:moveTo>
                  <a:arcTo wR="10800" hR="10800" stAng="-10779598" swAng="53583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6"/>
                  </a:moveTo>
                  <a:arcTo wR="10800" hR="10800" stAng="-10779598" swAng="53583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09320" y="6545160"/>
              <a:ext cx="332280" cy="35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5"/>
                  </a:moveTo>
                  <a:arcTo wR="10800" hR="10800" stAng="-10769855" swAng="533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5"/>
                  </a:moveTo>
                  <a:arcTo wR="10800" hR="10800" stAng="-10769855" swAng="533741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95360" y="6637320"/>
              <a:ext cx="163800" cy="17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" y="10607"/>
                  </a:moveTo>
                  <a:arcTo wR="10800" hR="10800" stAng="-10738650" swAng="5273761"/>
                  <a:lnTo>
                    <a:pt x="10800" y="10800"/>
                  </a:lnTo>
                  <a:close/>
                </a:path>
                <a:path fill="none" w="21600" h="21600">
                  <a:moveTo>
                    <a:pt x="2" y="10607"/>
                  </a:moveTo>
                  <a:arcTo wR="10800" hR="10800" stAng="-10738650" swAng="527376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33280" y="6723000"/>
              <a:ext cx="8208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06440" y="6723000"/>
              <a:ext cx="7884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6600" y="6723000"/>
              <a:ext cx="853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30160" y="6723000"/>
              <a:ext cx="8064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95400" y="6723000"/>
              <a:ext cx="835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62040" y="6723000"/>
              <a:ext cx="7884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" name="" descr=""/>
          <p:cNvPicPr/>
          <p:nvPr/>
        </p:nvPicPr>
        <p:blipFill>
          <a:blip r:embed="rId2"/>
          <a:stretch/>
        </p:blipFill>
        <p:spPr>
          <a:xfrm>
            <a:off x="42840" y="0"/>
            <a:ext cx="105588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png"/><Relationship Id="rId13" Type="http://schemas.openxmlformats.org/officeDocument/2006/relationships/image" Target="../media/image35.jpeg"/><Relationship Id="rId1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6.png"/><Relationship Id="rId4" Type="http://schemas.openxmlformats.org/officeDocument/2006/relationships/image" Target="../media/image48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6.png"/><Relationship Id="rId4" Type="http://schemas.openxmlformats.org/officeDocument/2006/relationships/image" Target="../media/image48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png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Benguiat Gothic Medium"/>
              </a:rPr>
              <a:t>User Priorities for EUD</a:t>
            </a:r>
            <a:br>
              <a:rPr sz="2800"/>
            </a:br>
            <a:r>
              <a:rPr b="1" lang="en-GB" sz="2800" spc="-1" strike="noStrike">
                <a:solidFill>
                  <a:srgbClr val="ff0000"/>
                </a:solidFill>
                <a:latin typeface="Benguiat Gothic Medium"/>
              </a:rPr>
              <a:t>Review and Research Agenda</a:t>
            </a:r>
            <a:endParaRPr b="1" lang="en-US" sz="28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142640" y="2209320"/>
            <a:ext cx="70102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571680" indent="-57168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nguiat Gothic Medium"/>
              </a:rPr>
              <a:t>Alan Blackwell</a:t>
            </a:r>
            <a:endParaRPr b="0" lang="en-US" sz="32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nguiat Gothic Medium"/>
              </a:rPr>
              <a:t>Computer Laboratory Rainbow Group &amp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enguiat Gothic Medium"/>
              </a:rPr>
              <a:t>Crucible Design Research Network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 algn="ctr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nguiat Gothic Medium"/>
              </a:rPr>
              <a:t>University of Cambridge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410080" y="4572000"/>
            <a:ext cx="2743200" cy="182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2286000" y="4572000"/>
          <a:ext cx="1981080" cy="1770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4572000"/>
                    <a:ext cx="198108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nguiat Gothic Medium"/>
              </a:rPr>
              <a:t>JavaStudio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617220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Benguiat Gothic Medium"/>
              </a:rPr>
              <a:t>User perspectives (B)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Strong tradition of research by Thomas Green with many collaborators: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1970s: Usability of flowcharts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1980s: Problem solving with simple languages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1990s: Usability criteria for programming languages: “Cognitive Dimensions of Notations”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Many common theories of user benefits for VL research are unjustified </a:t>
            </a:r>
            <a:r>
              <a:rPr b="0" lang="en-GB" sz="2000" spc="-1" strike="noStrike">
                <a:solidFill>
                  <a:srgbClr val="000000"/>
                </a:solidFill>
                <a:latin typeface="Benguiat Gothic Medium"/>
              </a:rPr>
              <a:t>(Blackwell 1996)</a:t>
            </a:r>
            <a:endParaRPr b="0" lang="en-US" sz="20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Professional user surveys </a:t>
            </a:r>
            <a:r>
              <a:rPr b="0" lang="en-GB" sz="2000" spc="-1" strike="noStrike">
                <a:solidFill>
                  <a:srgbClr val="000000"/>
                </a:solidFill>
                <a:latin typeface="Benguiat Gothic Medium"/>
              </a:rPr>
              <a:t>(Blackwell &amp; Whitley 1999)</a:t>
            </a:r>
            <a:endParaRPr b="0" lang="en-US" sz="20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Still widespread “superlativism”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Belief that VLs must be better than text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nguiat Gothic Medium"/>
              </a:rPr>
              <a:t>Challenging “superlativism”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1143000"/>
            <a:ext cx="4267080" cy="4474440"/>
          </a:xfrm>
          <a:prstGeom prst="rect">
            <a:avLst/>
          </a:prstGeom>
          <a:solidFill>
            <a:srgbClr val="f0e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hig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w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deep: w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t dee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tall: w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t tall: clu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 t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 d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t w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thick: g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t thick: ro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 th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t 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thick: s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t thick: g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 th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 w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t hig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tall: bu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t tall: hic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 t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4133880" cy="3976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392480" y="5721480"/>
            <a:ext cx="235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nguiat Gothic Medium"/>
              </a:rPr>
              <a:t>A: is faster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nguiat Gothic Medium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Benguiat Gothic Medium"/>
              </a:rPr>
              <a:t>forward”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1758960"/>
            <a:ext cx="260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nguiat Gothic Medium"/>
              </a:rPr>
              <a:t>B: is faster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nguiat Gothic Medium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Benguiat Gothic Medium"/>
              </a:rPr>
              <a:t>backward”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Benguiat Gothic Medium"/>
              </a:rPr>
              <a:t>C. Graphical Rewrite Systems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BitPict, Agentsheets, KidSim/Cocoa/Stagecast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  <p:pic>
        <p:nvPicPr>
          <p:cNvPr id="119" name="" descr="New look of sim window"/>
          <p:cNvPicPr/>
          <p:nvPr/>
        </p:nvPicPr>
        <p:blipFill>
          <a:blip r:embed="rId1"/>
          <a:stretch/>
        </p:blipFill>
        <p:spPr>
          <a:xfrm>
            <a:off x="1828800" y="1981080"/>
            <a:ext cx="647712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Benguiat Gothic Medium"/>
              </a:rPr>
              <a:t>User perspectives (C)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Great majority of end-user applications for rewrite systems are educational simulations: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499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AgentSheets applied in school and community design projects </a:t>
            </a:r>
            <a:r>
              <a:rPr b="0" lang="en-GB" sz="2000" spc="-1" strike="noStrike">
                <a:solidFill>
                  <a:srgbClr val="000000"/>
                </a:solidFill>
                <a:latin typeface="Benguiat Gothic Medium"/>
              </a:rPr>
              <a:t>(Repenning et. al.)</a:t>
            </a:r>
            <a:endParaRPr b="0" lang="en-US" sz="20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499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StageCast used as evaluation platform for school and community projects </a:t>
            </a:r>
            <a:r>
              <a:rPr b="0" lang="en-GB" sz="2000" spc="-1" strike="noStrike">
                <a:solidFill>
                  <a:srgbClr val="000000"/>
                </a:solidFill>
                <a:latin typeface="Benguiat Gothic Medium"/>
              </a:rPr>
              <a:t>(Carroll, Rosson et. al.)</a:t>
            </a:r>
            <a:endParaRPr b="0" lang="en-US" sz="20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nguiat Gothic Medium"/>
              </a:rPr>
              <a:t>(NB: BitPict is still mainly a theoretical project – Furnas does not claim specific end-user advantages)</a:t>
            </a:r>
            <a:endParaRPr b="0" lang="en-US" sz="2000" spc="-1" strike="noStrike">
              <a:solidFill>
                <a:srgbClr val="000000"/>
              </a:solidFill>
              <a:latin typeface="Benguiat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Benguiat Gothic Medium"/>
              </a:rPr>
              <a:t>D. Prog. by Demonstration &amp; Example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542880" indent="-5428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Programming by Demonstration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995040" indent="-2710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Show required operations directly on data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995040" indent="-2710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Pygmalion: first visual language?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995040" indent="-2710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Toontalk: programming as videogame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marL="542880" indent="-5428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Programming by Example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995040" indent="-2710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Infer user’s intentions from demonstrated examples 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995040" indent="-2710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Machine learning for robot programming (Andreae)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995040" indent="-2710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Text transformations (Nix, Mo &amp; Witten, Blackwell)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995040" indent="-2710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Main user concern is inferring scripting tasks to extend a GUI (Halbert, Cypher, Lieberman)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nguiat Gothic Medium"/>
              </a:rPr>
              <a:t>ToonTalk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nguiat Gothic Medium"/>
              </a:rPr>
              <a:t>ToonTalk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nguiat Gothic Medium"/>
              </a:rPr>
              <a:t>ToonTalk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nguiat Gothic Medium"/>
              </a:rPr>
              <a:t>ToonTalk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Benguiat Gothic Medium"/>
              </a:rPr>
              <a:t>Overview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Definitions of user perspectives for EUD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Technologies aimed at end-users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Typical application domains for research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Evaluation and theoretical perspectives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Future priorities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nguiat Gothic Medium"/>
              </a:rPr>
              <a:t>ToonTalk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nguiat Gothic Medium"/>
              </a:rPr>
              <a:t>ToonTalk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nguiat Gothic Medium"/>
              </a:rPr>
              <a:t>ToonTalk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nguiat Gothic Medium"/>
              </a:rPr>
              <a:t>ToonTalk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nguiat Gothic Medium"/>
              </a:rPr>
              <a:t>SWYN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pic>
        <p:nvPicPr>
          <p:cNvPr id="141" name="SWYNscreen" descr=""/>
          <p:cNvPicPr/>
          <p:nvPr/>
        </p:nvPicPr>
        <p:blipFill>
          <a:blip r:embed="rId1"/>
          <a:stretch/>
        </p:blipFill>
        <p:spPr>
          <a:xfrm>
            <a:off x="1352520" y="1523880"/>
            <a:ext cx="75628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Benguiat Gothic Medium"/>
              </a:rPr>
              <a:t>User perspectives (D)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Programming by Demonstration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Many PBD systems never evaluated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Small number of “Wizard of Oz” studies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Some educational applications of ToonTalk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Programming by Example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Most prototypes small scale, not integrated into systems suited to field evaluation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A few experimental demonstrations of usability (e.g. Lieberman)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Some empirical studies of the representation problem (e.g. Blackwell)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Benguiat Gothic Medium"/>
              </a:rPr>
              <a:t>E. Spreadsheets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Most successful end-user language (Nardi)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640080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Benguiat Gothic Medium"/>
              </a:rPr>
              <a:t>User perspectives (E)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Ongoing research: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Some specialist meetings (e.g. spreadsheet risks)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Some research presented at FP venues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Some research presented at VL &amp; HCC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Empirical studies of programs e.g. Panko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User context studies e.g. Nardi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User-driven design e.g. Burnett, Blackwell &amp; collaborators: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Now developing commercial outcomes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Benguiat Gothic Medium"/>
              </a:rPr>
              <a:t>Domains for end-user perspectives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Soloway, Papert, Mulholland, Pane, McIver … 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Blended / Power User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Baroth &amp; Hartsough, Whitley, Blackwell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Business scripting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Mackay (contextual studies of use)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Domestic programming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Young, Gray, Blackwell, Green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Benguiat Gothic Medium"/>
              </a:rPr>
              <a:t>Educational domain: HANDS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66294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Benguiat Gothic Medium"/>
              </a:rPr>
              <a:t>Defined end-user perspectives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End-Users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Occasional, casual or non-professional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lvl="2" marL="152388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enguiat Gothic Medium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nguiat Gothic Medium"/>
              </a:rPr>
              <a:t>(note that Brad Myers included “novice”)</a:t>
            </a:r>
            <a:endParaRPr b="0" lang="en-US" sz="2000" spc="-1" strike="noStrike">
              <a:solidFill>
                <a:srgbClr val="000000"/>
              </a:solidFill>
              <a:latin typeface="Benguiat Gothic Medium"/>
            </a:endParaRPr>
          </a:p>
          <a:p>
            <a:pPr lvl="2" marL="152388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enguiat Gothic Medium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nguiat Gothic Medium"/>
              </a:rPr>
              <a:t>in fact most user studies are of students or children </a:t>
            </a:r>
            <a:endParaRPr b="0" lang="en-US" sz="20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End-User Programming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When users invest attention in abstraction, as an </a:t>
            </a:r>
            <a:r>
              <a:rPr b="0" i="1" lang="en-GB" sz="2400" spc="-1" strike="noStrike">
                <a:solidFill>
                  <a:srgbClr val="000000"/>
                </a:solidFill>
                <a:latin typeface="Benguiat Gothic Medium"/>
              </a:rPr>
              <a:t>alternative</a:t>
            </a: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 to direct manipulation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lvl="2" marL="152388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enguiat Gothic Medium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nguiat Gothic Medium"/>
              </a:rPr>
              <a:t>Blackwell (2002) “What is Programming”</a:t>
            </a:r>
            <a:endParaRPr b="0" lang="en-US" sz="20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End-User Software Engineering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Consider user problems in development beyond just coding (i.e. debugging, testing etc.)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lvl="2" marL="152388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enguiat Gothic Medium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nguiat Gothic Medium"/>
              </a:rPr>
              <a:t>Burnett et. al.</a:t>
            </a:r>
            <a:endParaRPr b="0" lang="en-US" sz="2000" spc="-1" strike="noStrike">
              <a:solidFill>
                <a:srgbClr val="000000"/>
              </a:solidFill>
              <a:latin typeface="Benguiat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nguiat Gothic Medium"/>
              </a:rPr>
              <a:t>Professional domain: LabVIEW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80010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Benguiat Gothic Medium"/>
              </a:rPr>
              <a:t>Domestic domain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600200" y="4800600"/>
          <a:ext cx="174456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800600"/>
                    <a:ext cx="17445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267080" y="4952880"/>
          <a:ext cx="2770200" cy="144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4952880"/>
                    <a:ext cx="277020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7010280" y="3962520"/>
          <a:ext cx="1905120" cy="63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10280" y="3962520"/>
                    <a:ext cx="190512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7010280" y="1447920"/>
          <a:ext cx="1473480" cy="213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10280" y="1447920"/>
                    <a:ext cx="147348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905120" y="1219320"/>
          <a:ext cx="2743200" cy="722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1219320"/>
                    <a:ext cx="27432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371600" y="2590920"/>
          <a:ext cx="1195560" cy="1218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71600" y="2590920"/>
                    <a:ext cx="1195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" descr=""/>
          <p:cNvPicPr/>
          <p:nvPr/>
        </p:nvPicPr>
        <p:blipFill>
          <a:blip r:embed="rId13"/>
          <a:stretch/>
        </p:blipFill>
        <p:spPr>
          <a:xfrm>
            <a:off x="2895480" y="2209680"/>
            <a:ext cx="365760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nguiat Gothic Medium"/>
              </a:rPr>
              <a:t>MediaCubes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170" name=""/>
          <p:cNvSpPr/>
          <p:nvPr/>
        </p:nvSpPr>
        <p:spPr>
          <a:xfrm>
            <a:off x="4876920" y="1523880"/>
            <a:ext cx="0" cy="3733920"/>
          </a:xfrm>
          <a:prstGeom prst="line">
            <a:avLst/>
          </a:prstGeom>
          <a:ln w="8892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81680" y="1600200"/>
            <a:ext cx="2057400" cy="19810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m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3352680"/>
            <a:ext cx="228600" cy="228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38480" y="3352680"/>
            <a:ext cx="228600" cy="228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0" y="2133720"/>
            <a:ext cx="228600" cy="228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4952880"/>
            <a:ext cx="2209680" cy="381240"/>
          </a:xfrm>
          <a:prstGeom prst="rect">
            <a:avLst/>
          </a:prstGeom>
          <a:solidFill>
            <a:srgbClr val="3399ff"/>
          </a:solidFill>
          <a:ln w="28440">
            <a:solidFill>
              <a:srgbClr val="000000"/>
            </a:solidFill>
            <a:miter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dia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53080" y="4038480"/>
            <a:ext cx="2133720" cy="381240"/>
          </a:xfrm>
          <a:prstGeom prst="rect">
            <a:avLst/>
          </a:prstGeom>
          <a:solidFill>
            <a:srgbClr val="3399ff"/>
          </a:solidFill>
          <a:ln w="28440">
            <a:solidFill>
              <a:srgbClr val="000000"/>
            </a:solidFill>
            <a:miter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dio Tu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2" idx="5"/>
            <a:endCxn id="176" idx="1"/>
          </p:cNvCxnSpPr>
          <p:nvPr/>
        </p:nvCxnSpPr>
        <p:spPr>
          <a:xfrm>
            <a:off x="5681520" y="3561840"/>
            <a:ext cx="858240" cy="66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8" name=""/>
          <p:cNvCxnSpPr>
            <a:stCxn id="172" idx="4"/>
            <a:endCxn id="175" idx="0"/>
          </p:cNvCxnSpPr>
          <p:nvPr/>
        </p:nvCxnSpPr>
        <p:spPr>
          <a:xfrm>
            <a:off x="5600520" y="3595320"/>
            <a:ext cx="533880" cy="1343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72" idx="7"/>
            <a:endCxn id="174" idx="3"/>
          </p:cNvCxnSpPr>
          <p:nvPr/>
        </p:nvCxnSpPr>
        <p:spPr>
          <a:xfrm flipV="1">
            <a:off x="5681160" y="2342880"/>
            <a:ext cx="1210680" cy="102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8305920" y="411480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0" y="502920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2133720"/>
            <a:ext cx="1143000" cy="2286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74" idx="6"/>
            <a:endCxn id="182" idx="1"/>
          </p:cNvCxnSpPr>
          <p:nvPr/>
        </p:nvCxnSpPr>
        <p:spPr>
          <a:xfrm>
            <a:off x="7101000" y="224748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4" name=""/>
          <p:cNvSpPr/>
          <p:nvPr/>
        </p:nvSpPr>
        <p:spPr>
          <a:xfrm>
            <a:off x="6858000" y="2743200"/>
            <a:ext cx="762120" cy="2286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01000" y="3276720"/>
            <a:ext cx="762120" cy="2286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62920" y="3048120"/>
            <a:ext cx="761760" cy="2286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2" idx="2"/>
            <a:endCxn id="184" idx="0"/>
          </p:cNvCxnSpPr>
          <p:nvPr/>
        </p:nvCxnSpPr>
        <p:spPr>
          <a:xfrm flipH="1">
            <a:off x="7238160" y="2376000"/>
            <a:ext cx="877320" cy="35316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188" name=""/>
          <p:cNvCxnSpPr>
            <a:stCxn id="182" idx="2"/>
            <a:endCxn id="186" idx="3"/>
          </p:cNvCxnSpPr>
          <p:nvPr/>
        </p:nvCxnSpPr>
        <p:spPr>
          <a:xfrm flipH="1">
            <a:off x="7938720" y="2376000"/>
            <a:ext cx="177120" cy="78660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189" name=""/>
          <p:cNvCxnSpPr>
            <a:stCxn id="185" idx="0"/>
            <a:endCxn id="182" idx="2"/>
          </p:cNvCxnSpPr>
          <p:nvPr/>
        </p:nvCxnSpPr>
        <p:spPr>
          <a:xfrm flipH="1" flipV="1">
            <a:off x="8115120" y="2375640"/>
            <a:ext cx="267120" cy="8866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190" name=""/>
          <p:cNvCxnSpPr>
            <a:stCxn id="172" idx="2"/>
            <a:endCxn id="173" idx="6"/>
          </p:cNvCxnSpPr>
          <p:nvPr/>
        </p:nvCxnSpPr>
        <p:spPr>
          <a:xfrm flipH="1">
            <a:off x="4280760" y="3466800"/>
            <a:ext cx="11912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1" name=""/>
          <p:cNvCxnSpPr>
            <a:endCxn id="173" idx="2"/>
          </p:cNvCxnSpPr>
          <p:nvPr/>
        </p:nvCxnSpPr>
        <p:spPr>
          <a:xfrm>
            <a:off x="2819160" y="3390840"/>
            <a:ext cx="120564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2" name=""/>
          <p:cNvCxnSpPr>
            <a:endCxn id="173" idx="3"/>
          </p:cNvCxnSpPr>
          <p:nvPr/>
        </p:nvCxnSpPr>
        <p:spPr>
          <a:xfrm flipV="1">
            <a:off x="2209320" y="3561840"/>
            <a:ext cx="1863000" cy="85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3" name=""/>
          <p:cNvCxnSpPr>
            <a:endCxn id="173" idx="4"/>
          </p:cNvCxnSpPr>
          <p:nvPr/>
        </p:nvCxnSpPr>
        <p:spPr>
          <a:xfrm flipV="1">
            <a:off x="3895200" y="3594960"/>
            <a:ext cx="258120" cy="82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838080" y="2209680"/>
            <a:ext cx="533520" cy="53352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2286000"/>
            <a:ext cx="533520" cy="533520"/>
          </a:xfrm>
          <a:prstGeom prst="cube">
            <a:avLst>
              <a:gd name="adj" fmla="val 25000"/>
            </a:avLst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1981080"/>
            <a:ext cx="533520" cy="53352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95280" y="2819520"/>
            <a:ext cx="304920" cy="2286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2590920"/>
            <a:ext cx="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361960" y="2895480"/>
            <a:ext cx="22860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581280" y="4419720"/>
          <a:ext cx="6271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4419720"/>
                    <a:ext cx="6271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219320" y="3048120"/>
          <a:ext cx="1600200" cy="68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048120"/>
                    <a:ext cx="16002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3733920" y="1676520"/>
          <a:ext cx="838080" cy="79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1676520"/>
                    <a:ext cx="838080" cy="79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523880" y="4419720"/>
          <a:ext cx="1371600" cy="1069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4419720"/>
                    <a:ext cx="137160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08" name=""/>
          <p:cNvCxnSpPr>
            <a:stCxn id="173" idx="0"/>
          </p:cNvCxnSpPr>
          <p:nvPr/>
        </p:nvCxnSpPr>
        <p:spPr>
          <a:xfrm flipV="1">
            <a:off x="4152600" y="2472840"/>
            <a:ext cx="1080" cy="866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209680" y="2590920"/>
            <a:ext cx="5295960" cy="28875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nguiat Gothic Medium"/>
              </a:rPr>
              <a:t>MediaCubes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2514600"/>
            <a:ext cx="1828800" cy="1066680"/>
          </a:xfrm>
          <a:prstGeom prst="rightArrow">
            <a:avLst>
              <a:gd name="adj1" fmla="val 71194"/>
              <a:gd name="adj2" fmla="val 45092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ra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ce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1828800"/>
            <a:ext cx="1447560" cy="838080"/>
          </a:xfrm>
          <a:prstGeom prst="downArrow">
            <a:avLst>
              <a:gd name="adj1" fmla="val 78157"/>
              <a:gd name="adj2" fmla="val 49051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3429000"/>
            <a:ext cx="2286000" cy="1219320"/>
          </a:xfrm>
          <a:prstGeom prst="leftArrow">
            <a:avLst>
              <a:gd name="adj1" fmla="val 63935"/>
              <a:gd name="adj2" fmla="val 4687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uction co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nguiat Gothic Medium"/>
              </a:rPr>
              <a:t>MediaCubes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61976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nguiat Gothic Medium"/>
              </a:rPr>
              <a:t>MediaCubes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905120" y="2257560"/>
            <a:ext cx="587664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nguiat Gothic Medium"/>
              </a:rPr>
              <a:t>MediaCubes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546732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nguiat Gothic Medium"/>
              </a:rPr>
              <a:t>MediaCubes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535320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nguiat Gothic Medium"/>
              </a:rPr>
              <a:t>MediaCubes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55814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Benguiat Gothic Medium"/>
              </a:rPr>
              <a:t>Evaluation and theoretical perspectives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Research communities: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Psychology of Programming Interest Group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Empirical Studies of Programmers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Theoretical approaches: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Cognitive Dimensions of Notations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Attention Investment model of abstraction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391520" y="4495680"/>
            <a:ext cx="1517400" cy="17528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572000" y="4724280"/>
            <a:ext cx="2133720" cy="1719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1496880" y="4114800"/>
            <a:ext cx="2313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Benguiat Gothic Medium"/>
              </a:rPr>
              <a:t>Technologies aimed at end-users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A. Scripting and customisation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B. Visual languages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C. Graphical re-write systems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D. Programming by demonstration &amp; example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E. Spreadsheets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nguiat Gothic Medium"/>
              </a:rPr>
              <a:t>Cognitive Dimensions of Notations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nguiat Gothic Medium"/>
              </a:rPr>
              <a:t>Cognitively relevant properties of system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nguiat Gothic Medium"/>
              </a:rPr>
              <a:t>When no “correct” sequence of user actions.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nguiat Gothic Medium"/>
              </a:rPr>
              <a:t>e.g. </a:t>
            </a:r>
            <a:r>
              <a:rPr b="0" i="1" lang="en-US" sz="2800" spc="-1" strike="noStrike">
                <a:solidFill>
                  <a:srgbClr val="000000"/>
                </a:solidFill>
                <a:latin typeface="Benguiat Gothic Medium"/>
              </a:rPr>
              <a:t>Hidden Dependencies</a:t>
            </a:r>
            <a:r>
              <a:rPr b="0" lang="en-US" sz="2800" spc="-1" strike="noStrike">
                <a:solidFill>
                  <a:srgbClr val="000000"/>
                </a:solidFill>
                <a:latin typeface="Benguiat Gothic Medium"/>
              </a:rPr>
              <a:t>: VPLs make relationships explicit, but with trade-offs: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nguiat Gothic Medium"/>
              </a:rPr>
              <a:t>they need more screen space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nguiat Gothic Medium"/>
              </a:rPr>
              <a:t>they can make changes more laborious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4191120"/>
            <a:ext cx="2819520" cy="1827000"/>
          </a:xfrm>
          <a:prstGeom prst="rect">
            <a:avLst/>
          </a:prstGeom>
          <a:solidFill>
            <a:srgbClr val="f0e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 (possibl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man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pages of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code here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= x +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76520" y="6095880"/>
            <a:ext cx="1041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nguiat Gothic Medium"/>
              </a:rPr>
              <a:t>BA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82040" y="6095880"/>
            <a:ext cx="144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nguiat Gothic Medium"/>
              </a:rPr>
              <a:t>Lab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181480" y="4191120"/>
            <a:ext cx="2819520" cy="1906560"/>
            <a:chOff x="5181480" y="4191120"/>
            <a:chExt cx="2819520" cy="1906560"/>
          </a:xfrm>
        </p:grpSpPr>
        <p:sp>
          <p:nvSpPr>
            <p:cNvPr id="235" name=""/>
            <p:cNvSpPr/>
            <p:nvPr/>
          </p:nvSpPr>
          <p:spPr>
            <a:xfrm>
              <a:off x="5181480" y="4191120"/>
              <a:ext cx="2819520" cy="1906560"/>
            </a:xfrm>
            <a:prstGeom prst="rect">
              <a:avLst/>
            </a:prstGeom>
            <a:solidFill>
              <a:srgbClr val="f0e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10080" y="4343400"/>
              <a:ext cx="381240" cy="4572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10080" y="5486400"/>
              <a:ext cx="381240" cy="4572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91320" y="4572000"/>
              <a:ext cx="8380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91320" y="5715000"/>
              <a:ext cx="8380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29400" y="4572000"/>
              <a:ext cx="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10280" y="5105520"/>
              <a:ext cx="838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5400000">
              <a:off x="6400800" y="4876560"/>
              <a:ext cx="647640" cy="495360"/>
            </a:xfrm>
            <a:prstGeom prst="triangle">
              <a:avLst>
                <a:gd name="adj" fmla="val 48093"/>
              </a:avLst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Benguiat Gothic Medium"/>
              </a:rPr>
              <a:t>Attention Investment variables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spcBef>
                <a:spcPts val="60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Quantifies the informal “gentle slope” and “annoyance” arguments in terms of actual psychological processes.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spcBef>
                <a:spcPts val="60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Investment cost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499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nguiat Gothic Medium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enguiat Gothic Medium"/>
              </a:rPr>
              <a:t>attention units” to get the work done, either by direct manipulation or by programming. </a:t>
            </a:r>
            <a:endParaRPr b="0" lang="en-US" sz="20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spcBef>
                <a:spcPts val="60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Pay-off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499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nguiat Gothic Medium"/>
              </a:rPr>
              <a:t>reduced future manipulation cost</a:t>
            </a:r>
            <a:endParaRPr b="0" lang="en-US" sz="20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spcBef>
                <a:spcPts val="60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Risk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499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nguiat Gothic Medium"/>
              </a:rPr>
              <a:t>probability that no pay-off will result (specification failure), or that additional costs will be incurred (bugs).</a:t>
            </a:r>
            <a:endParaRPr b="0" lang="en-US" sz="2000" spc="-1" strike="noStrike">
              <a:solidFill>
                <a:srgbClr val="000000"/>
              </a:solidFill>
              <a:latin typeface="Benguiat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25360" y="-36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Benguiat Gothic Medium"/>
              </a:rPr>
              <a:t>Attention investment can be simulated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pic>
        <p:nvPicPr>
          <p:cNvPr id="246" name="cheese22" descr=""/>
          <p:cNvPicPr/>
          <p:nvPr/>
        </p:nvPicPr>
        <p:blipFill>
          <a:blip r:embed="rId1"/>
          <a:stretch/>
        </p:blipFill>
        <p:spPr>
          <a:xfrm>
            <a:off x="1852560" y="1392120"/>
            <a:ext cx="6332760" cy="48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Benguiat Gothic Medium"/>
              </a:rPr>
              <a:t>Future user priorities for EUD research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Research projects should </a:t>
            </a:r>
            <a:r>
              <a:rPr b="0" i="1" lang="en-GB" sz="2800" spc="-1" strike="noStrike">
                <a:solidFill>
                  <a:srgbClr val="000000"/>
                </a:solidFill>
                <a:latin typeface="Benguiat Gothic Medium"/>
              </a:rPr>
              <a:t>start</a:t>
            </a: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 from theoretical motivations regarding user needs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Prototypes should be evaluated before attempting research publication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Prototype (and product) development  should be based on awareness of user context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We must generalise research results in order to establish future design criteria for EUD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nguiat Gothic Medium"/>
              </a:rPr>
              <a:t>Further information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ttp://www.cl.cam.ac.uk/~afb21/</a:t>
            </a:r>
            <a:r>
              <a:rPr b="0" lang="en-US" sz="2800" spc="-1" strike="noStrike">
                <a:solidFill>
                  <a:srgbClr val="000000"/>
                </a:solidFill>
                <a:latin typeface="Benguiat Gothic Medium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0837800" y="5533920"/>
            <a:ext cx="1771560" cy="14288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0731600" y="8331120"/>
            <a:ext cx="1771560" cy="1428840"/>
          </a:xfrm>
          <a:prstGeom prst="rect">
            <a:avLst/>
          </a:prstGeom>
          <a:ln w="0">
            <a:noFill/>
          </a:ln>
        </p:spPr>
      </p:pic>
      <p:grpSp>
        <p:nvGrpSpPr>
          <p:cNvPr id="253" name=""/>
          <p:cNvGrpSpPr/>
          <p:nvPr/>
        </p:nvGrpSpPr>
        <p:grpSpPr>
          <a:xfrm>
            <a:off x="685800" y="2514600"/>
            <a:ext cx="8381880" cy="2057400"/>
            <a:chOff x="685800" y="2514600"/>
            <a:chExt cx="8381880" cy="2057400"/>
          </a:xfrm>
        </p:grpSpPr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5715000" y="2514600"/>
              <a:ext cx="17812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685800" y="3352680"/>
              <a:ext cx="838188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571680" indent="-5716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Wingdings" charset="2"/>
                <a:buChar char="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enguiat Gothic Medium"/>
                </a:rPr>
                <a:t>Vital Signs projec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047600" indent="-2854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Courier New"/>
                <a:buChar char="–"/>
                <a:tabLst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/vital/overview.ht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85800" y="4491000"/>
            <a:ext cx="8381880" cy="2367000"/>
            <a:chOff x="685800" y="4491000"/>
            <a:chExt cx="8381880" cy="2367000"/>
          </a:xfrm>
        </p:grpSpPr>
        <p:pic>
          <p:nvPicPr>
            <p:cNvPr id="257" name="" descr=""/>
            <p:cNvPicPr/>
            <p:nvPr/>
          </p:nvPicPr>
          <p:blipFill>
            <a:blip r:embed="rId4"/>
            <a:stretch/>
          </p:blipFill>
          <p:spPr>
            <a:xfrm>
              <a:off x="6781680" y="4491000"/>
              <a:ext cx="2052720" cy="23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685800" y="4876920"/>
              <a:ext cx="83818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571680" indent="-5716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Wingdings" charset="2"/>
                <a:buChar char="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enguiat Gothic Medium"/>
                </a:rPr>
                <a:t>Psychology of Programming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Benguiat Gothic Medium"/>
                </a:rPr>
                <a:t>Interest Group (PPIG)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http://www.ppig.or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85800" y="1905120"/>
            <a:ext cx="8381880" cy="1412640"/>
            <a:chOff x="685800" y="1905120"/>
            <a:chExt cx="8381880" cy="1412640"/>
          </a:xfrm>
        </p:grpSpPr>
        <p:pic>
          <p:nvPicPr>
            <p:cNvPr id="260" name="" descr=""/>
            <p:cNvPicPr/>
            <p:nvPr/>
          </p:nvPicPr>
          <p:blipFill>
            <a:blip r:embed="rId5"/>
            <a:stretch/>
          </p:blipFill>
          <p:spPr>
            <a:xfrm>
              <a:off x="6705720" y="1905120"/>
              <a:ext cx="1752480" cy="14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2057400"/>
              <a:ext cx="8381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571680" indent="-5716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Wingdings" charset="2"/>
                <a:buChar char="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enguiat Gothic Medium"/>
                </a:rPr>
                <a:t>Cognitive Dimens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047600" indent="-2854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Courier New"/>
                <a:buChar char="–"/>
                <a:tabLst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/CognitiveDimensions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95280" y="1219320"/>
          <a:ext cx="7696440" cy="556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19320"/>
                    <a:ext cx="7696440" cy="55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Benguiat Gothic Medium"/>
              </a:rPr>
              <a:t>EUP at IEEE HCC 2003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ecece"/>
            </a:outerShdw>
          </a:effectLst>
        </p:spPr>
        <p:txBody>
          <a:bodyPr lIns="90360" rIns="90360" tIns="44280" bIns="44280" anchor="t">
            <a:normAutofit fontScale="95000"/>
          </a:bodyPr>
          <a:p>
            <a:pPr marL="542880" indent="-542880">
              <a:spcBef>
                <a:spcPts val="7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nguiat Gothic Medium"/>
              </a:rPr>
              <a:t>Major international symposium on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Benguiat Gothic Medium"/>
              </a:rPr>
              <a:t>end-user / domain specific programming.</a:t>
            </a:r>
            <a:endParaRPr b="0" lang="en-US" sz="32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995040" indent="-271080">
              <a:spcBef>
                <a:spcPts val="700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Special emphasis on empirical results (or any scientific approach to testing theory).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995040" indent="-271080">
              <a:spcBef>
                <a:spcPts val="700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One of the series of IEEE Symposia on Human-Centric Computing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marL="542880" indent="-542880">
              <a:spcBef>
                <a:spcPts val="7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nguiat Gothic Medium"/>
              </a:rPr>
              <a:t>Date: October 27-31 2003</a:t>
            </a:r>
            <a:endParaRPr b="0" lang="en-US" sz="3200" spc="-1" strike="noStrike">
              <a:solidFill>
                <a:srgbClr val="000000"/>
              </a:solidFill>
              <a:latin typeface="Benguiat Gothic Medium"/>
            </a:endParaRPr>
          </a:p>
          <a:p>
            <a:pPr marL="542880" indent="-542880">
              <a:spcBef>
                <a:spcPts val="7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nguiat Gothic Medium"/>
              </a:rPr>
              <a:t>Location: Auckland, New Zealand</a:t>
            </a:r>
            <a:endParaRPr b="0" lang="en-US" sz="3200" spc="-1" strike="noStrike">
              <a:solidFill>
                <a:srgbClr val="000000"/>
              </a:solidFill>
              <a:latin typeface="Benguiat Gothic Medium"/>
            </a:endParaRPr>
          </a:p>
          <a:p>
            <a:pPr marL="542880" indent="-542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http://www.cs.dal.ca/HCC03/EUP/</a:t>
            </a:r>
            <a:endParaRPr b="0" lang="en-US" sz="3200" spc="-1" strike="noStrike">
              <a:solidFill>
                <a:srgbClr val="000000"/>
              </a:solidFill>
              <a:latin typeface="Benguiat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nguiat Gothic Medium"/>
              </a:rPr>
              <a:t>Further information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ttp://www.cl.cam.ac.uk/~afb21/</a:t>
            </a:r>
            <a:r>
              <a:rPr b="0" lang="en-US" sz="2800" spc="-1" strike="noStrike">
                <a:solidFill>
                  <a:srgbClr val="000000"/>
                </a:solidFill>
                <a:latin typeface="Benguiat Gothic Medium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0837800" y="5533920"/>
            <a:ext cx="1771560" cy="14288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10731600" y="8331120"/>
            <a:ext cx="1771560" cy="1428840"/>
          </a:xfrm>
          <a:prstGeom prst="rect">
            <a:avLst/>
          </a:prstGeom>
          <a:ln w="0">
            <a:noFill/>
          </a:ln>
        </p:spPr>
      </p:pic>
      <p:grpSp>
        <p:nvGrpSpPr>
          <p:cNvPr id="270" name=""/>
          <p:cNvGrpSpPr/>
          <p:nvPr/>
        </p:nvGrpSpPr>
        <p:grpSpPr>
          <a:xfrm>
            <a:off x="685800" y="2514600"/>
            <a:ext cx="8381880" cy="2057400"/>
            <a:chOff x="685800" y="2514600"/>
            <a:chExt cx="8381880" cy="2057400"/>
          </a:xfrm>
        </p:grpSpPr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5715000" y="2514600"/>
              <a:ext cx="17812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685800" y="3352680"/>
              <a:ext cx="838188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571680" indent="-5716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Wingdings" charset="2"/>
                <a:buChar char="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enguiat Gothic Medium"/>
                </a:rPr>
                <a:t>Vital Signs projec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047600" indent="-2854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Courier New"/>
                <a:buChar char="–"/>
                <a:tabLst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/vital/overview.ht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85800" y="4491000"/>
            <a:ext cx="8381880" cy="2367000"/>
            <a:chOff x="685800" y="4491000"/>
            <a:chExt cx="8381880" cy="2367000"/>
          </a:xfrm>
        </p:grpSpPr>
        <p:pic>
          <p:nvPicPr>
            <p:cNvPr id="274" name="" descr=""/>
            <p:cNvPicPr/>
            <p:nvPr/>
          </p:nvPicPr>
          <p:blipFill>
            <a:blip r:embed="rId4"/>
            <a:stretch/>
          </p:blipFill>
          <p:spPr>
            <a:xfrm>
              <a:off x="6781680" y="4491000"/>
              <a:ext cx="2052720" cy="23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685800" y="4876920"/>
              <a:ext cx="83818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571680" indent="-5716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Wingdings" charset="2"/>
                <a:buChar char="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enguiat Gothic Medium"/>
                </a:rPr>
                <a:t>Psychology of Programming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Benguiat Gothic Medium"/>
                </a:rPr>
                <a:t>Interest Group (PPIG)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http://www.ppig.or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85800" y="1905120"/>
            <a:ext cx="8381880" cy="1412640"/>
            <a:chOff x="685800" y="1905120"/>
            <a:chExt cx="8381880" cy="1412640"/>
          </a:xfrm>
        </p:grpSpPr>
        <p:pic>
          <p:nvPicPr>
            <p:cNvPr id="277" name="" descr=""/>
            <p:cNvPicPr/>
            <p:nvPr/>
          </p:nvPicPr>
          <p:blipFill>
            <a:blip r:embed="rId5"/>
            <a:stretch/>
          </p:blipFill>
          <p:spPr>
            <a:xfrm>
              <a:off x="6705720" y="1905120"/>
              <a:ext cx="1752480" cy="14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85800" y="2057400"/>
              <a:ext cx="8381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571680" indent="-5716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Wingdings" charset="2"/>
                <a:buChar char="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enguiat Gothic Medium"/>
                </a:rPr>
                <a:t>Cognitive Dimens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047600" indent="-2854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Courier New"/>
                <a:buChar char="–"/>
                <a:tabLst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/CognitiveDimensions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Benguiat Gothic Medium"/>
              </a:rPr>
              <a:t>A. Scripting and Customisation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spcBef>
                <a:spcPts val="60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Application customisation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499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nguiat Gothic Medium"/>
              </a:rPr>
              <a:t>Application specific languages: filters, macros, triggers</a:t>
            </a:r>
            <a:endParaRPr b="0" lang="en-US" sz="20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499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nguiat Gothic Medium"/>
              </a:rPr>
              <a:t>Extension languages: LISP (AutoCAD, EMACS)</a:t>
            </a:r>
            <a:endParaRPr b="0" lang="en-US" sz="20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499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nguiat Gothic Medium"/>
              </a:rPr>
              <a:t>Cross-application customisation: TCL (vs. LISP), VBA</a:t>
            </a:r>
            <a:endParaRPr b="0" lang="en-US" sz="20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spcBef>
                <a:spcPts val="60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System level scripting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499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nguiat Gothic Medium"/>
              </a:rPr>
              <a:t>Text processing: shells, sed, awk, perl</a:t>
            </a:r>
            <a:endParaRPr b="0" lang="en-US" sz="20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499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nguiat Gothic Medium"/>
              </a:rPr>
              <a:t>Database &amp; GUI functions: 4GLs, Hypercard</a:t>
            </a:r>
            <a:endParaRPr b="0" lang="en-US" sz="20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499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nguiat Gothic Medium"/>
              </a:rPr>
              <a:t>Addressing novice users: Python, SWYN</a:t>
            </a:r>
            <a:endParaRPr b="0" lang="en-US" sz="20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spcBef>
                <a:spcPts val="60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Multimedia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499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nguiat Gothic Medium"/>
              </a:rPr>
              <a:t>Web interaction: JavaScript</a:t>
            </a:r>
            <a:endParaRPr b="0" lang="en-US" sz="20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499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nguiat Gothic Medium"/>
              </a:rPr>
              <a:t>Animation: Lingo, Alice (for kids)</a:t>
            </a:r>
            <a:endParaRPr b="0" lang="en-US" sz="20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499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nguiat Gothic Medium"/>
              </a:rPr>
              <a:t>Robotics: Lego MindStorms (for kids)</a:t>
            </a:r>
            <a:endParaRPr b="0" lang="en-US" sz="2000" spc="-1" strike="noStrike">
              <a:solidFill>
                <a:srgbClr val="000000"/>
              </a:solidFill>
              <a:latin typeface="Benguiat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Benguiat Gothic Medium"/>
              </a:rPr>
              <a:t>User perspectives (A)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542880" indent="-5428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Most scripting and customisation languages are aimed at experts: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995040" indent="-2710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Created by experts for people like themselves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995040" indent="-2710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Little understanding of end-user requirements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marL="542880" indent="-5428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Debate characterised by bigotry and flame wars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995040" indent="-2710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LISP vs. TCL, Python advocacy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marL="542880" indent="-5428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Market success for real end-user populations is often achieved despite serious design faults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995040" indent="-2710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MacroMedia Lingo, Lego MindStorms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995040" indent="-2710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Perl and other write-only languages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99504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Benguiat Gothic Medium"/>
              </a:rPr>
              <a:t>B. Visual Languages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Diagrams often appeal to technical experts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Euler circles, flowcharts, CASE tools, UML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Executable diagrams seem very attractive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Many proposals published in IEEE Visual Languages, Journal of Visual Languages and Computing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Varying degrees of commercial success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LabVIEW, Prograph, JavaStudio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  <a:p>
            <a:pPr marL="571680" indent="-571680"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nguiat Gothic Medium"/>
              </a:rPr>
              <a:t>But much room for doubt</a:t>
            </a:r>
            <a:endParaRPr b="0" lang="en-US" sz="2800" spc="-1" strike="noStrike">
              <a:solidFill>
                <a:srgbClr val="000000"/>
              </a:solidFill>
              <a:latin typeface="Benguiat Gothic Medium"/>
            </a:endParaRPr>
          </a:p>
          <a:p>
            <a:pPr lvl="1" marL="1047600" indent="-285480">
              <a:spcBef>
                <a:spcPts val="601"/>
              </a:spcBef>
              <a:buClr>
                <a:srgbClr val="000000"/>
              </a:buClr>
              <a:buFont typeface="Benguiat Gothic Medium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nguiat Gothic Medium"/>
              </a:rPr>
              <a:t>Brooks’ “No Silver Bullet”</a:t>
            </a:r>
            <a:endParaRPr b="0" lang="en-US" sz="2400" spc="-1" strike="noStrike">
              <a:solidFill>
                <a:srgbClr val="000000"/>
              </a:solidFill>
              <a:latin typeface="Benguiat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nguiat Gothic Medium"/>
              </a:rPr>
              <a:t>LabVIEW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80010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Benguiat Gothic Medium"/>
              </a:rPr>
              <a:t>Prograph</a:t>
            </a:r>
            <a:endParaRPr b="1" lang="en-US" sz="3200" spc="-1" strike="noStrike">
              <a:solidFill>
                <a:srgbClr val="ff0000"/>
              </a:solidFill>
              <a:latin typeface="Benguiat Gothic Medium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384200" y="1371600"/>
            <a:ext cx="7607160" cy="4420800"/>
            <a:chOff x="1384200" y="1371600"/>
            <a:chExt cx="7607160" cy="4420800"/>
          </a:xfrm>
        </p:grpSpPr>
        <p:graphicFrame>
          <p:nvGraphicFramePr>
            <p:cNvPr id="88" name=""/>
            <p:cNvGraphicFramePr/>
            <p:nvPr/>
          </p:nvGraphicFramePr>
          <p:xfrm>
            <a:off x="1384200" y="1371600"/>
            <a:ext cx="3945240" cy="2838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84200" y="1371600"/>
                      <a:ext cx="3945240" cy="283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0" name=""/>
            <p:cNvGraphicFramePr/>
            <p:nvPr/>
          </p:nvGraphicFramePr>
          <p:xfrm>
            <a:off x="4649400" y="4766760"/>
            <a:ext cx="1326240" cy="1025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49400" y="4766760"/>
                      <a:ext cx="1326240" cy="10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" name=""/>
            <p:cNvGraphicFramePr/>
            <p:nvPr/>
          </p:nvGraphicFramePr>
          <p:xfrm>
            <a:off x="6213960" y="4829040"/>
            <a:ext cx="1303560" cy="963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13960" y="4829040"/>
                      <a:ext cx="1303560" cy="96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4" name=""/>
            <p:cNvGraphicFramePr/>
            <p:nvPr/>
          </p:nvGraphicFramePr>
          <p:xfrm>
            <a:off x="7642440" y="4800960"/>
            <a:ext cx="1348920" cy="991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42440" y="4800960"/>
                      <a:ext cx="1348920" cy="99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" name=""/>
            <p:cNvGraphicFramePr/>
            <p:nvPr/>
          </p:nvGraphicFramePr>
          <p:xfrm>
            <a:off x="5833800" y="1371600"/>
            <a:ext cx="1264320" cy="1558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833800" y="1371600"/>
                      <a:ext cx="1264320" cy="15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"/>
            <p:cNvGraphicFramePr/>
            <p:nvPr/>
          </p:nvGraphicFramePr>
          <p:xfrm>
            <a:off x="7721640" y="1371600"/>
            <a:ext cx="1269720" cy="1411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721640" y="1371600"/>
                      <a:ext cx="1269720" cy="14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7608240" y="3207960"/>
            <a:ext cx="1383120" cy="1292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608240" y="3207960"/>
                      <a:ext cx="1383120" cy="129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" name=""/>
            <p:cNvGraphicFramePr/>
            <p:nvPr/>
          </p:nvGraphicFramePr>
          <p:xfrm>
            <a:off x="5760360" y="3276000"/>
            <a:ext cx="1405440" cy="1155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760360" y="3276000"/>
                      <a:ext cx="1405440" cy="115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084480" y="4511520"/>
            <a:ext cx="1371960" cy="1280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084480" y="4511520"/>
                      <a:ext cx="1371960" cy="12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1384200" y="4443480"/>
            <a:ext cx="1439640" cy="13489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384200" y="4443480"/>
                      <a:ext cx="1439640" cy="134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8T19:04:18Z</dcterms:created>
  <dc:creator>Alan Blackwell</dc:creator>
  <dc:description/>
  <dc:language>en-US</dc:language>
  <cp:lastModifiedBy>afb21</cp:lastModifiedBy>
  <cp:lastPrinted>1999-11-03T10:48:13Z</cp:lastPrinted>
  <dcterms:modified xsi:type="dcterms:W3CDTF">2002-09-23T14:04:43Z</dcterms:modified>
  <cp:revision>151</cp:revision>
  <dc:subject/>
  <dc:title>Human Computer Interaction</dc:title>
</cp:coreProperties>
</file>