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EF17-AF78-414D-9DB1-0D2619CAD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73BD-6CBE-496C-9DC7-D2E513F0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34EF-E814-41B8-94F7-05F054E78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8CC7-9A68-4A48-8A30-50A877996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5C37-AC67-4012-B045-4DBD96C4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5E58-6A00-47F7-8B39-39E2490A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F6A3-8C1B-432F-B242-313ED76F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294A-AA9E-499E-BA8F-E8FEDCD2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0933-D740-4C60-800A-968EA70E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152B-C665-4903-95C0-AF252A7E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D60C-1DE9-4A5E-9DEA-98113695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938C-51A8-48F7-872B-BD7D419E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1CEE-9163-4AC3-A19E-0898A7D2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4FAB-C15F-4C7D-A569-9CE1AB11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A5CA-A11B-488D-80C7-654886F2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6E43-1EA2-4F37-B3E2-0AE2FD1DE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874B-8E65-4AE5-ABBE-0C528492E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1FFD-A5D9-4605-AFDC-DDE6C4FF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2348-6E8B-45A0-9D8A-C754B6E9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D869-98F8-49B5-8CCA-05A5AB27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E91B-1C0B-42A0-B375-3DDF1771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0378-65DF-4F8B-894C-CD94988E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F2B4-4E1D-489B-8D4D-4C1D3D7E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85AF-B7C0-4CCD-860E-E5AB2705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3E55-ECEA-4D3C-B1F4-3DCD538AE436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C194-848E-4DB4-98E9-DBACF3CFC33F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20108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Formal Notations and Tools for addressing both Safety and Usability concerns for Interactive System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ilippe Palan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IHS-I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Paul Sabat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louse -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667640" y="1125360"/>
            <a:ext cx="1076400" cy="1057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2016000" cy="492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755640" y="4365720"/>
            <a:ext cx="955800" cy="165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7935-224C-472A-A5BE-32F34F29881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ILAGE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itially developed for Air Traffic Controll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active prototyping of highly interactive applications (post-WIM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ild and test prototypes in a modeless w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4788000" y="4005360"/>
            <a:ext cx="3359160" cy="25621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755640" y="3860640"/>
            <a:ext cx="3174840" cy="27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9854-9FB7-4063-9593-7DF041B17B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ILAGE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32511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ata flow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et of basic building bric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ongly typed 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ent listen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692520" y="2408400"/>
            <a:ext cx="1063800" cy="108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3981600" y="2470320"/>
            <a:ext cx="484200" cy="769680"/>
            <a:chOff x="3981600" y="2470320"/>
            <a:chExt cx="484200" cy="769680"/>
          </a:xfrm>
        </p:grpSpPr>
        <p:sp>
          <p:nvSpPr>
            <p:cNvPr id="353" name=""/>
            <p:cNvSpPr/>
            <p:nvPr/>
          </p:nvSpPr>
          <p:spPr>
            <a:xfrm>
              <a:off x="4087800" y="2594160"/>
              <a:ext cx="274680" cy="496800"/>
            </a:xfrm>
            <a:custGeom>
              <a:avLst/>
              <a:gdLst/>
              <a:ahLst/>
              <a:rect l="l" t="t" r="r" b="b"/>
              <a:pathLst>
                <a:path w="173" h="313">
                  <a:moveTo>
                    <a:pt x="56" y="0"/>
                  </a:moveTo>
                  <a:lnTo>
                    <a:pt x="116" y="0"/>
                  </a:lnTo>
                  <a:lnTo>
                    <a:pt x="172" y="279"/>
                  </a:lnTo>
                  <a:lnTo>
                    <a:pt x="172" y="312"/>
                  </a:lnTo>
                  <a:lnTo>
                    <a:pt x="0" y="312"/>
                  </a:lnTo>
                  <a:lnTo>
                    <a:pt x="0" y="279"/>
                  </a:lnTo>
                  <a:lnTo>
                    <a:pt x="5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087800" y="2594160"/>
              <a:ext cx="274680" cy="496800"/>
            </a:xfrm>
            <a:custGeom>
              <a:avLst/>
              <a:gdLst/>
              <a:ahLst/>
              <a:rect l="l" t="t" r="r" b="b"/>
              <a:pathLst>
                <a:path w="173" h="313">
                  <a:moveTo>
                    <a:pt x="56" y="0"/>
                  </a:moveTo>
                  <a:lnTo>
                    <a:pt x="116" y="0"/>
                  </a:lnTo>
                  <a:lnTo>
                    <a:pt x="172" y="279"/>
                  </a:lnTo>
                  <a:lnTo>
                    <a:pt x="172" y="312"/>
                  </a:lnTo>
                  <a:lnTo>
                    <a:pt x="0" y="312"/>
                  </a:lnTo>
                  <a:lnTo>
                    <a:pt x="0" y="279"/>
                  </a:lnTo>
                  <a:lnTo>
                    <a:pt x="5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994200" y="2611440"/>
              <a:ext cx="257400" cy="444600"/>
            </a:xfrm>
            <a:custGeom>
              <a:avLst/>
              <a:gdLst/>
              <a:ahLst/>
              <a:rect l="l" t="t" r="r" b="b"/>
              <a:pathLst>
                <a:path w="162" h="280">
                  <a:moveTo>
                    <a:pt x="140" y="279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61" y="279"/>
                  </a:lnTo>
                  <a:lnTo>
                    <a:pt x="140" y="27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994200" y="2611440"/>
              <a:ext cx="257400" cy="444600"/>
            </a:xfrm>
            <a:custGeom>
              <a:avLst/>
              <a:gdLst/>
              <a:ahLst/>
              <a:rect l="l" t="t" r="r" b="b"/>
              <a:pathLst>
                <a:path w="162" h="280">
                  <a:moveTo>
                    <a:pt x="140" y="279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61" y="279"/>
                  </a:lnTo>
                  <a:lnTo>
                    <a:pt x="140" y="27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994200" y="2644920"/>
              <a:ext cx="9540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0" y="22"/>
                  </a:moveTo>
                  <a:lnTo>
                    <a:pt x="48" y="0"/>
                  </a:lnTo>
                  <a:lnTo>
                    <a:pt x="59" y="11"/>
                  </a:lnTo>
                  <a:lnTo>
                    <a:pt x="59" y="54"/>
                  </a:lnTo>
                  <a:lnTo>
                    <a:pt x="48" y="65"/>
                  </a:lnTo>
                  <a:lnTo>
                    <a:pt x="13" y="43"/>
                  </a:lnTo>
                  <a:lnTo>
                    <a:pt x="0" y="22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994200" y="2644920"/>
              <a:ext cx="9540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0" y="22"/>
                  </a:moveTo>
                  <a:lnTo>
                    <a:pt x="48" y="0"/>
                  </a:lnTo>
                  <a:lnTo>
                    <a:pt x="59" y="11"/>
                  </a:lnTo>
                  <a:lnTo>
                    <a:pt x="59" y="54"/>
                  </a:lnTo>
                  <a:lnTo>
                    <a:pt x="48" y="65"/>
                  </a:lnTo>
                  <a:lnTo>
                    <a:pt x="13" y="43"/>
                  </a:lnTo>
                  <a:lnTo>
                    <a:pt x="0" y="22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292640" y="3191040"/>
              <a:ext cx="57240" cy="3960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0" y="0"/>
                  </a:moveTo>
                  <a:lnTo>
                    <a:pt x="11" y="24"/>
                  </a:lnTo>
                  <a:lnTo>
                    <a:pt x="24" y="24"/>
                  </a:lnTo>
                  <a:lnTo>
                    <a:pt x="3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300560" y="3198960"/>
              <a:ext cx="57240" cy="41040"/>
            </a:xfrm>
            <a:custGeom>
              <a:avLst/>
              <a:gdLst/>
              <a:ahLst/>
              <a:rect l="l" t="t" r="r" b="b"/>
              <a:pathLst>
                <a:path w="36" h="26">
                  <a:moveTo>
                    <a:pt x="0" y="0"/>
                  </a:moveTo>
                  <a:lnTo>
                    <a:pt x="11" y="25"/>
                  </a:lnTo>
                  <a:lnTo>
                    <a:pt x="25" y="25"/>
                  </a:lnTo>
                  <a:lnTo>
                    <a:pt x="3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83120" y="3191040"/>
              <a:ext cx="57240" cy="3960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0" y="0"/>
                  </a:moveTo>
                  <a:lnTo>
                    <a:pt x="11" y="24"/>
                  </a:lnTo>
                  <a:lnTo>
                    <a:pt x="22" y="24"/>
                  </a:lnTo>
                  <a:lnTo>
                    <a:pt x="3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92840" y="3198960"/>
              <a:ext cx="56880" cy="41040"/>
            </a:xfrm>
            <a:custGeom>
              <a:avLst/>
              <a:gdLst/>
              <a:ahLst/>
              <a:rect l="l" t="t" r="r" b="b"/>
              <a:pathLst>
                <a:path w="36" h="26">
                  <a:moveTo>
                    <a:pt x="0" y="0"/>
                  </a:moveTo>
                  <a:lnTo>
                    <a:pt x="10" y="25"/>
                  </a:lnTo>
                  <a:lnTo>
                    <a:pt x="21" y="25"/>
                  </a:lnTo>
                  <a:lnTo>
                    <a:pt x="3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981600" y="2470320"/>
              <a:ext cx="474480" cy="722160"/>
            </a:xfrm>
            <a:custGeom>
              <a:avLst/>
              <a:gdLst/>
              <a:ahLst/>
              <a:rect l="l" t="t" r="r" b="b"/>
              <a:pathLst>
                <a:path w="299" h="455">
                  <a:moveTo>
                    <a:pt x="35" y="175"/>
                  </a:moveTo>
                  <a:lnTo>
                    <a:pt x="40" y="153"/>
                  </a:lnTo>
                  <a:lnTo>
                    <a:pt x="46" y="135"/>
                  </a:lnTo>
                  <a:lnTo>
                    <a:pt x="51" y="116"/>
                  </a:lnTo>
                  <a:lnTo>
                    <a:pt x="56" y="100"/>
                  </a:lnTo>
                  <a:lnTo>
                    <a:pt x="62" y="84"/>
                  </a:lnTo>
                  <a:lnTo>
                    <a:pt x="67" y="70"/>
                  </a:lnTo>
                  <a:lnTo>
                    <a:pt x="75" y="57"/>
                  </a:lnTo>
                  <a:lnTo>
                    <a:pt x="80" y="46"/>
                  </a:lnTo>
                  <a:lnTo>
                    <a:pt x="89" y="35"/>
                  </a:lnTo>
                  <a:lnTo>
                    <a:pt x="97" y="25"/>
                  </a:lnTo>
                  <a:lnTo>
                    <a:pt x="105" y="19"/>
                  </a:lnTo>
                  <a:lnTo>
                    <a:pt x="113" y="11"/>
                  </a:lnTo>
                  <a:lnTo>
                    <a:pt x="121" y="8"/>
                  </a:lnTo>
                  <a:lnTo>
                    <a:pt x="132" y="3"/>
                  </a:lnTo>
                  <a:lnTo>
                    <a:pt x="140" y="3"/>
                  </a:lnTo>
                  <a:lnTo>
                    <a:pt x="150" y="0"/>
                  </a:lnTo>
                  <a:lnTo>
                    <a:pt x="161" y="3"/>
                  </a:lnTo>
                  <a:lnTo>
                    <a:pt x="169" y="3"/>
                  </a:lnTo>
                  <a:lnTo>
                    <a:pt x="180" y="8"/>
                  </a:lnTo>
                  <a:lnTo>
                    <a:pt x="188" y="14"/>
                  </a:lnTo>
                  <a:lnTo>
                    <a:pt x="196" y="19"/>
                  </a:lnTo>
                  <a:lnTo>
                    <a:pt x="204" y="27"/>
                  </a:lnTo>
                  <a:lnTo>
                    <a:pt x="212" y="35"/>
                  </a:lnTo>
                  <a:lnTo>
                    <a:pt x="220" y="46"/>
                  </a:lnTo>
                  <a:lnTo>
                    <a:pt x="226" y="57"/>
                  </a:lnTo>
                  <a:lnTo>
                    <a:pt x="234" y="70"/>
                  </a:lnTo>
                  <a:lnTo>
                    <a:pt x="239" y="86"/>
                  </a:lnTo>
                  <a:lnTo>
                    <a:pt x="244" y="102"/>
                  </a:lnTo>
                  <a:lnTo>
                    <a:pt x="250" y="118"/>
                  </a:lnTo>
                  <a:lnTo>
                    <a:pt x="255" y="137"/>
                  </a:lnTo>
                  <a:lnTo>
                    <a:pt x="261" y="159"/>
                  </a:lnTo>
                  <a:lnTo>
                    <a:pt x="266" y="180"/>
                  </a:lnTo>
                  <a:lnTo>
                    <a:pt x="274" y="223"/>
                  </a:lnTo>
                  <a:lnTo>
                    <a:pt x="279" y="261"/>
                  </a:lnTo>
                  <a:lnTo>
                    <a:pt x="285" y="293"/>
                  </a:lnTo>
                  <a:lnTo>
                    <a:pt x="290" y="322"/>
                  </a:lnTo>
                  <a:lnTo>
                    <a:pt x="295" y="347"/>
                  </a:lnTo>
                  <a:lnTo>
                    <a:pt x="298" y="368"/>
                  </a:lnTo>
                  <a:lnTo>
                    <a:pt x="298" y="384"/>
                  </a:lnTo>
                  <a:lnTo>
                    <a:pt x="298" y="395"/>
                  </a:lnTo>
                  <a:lnTo>
                    <a:pt x="298" y="414"/>
                  </a:lnTo>
                  <a:lnTo>
                    <a:pt x="295" y="427"/>
                  </a:lnTo>
                  <a:lnTo>
                    <a:pt x="293" y="438"/>
                  </a:lnTo>
                  <a:lnTo>
                    <a:pt x="287" y="443"/>
                  </a:lnTo>
                  <a:lnTo>
                    <a:pt x="282" y="446"/>
                  </a:lnTo>
                  <a:lnTo>
                    <a:pt x="274" y="449"/>
                  </a:lnTo>
                  <a:lnTo>
                    <a:pt x="263" y="451"/>
                  </a:lnTo>
                  <a:lnTo>
                    <a:pt x="247" y="451"/>
                  </a:lnTo>
                  <a:lnTo>
                    <a:pt x="226" y="454"/>
                  </a:lnTo>
                  <a:lnTo>
                    <a:pt x="204" y="454"/>
                  </a:lnTo>
                  <a:lnTo>
                    <a:pt x="175" y="454"/>
                  </a:lnTo>
                  <a:lnTo>
                    <a:pt x="145" y="454"/>
                  </a:lnTo>
                  <a:lnTo>
                    <a:pt x="113" y="454"/>
                  </a:lnTo>
                  <a:lnTo>
                    <a:pt x="86" y="454"/>
                  </a:lnTo>
                  <a:lnTo>
                    <a:pt x="64" y="454"/>
                  </a:lnTo>
                  <a:lnTo>
                    <a:pt x="43" y="451"/>
                  </a:lnTo>
                  <a:lnTo>
                    <a:pt x="29" y="451"/>
                  </a:lnTo>
                  <a:lnTo>
                    <a:pt x="19" y="449"/>
                  </a:lnTo>
                  <a:lnTo>
                    <a:pt x="11" y="446"/>
                  </a:lnTo>
                  <a:lnTo>
                    <a:pt x="8" y="443"/>
                  </a:lnTo>
                  <a:lnTo>
                    <a:pt x="5" y="438"/>
                  </a:lnTo>
                  <a:lnTo>
                    <a:pt x="3" y="424"/>
                  </a:lnTo>
                  <a:lnTo>
                    <a:pt x="3" y="411"/>
                  </a:lnTo>
                  <a:lnTo>
                    <a:pt x="0" y="390"/>
                  </a:lnTo>
                  <a:lnTo>
                    <a:pt x="3" y="379"/>
                  </a:lnTo>
                  <a:lnTo>
                    <a:pt x="3" y="360"/>
                  </a:lnTo>
                  <a:lnTo>
                    <a:pt x="5" y="339"/>
                  </a:lnTo>
                  <a:lnTo>
                    <a:pt x="11" y="314"/>
                  </a:lnTo>
                  <a:lnTo>
                    <a:pt x="13" y="285"/>
                  </a:lnTo>
                  <a:lnTo>
                    <a:pt x="21" y="253"/>
                  </a:lnTo>
                  <a:lnTo>
                    <a:pt x="27" y="215"/>
                  </a:lnTo>
                  <a:lnTo>
                    <a:pt x="35" y="17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989520" y="2479680"/>
              <a:ext cx="476280" cy="720720"/>
            </a:xfrm>
            <a:custGeom>
              <a:avLst/>
              <a:gdLst/>
              <a:ahLst/>
              <a:rect l="l" t="t" r="r" b="b"/>
              <a:pathLst>
                <a:path w="300" h="454">
                  <a:moveTo>
                    <a:pt x="35" y="174"/>
                  </a:moveTo>
                  <a:lnTo>
                    <a:pt x="41" y="153"/>
                  </a:lnTo>
                  <a:lnTo>
                    <a:pt x="46" y="134"/>
                  </a:lnTo>
                  <a:lnTo>
                    <a:pt x="51" y="115"/>
                  </a:lnTo>
                  <a:lnTo>
                    <a:pt x="57" y="99"/>
                  </a:lnTo>
                  <a:lnTo>
                    <a:pt x="62" y="83"/>
                  </a:lnTo>
                  <a:lnTo>
                    <a:pt x="67" y="70"/>
                  </a:lnTo>
                  <a:lnTo>
                    <a:pt x="75" y="56"/>
                  </a:lnTo>
                  <a:lnTo>
                    <a:pt x="81" y="45"/>
                  </a:lnTo>
                  <a:lnTo>
                    <a:pt x="89" y="35"/>
                  </a:lnTo>
                  <a:lnTo>
                    <a:pt x="97" y="24"/>
                  </a:lnTo>
                  <a:lnTo>
                    <a:pt x="105" y="19"/>
                  </a:lnTo>
                  <a:lnTo>
                    <a:pt x="113" y="10"/>
                  </a:lnTo>
                  <a:lnTo>
                    <a:pt x="121" y="8"/>
                  </a:lnTo>
                  <a:lnTo>
                    <a:pt x="132" y="2"/>
                  </a:lnTo>
                  <a:lnTo>
                    <a:pt x="140" y="2"/>
                  </a:lnTo>
                  <a:lnTo>
                    <a:pt x="151" y="0"/>
                  </a:lnTo>
                  <a:lnTo>
                    <a:pt x="161" y="2"/>
                  </a:lnTo>
                  <a:lnTo>
                    <a:pt x="170" y="2"/>
                  </a:lnTo>
                  <a:lnTo>
                    <a:pt x="180" y="8"/>
                  </a:lnTo>
                  <a:lnTo>
                    <a:pt x="188" y="13"/>
                  </a:lnTo>
                  <a:lnTo>
                    <a:pt x="196" y="19"/>
                  </a:lnTo>
                  <a:lnTo>
                    <a:pt x="204" y="27"/>
                  </a:lnTo>
                  <a:lnTo>
                    <a:pt x="213" y="35"/>
                  </a:lnTo>
                  <a:lnTo>
                    <a:pt x="221" y="45"/>
                  </a:lnTo>
                  <a:lnTo>
                    <a:pt x="226" y="56"/>
                  </a:lnTo>
                  <a:lnTo>
                    <a:pt x="234" y="70"/>
                  </a:lnTo>
                  <a:lnTo>
                    <a:pt x="239" y="86"/>
                  </a:lnTo>
                  <a:lnTo>
                    <a:pt x="245" y="102"/>
                  </a:lnTo>
                  <a:lnTo>
                    <a:pt x="250" y="118"/>
                  </a:lnTo>
                  <a:lnTo>
                    <a:pt x="256" y="137"/>
                  </a:lnTo>
                  <a:lnTo>
                    <a:pt x="261" y="158"/>
                  </a:lnTo>
                  <a:lnTo>
                    <a:pt x="266" y="180"/>
                  </a:lnTo>
                  <a:lnTo>
                    <a:pt x="274" y="223"/>
                  </a:lnTo>
                  <a:lnTo>
                    <a:pt x="280" y="260"/>
                  </a:lnTo>
                  <a:lnTo>
                    <a:pt x="285" y="292"/>
                  </a:lnTo>
                  <a:lnTo>
                    <a:pt x="290" y="322"/>
                  </a:lnTo>
                  <a:lnTo>
                    <a:pt x="296" y="346"/>
                  </a:lnTo>
                  <a:lnTo>
                    <a:pt x="299" y="367"/>
                  </a:lnTo>
                  <a:lnTo>
                    <a:pt x="299" y="384"/>
                  </a:lnTo>
                  <a:lnTo>
                    <a:pt x="299" y="394"/>
                  </a:lnTo>
                  <a:lnTo>
                    <a:pt x="299" y="413"/>
                  </a:lnTo>
                  <a:lnTo>
                    <a:pt x="296" y="427"/>
                  </a:lnTo>
                  <a:lnTo>
                    <a:pt x="293" y="437"/>
                  </a:lnTo>
                  <a:lnTo>
                    <a:pt x="288" y="443"/>
                  </a:lnTo>
                  <a:lnTo>
                    <a:pt x="282" y="445"/>
                  </a:lnTo>
                  <a:lnTo>
                    <a:pt x="274" y="448"/>
                  </a:lnTo>
                  <a:lnTo>
                    <a:pt x="264" y="451"/>
                  </a:lnTo>
                  <a:lnTo>
                    <a:pt x="247" y="451"/>
                  </a:lnTo>
                  <a:lnTo>
                    <a:pt x="226" y="453"/>
                  </a:lnTo>
                  <a:lnTo>
                    <a:pt x="204" y="453"/>
                  </a:lnTo>
                  <a:lnTo>
                    <a:pt x="175" y="453"/>
                  </a:lnTo>
                  <a:lnTo>
                    <a:pt x="145" y="453"/>
                  </a:lnTo>
                  <a:lnTo>
                    <a:pt x="113" y="453"/>
                  </a:lnTo>
                  <a:lnTo>
                    <a:pt x="86" y="453"/>
                  </a:lnTo>
                  <a:lnTo>
                    <a:pt x="65" y="453"/>
                  </a:lnTo>
                  <a:lnTo>
                    <a:pt x="43" y="451"/>
                  </a:lnTo>
                  <a:lnTo>
                    <a:pt x="30" y="451"/>
                  </a:lnTo>
                  <a:lnTo>
                    <a:pt x="19" y="448"/>
                  </a:lnTo>
                  <a:lnTo>
                    <a:pt x="11" y="445"/>
                  </a:lnTo>
                  <a:lnTo>
                    <a:pt x="8" y="443"/>
                  </a:lnTo>
                  <a:lnTo>
                    <a:pt x="6" y="437"/>
                  </a:lnTo>
                  <a:lnTo>
                    <a:pt x="3" y="424"/>
                  </a:lnTo>
                  <a:lnTo>
                    <a:pt x="3" y="410"/>
                  </a:lnTo>
                  <a:lnTo>
                    <a:pt x="0" y="389"/>
                  </a:lnTo>
                  <a:lnTo>
                    <a:pt x="3" y="378"/>
                  </a:lnTo>
                  <a:lnTo>
                    <a:pt x="3" y="359"/>
                  </a:lnTo>
                  <a:lnTo>
                    <a:pt x="6" y="338"/>
                  </a:lnTo>
                  <a:lnTo>
                    <a:pt x="11" y="314"/>
                  </a:lnTo>
                  <a:lnTo>
                    <a:pt x="14" y="284"/>
                  </a:lnTo>
                  <a:lnTo>
                    <a:pt x="22" y="252"/>
                  </a:lnTo>
                  <a:lnTo>
                    <a:pt x="27" y="214"/>
                  </a:lnTo>
                  <a:lnTo>
                    <a:pt x="35" y="1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79880" y="2586240"/>
              <a:ext cx="274680" cy="495360"/>
            </a:xfrm>
            <a:custGeom>
              <a:avLst/>
              <a:gdLst/>
              <a:ahLst/>
              <a:rect l="l" t="t" r="r" b="b"/>
              <a:pathLst>
                <a:path w="173" h="312">
                  <a:moveTo>
                    <a:pt x="56" y="0"/>
                  </a:moveTo>
                  <a:lnTo>
                    <a:pt x="115" y="0"/>
                  </a:lnTo>
                  <a:lnTo>
                    <a:pt x="172" y="279"/>
                  </a:lnTo>
                  <a:lnTo>
                    <a:pt x="172" y="311"/>
                  </a:lnTo>
                  <a:lnTo>
                    <a:pt x="0" y="311"/>
                  </a:lnTo>
                  <a:lnTo>
                    <a:pt x="0" y="279"/>
                  </a:lnTo>
                  <a:lnTo>
                    <a:pt x="5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87800" y="2594160"/>
              <a:ext cx="274680" cy="496800"/>
            </a:xfrm>
            <a:custGeom>
              <a:avLst/>
              <a:gdLst/>
              <a:ahLst/>
              <a:rect l="l" t="t" r="r" b="b"/>
              <a:pathLst>
                <a:path w="173" h="313">
                  <a:moveTo>
                    <a:pt x="56" y="0"/>
                  </a:moveTo>
                  <a:lnTo>
                    <a:pt x="116" y="0"/>
                  </a:lnTo>
                  <a:lnTo>
                    <a:pt x="172" y="279"/>
                  </a:lnTo>
                  <a:lnTo>
                    <a:pt x="172" y="312"/>
                  </a:lnTo>
                  <a:lnTo>
                    <a:pt x="0" y="312"/>
                  </a:lnTo>
                  <a:lnTo>
                    <a:pt x="0" y="279"/>
                  </a:lnTo>
                  <a:lnTo>
                    <a:pt x="5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87880" y="2592360"/>
              <a:ext cx="73080" cy="447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222800" y="2597400"/>
              <a:ext cx="7920" cy="438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986280" y="2603520"/>
              <a:ext cx="257040" cy="444600"/>
            </a:xfrm>
            <a:custGeom>
              <a:avLst/>
              <a:gdLst/>
              <a:ahLst/>
              <a:rect l="l" t="t" r="r" b="b"/>
              <a:pathLst>
                <a:path w="162" h="280">
                  <a:moveTo>
                    <a:pt x="139" y="279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61" y="279"/>
                  </a:lnTo>
                  <a:lnTo>
                    <a:pt x="139" y="27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94200" y="2611440"/>
              <a:ext cx="257400" cy="444600"/>
            </a:xfrm>
            <a:custGeom>
              <a:avLst/>
              <a:gdLst/>
              <a:ahLst/>
              <a:rect l="l" t="t" r="r" b="b"/>
              <a:pathLst>
                <a:path w="162" h="280">
                  <a:moveTo>
                    <a:pt x="140" y="279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61" y="279"/>
                  </a:lnTo>
                  <a:lnTo>
                    <a:pt x="140" y="27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086360" y="3035520"/>
              <a:ext cx="276120" cy="55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986280" y="2637000"/>
              <a:ext cx="95400" cy="102960"/>
            </a:xfrm>
            <a:custGeom>
              <a:avLst/>
              <a:gdLst/>
              <a:ahLst/>
              <a:rect l="l" t="t" r="r" b="b"/>
              <a:pathLst>
                <a:path w="60" h="65">
                  <a:moveTo>
                    <a:pt x="0" y="22"/>
                  </a:moveTo>
                  <a:lnTo>
                    <a:pt x="48" y="0"/>
                  </a:lnTo>
                  <a:lnTo>
                    <a:pt x="59" y="11"/>
                  </a:lnTo>
                  <a:lnTo>
                    <a:pt x="59" y="54"/>
                  </a:lnTo>
                  <a:lnTo>
                    <a:pt x="48" y="64"/>
                  </a:lnTo>
                  <a:lnTo>
                    <a:pt x="13" y="43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994200" y="2644920"/>
              <a:ext cx="9540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0" y="22"/>
                  </a:moveTo>
                  <a:lnTo>
                    <a:pt x="48" y="0"/>
                  </a:lnTo>
                  <a:lnTo>
                    <a:pt x="59" y="11"/>
                  </a:lnTo>
                  <a:lnTo>
                    <a:pt x="59" y="54"/>
                  </a:lnTo>
                  <a:lnTo>
                    <a:pt x="48" y="65"/>
                  </a:lnTo>
                  <a:lnTo>
                    <a:pt x="13" y="43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3848040" y="3257640"/>
            <a:ext cx="28548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54600" y="3257640"/>
            <a:ext cx="27648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052880" y="3257640"/>
            <a:ext cx="32220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197240" y="3257640"/>
            <a:ext cx="27648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295880" y="3257640"/>
            <a:ext cx="27648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751280" y="2840040"/>
            <a:ext cx="141480" cy="19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788240" y="2408400"/>
            <a:ext cx="1063800" cy="108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651800" y="3111480"/>
            <a:ext cx="141120" cy="19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51800" y="2532240"/>
            <a:ext cx="141120" cy="19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7967520" y="2583000"/>
            <a:ext cx="798480" cy="609480"/>
            <a:chOff x="7967520" y="2583000"/>
            <a:chExt cx="798480" cy="609480"/>
          </a:xfrm>
        </p:grpSpPr>
        <p:sp>
          <p:nvSpPr>
            <p:cNvPr id="384" name=""/>
            <p:cNvSpPr/>
            <p:nvPr/>
          </p:nvSpPr>
          <p:spPr>
            <a:xfrm flipV="1">
              <a:off x="7983360" y="2624400"/>
              <a:ext cx="741240" cy="522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967520" y="3095640"/>
              <a:ext cx="90360" cy="96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675280" y="2583000"/>
              <a:ext cx="90720" cy="9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7873560" y="3205080"/>
            <a:ext cx="29484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988400" y="3205080"/>
            <a:ext cx="27648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086680" y="3205080"/>
            <a:ext cx="27648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185320" y="3205080"/>
            <a:ext cx="32220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329680" y="3205080"/>
            <a:ext cx="27648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427960" y="3205080"/>
            <a:ext cx="27648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526240" y="3205080"/>
            <a:ext cx="23076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754680" y="2637000"/>
            <a:ext cx="876600" cy="325440"/>
          </a:xfrm>
          <a:custGeom>
            <a:avLst/>
            <a:gdLst/>
            <a:ahLst/>
            <a:rect l="l" t="t" r="r" b="b"/>
            <a:pathLst>
              <a:path w="552" h="205">
                <a:moveTo>
                  <a:pt x="0" y="204"/>
                </a:moveTo>
                <a:lnTo>
                  <a:pt x="29" y="204"/>
                </a:lnTo>
                <a:lnTo>
                  <a:pt x="59" y="204"/>
                </a:lnTo>
                <a:lnTo>
                  <a:pt x="83" y="204"/>
                </a:lnTo>
                <a:lnTo>
                  <a:pt x="107" y="204"/>
                </a:lnTo>
                <a:lnTo>
                  <a:pt x="129" y="204"/>
                </a:lnTo>
                <a:lnTo>
                  <a:pt x="150" y="204"/>
                </a:lnTo>
                <a:lnTo>
                  <a:pt x="169" y="204"/>
                </a:lnTo>
                <a:lnTo>
                  <a:pt x="185" y="204"/>
                </a:lnTo>
                <a:lnTo>
                  <a:pt x="215" y="201"/>
                </a:lnTo>
                <a:lnTo>
                  <a:pt x="242" y="199"/>
                </a:lnTo>
                <a:lnTo>
                  <a:pt x="263" y="191"/>
                </a:lnTo>
                <a:lnTo>
                  <a:pt x="282" y="183"/>
                </a:lnTo>
                <a:lnTo>
                  <a:pt x="298" y="169"/>
                </a:lnTo>
                <a:lnTo>
                  <a:pt x="311" y="156"/>
                </a:lnTo>
                <a:lnTo>
                  <a:pt x="322" y="137"/>
                </a:lnTo>
                <a:lnTo>
                  <a:pt x="333" y="118"/>
                </a:lnTo>
                <a:lnTo>
                  <a:pt x="341" y="97"/>
                </a:lnTo>
                <a:lnTo>
                  <a:pt x="352" y="75"/>
                </a:lnTo>
                <a:lnTo>
                  <a:pt x="365" y="56"/>
                </a:lnTo>
                <a:lnTo>
                  <a:pt x="379" y="38"/>
                </a:lnTo>
                <a:lnTo>
                  <a:pt x="387" y="27"/>
                </a:lnTo>
                <a:lnTo>
                  <a:pt x="400" y="22"/>
                </a:lnTo>
                <a:lnTo>
                  <a:pt x="416" y="13"/>
                </a:lnTo>
                <a:lnTo>
                  <a:pt x="438" y="8"/>
                </a:lnTo>
                <a:lnTo>
                  <a:pt x="459" y="5"/>
                </a:lnTo>
                <a:lnTo>
                  <a:pt x="486" y="0"/>
                </a:lnTo>
                <a:lnTo>
                  <a:pt x="516" y="0"/>
                </a:lnTo>
                <a:lnTo>
                  <a:pt x="55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876920" y="2930400"/>
            <a:ext cx="73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367240" y="514440"/>
            <a:ext cx="1262160" cy="1201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6621120" y="1111320"/>
            <a:ext cx="4680" cy="6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6613560" y="1170000"/>
            <a:ext cx="9360" cy="6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6548040" y="1341360"/>
            <a:ext cx="2844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6517800" y="1392120"/>
            <a:ext cx="3348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6510240" y="1442880"/>
            <a:ext cx="1296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6391080" y="1536840"/>
            <a:ext cx="50760" cy="3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6343200" y="1571760"/>
            <a:ext cx="55800" cy="3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6338520" y="1604880"/>
            <a:ext cx="1260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6176520" y="1662120"/>
            <a:ext cx="6516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6118200" y="1684440"/>
            <a:ext cx="68400" cy="1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121440" y="1698480"/>
            <a:ext cx="2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5994000" y="17114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5928840" y="1707840"/>
            <a:ext cx="7308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5878440" y="1703160"/>
            <a:ext cx="6048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 flipV="1">
            <a:off x="5751360" y="1665000"/>
            <a:ext cx="2088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5695920" y="1639800"/>
            <a:ext cx="63360" cy="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 flipV="1">
            <a:off x="5656320" y="1615680"/>
            <a:ext cx="4752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5549760" y="1535040"/>
            <a:ext cx="2232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 flipV="1">
            <a:off x="5514840" y="1490400"/>
            <a:ext cx="4464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5481720" y="1450440"/>
            <a:ext cx="38160" cy="4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5421240" y="1341360"/>
            <a:ext cx="792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 flipV="1">
            <a:off x="5400720" y="1285920"/>
            <a:ext cx="2376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387760" y="1238400"/>
            <a:ext cx="14040" cy="5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5370480" y="1111320"/>
            <a:ext cx="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370480" y="1050840"/>
            <a:ext cx="4680" cy="6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5373720" y="1004400"/>
            <a:ext cx="9360" cy="5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5415120" y="880560"/>
            <a:ext cx="7920" cy="1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419800" y="825480"/>
            <a:ext cx="2844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445000" y="782280"/>
            <a:ext cx="3024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5546880" y="688680"/>
            <a:ext cx="1260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5549760" y="652320"/>
            <a:ext cx="55800" cy="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5597640" y="623520"/>
            <a:ext cx="5076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5746680" y="561600"/>
            <a:ext cx="1260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5751360" y="544680"/>
            <a:ext cx="63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5807160" y="531720"/>
            <a:ext cx="6336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977080" y="519120"/>
            <a:ext cx="2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994360" y="517680"/>
            <a:ext cx="7164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058080" y="522360"/>
            <a:ext cx="4752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211800" y="554040"/>
            <a:ext cx="334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237360" y="561960"/>
            <a:ext cx="6336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292800" y="588960"/>
            <a:ext cx="38160" cy="2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416640" y="671400"/>
            <a:ext cx="302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437160" y="689040"/>
            <a:ext cx="4464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731880"/>
            <a:ext cx="2700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562800" y="858960"/>
            <a:ext cx="12600" cy="2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572160" y="880920"/>
            <a:ext cx="23760" cy="6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594480" y="936720"/>
            <a:ext cx="1440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624720" y="108900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6011640" y="836640"/>
            <a:ext cx="561960" cy="317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5391000" y="2425680"/>
            <a:ext cx="1334880" cy="1087560"/>
            <a:chOff x="5391000" y="2425680"/>
            <a:chExt cx="1334880" cy="1087560"/>
          </a:xfrm>
        </p:grpSpPr>
        <p:sp>
          <p:nvSpPr>
            <p:cNvPr id="447" name=""/>
            <p:cNvSpPr/>
            <p:nvPr/>
          </p:nvSpPr>
          <p:spPr>
            <a:xfrm>
              <a:off x="5527440" y="2425680"/>
              <a:ext cx="1062000" cy="108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391000" y="2865600"/>
              <a:ext cx="141120" cy="19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584760" y="2847960"/>
              <a:ext cx="141120" cy="19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5664240" y="2489040"/>
            <a:ext cx="789120" cy="789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861160" y="2506680"/>
            <a:ext cx="55440" cy="60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040440" y="2468520"/>
            <a:ext cx="50760" cy="60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248520" y="2536920"/>
            <a:ext cx="50760" cy="55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384960" y="2690640"/>
            <a:ext cx="50760" cy="590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432480" y="2865600"/>
            <a:ext cx="55800" cy="55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227640" y="3189240"/>
            <a:ext cx="55800" cy="58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346800" y="3052800"/>
            <a:ext cx="55440" cy="55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835600" y="3201840"/>
            <a:ext cx="55440" cy="55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711760" y="3056040"/>
            <a:ext cx="55800" cy="60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707080" y="2643120"/>
            <a:ext cx="55440" cy="55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53040" y="3244680"/>
            <a:ext cx="558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638680" y="2886120"/>
            <a:ext cx="50760" cy="55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580000" y="3265560"/>
            <a:ext cx="28548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686560" y="3265560"/>
            <a:ext cx="23976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746680" y="3265560"/>
            <a:ext cx="27648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844960" y="3265560"/>
            <a:ext cx="22176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883120" y="3265560"/>
            <a:ext cx="27648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974920" y="3265560"/>
            <a:ext cx="26748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064200" y="3265560"/>
            <a:ext cx="23076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111720" y="3265560"/>
            <a:ext cx="27648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210360" y="3265560"/>
            <a:ext cx="36792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16800" y="655560"/>
            <a:ext cx="201600" cy="328680"/>
          </a:xfrm>
          <a:custGeom>
            <a:avLst/>
            <a:gdLst/>
            <a:ahLst/>
            <a:rect l="l" t="t" r="r" b="b"/>
            <a:pathLst>
              <a:path w="127" h="207">
                <a:moveTo>
                  <a:pt x="100" y="206"/>
                </a:moveTo>
                <a:lnTo>
                  <a:pt x="126" y="118"/>
                </a:lnTo>
                <a:lnTo>
                  <a:pt x="89" y="120"/>
                </a:lnTo>
                <a:lnTo>
                  <a:pt x="75" y="85"/>
                </a:lnTo>
                <a:lnTo>
                  <a:pt x="62" y="61"/>
                </a:lnTo>
                <a:lnTo>
                  <a:pt x="46" y="37"/>
                </a:lnTo>
                <a:lnTo>
                  <a:pt x="32" y="16"/>
                </a:lnTo>
                <a:lnTo>
                  <a:pt x="11" y="0"/>
                </a:lnTo>
                <a:lnTo>
                  <a:pt x="0" y="16"/>
                </a:lnTo>
                <a:lnTo>
                  <a:pt x="24" y="37"/>
                </a:lnTo>
                <a:lnTo>
                  <a:pt x="40" y="64"/>
                </a:lnTo>
                <a:lnTo>
                  <a:pt x="57" y="91"/>
                </a:lnTo>
                <a:lnTo>
                  <a:pt x="70" y="123"/>
                </a:lnTo>
                <a:lnTo>
                  <a:pt x="43" y="131"/>
                </a:lnTo>
                <a:lnTo>
                  <a:pt x="100" y="20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616800" y="655560"/>
            <a:ext cx="201600" cy="328680"/>
          </a:xfrm>
          <a:custGeom>
            <a:avLst/>
            <a:gdLst/>
            <a:ahLst/>
            <a:rect l="l" t="t" r="r" b="b"/>
            <a:pathLst>
              <a:path w="127" h="207">
                <a:moveTo>
                  <a:pt x="100" y="206"/>
                </a:moveTo>
                <a:lnTo>
                  <a:pt x="126" y="118"/>
                </a:lnTo>
                <a:lnTo>
                  <a:pt x="89" y="120"/>
                </a:lnTo>
                <a:lnTo>
                  <a:pt x="75" y="85"/>
                </a:lnTo>
                <a:lnTo>
                  <a:pt x="62" y="61"/>
                </a:lnTo>
                <a:lnTo>
                  <a:pt x="46" y="37"/>
                </a:lnTo>
                <a:lnTo>
                  <a:pt x="32" y="16"/>
                </a:lnTo>
                <a:lnTo>
                  <a:pt x="11" y="0"/>
                </a:lnTo>
                <a:lnTo>
                  <a:pt x="0" y="16"/>
                </a:lnTo>
                <a:lnTo>
                  <a:pt x="24" y="37"/>
                </a:lnTo>
                <a:lnTo>
                  <a:pt x="40" y="64"/>
                </a:lnTo>
                <a:lnTo>
                  <a:pt x="57" y="91"/>
                </a:lnTo>
                <a:lnTo>
                  <a:pt x="70" y="123"/>
                </a:lnTo>
                <a:lnTo>
                  <a:pt x="43" y="131"/>
                </a:lnTo>
                <a:lnTo>
                  <a:pt x="100" y="20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651800" y="2822400"/>
            <a:ext cx="141120" cy="19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791480" y="2606760"/>
            <a:ext cx="87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7786800" y="2841120"/>
            <a:ext cx="614160" cy="6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7790040" y="3146040"/>
            <a:ext cx="16344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15480" y="2576520"/>
            <a:ext cx="82440" cy="74520"/>
          </a:xfrm>
          <a:custGeom>
            <a:avLst/>
            <a:gdLst/>
            <a:ahLst/>
            <a:rect l="l" t="t" r="r" b="b"/>
            <a:pathLst>
              <a:path w="52" h="47">
                <a:moveTo>
                  <a:pt x="0" y="0"/>
                </a:moveTo>
                <a:lnTo>
                  <a:pt x="51" y="22"/>
                </a:lnTo>
                <a:lnTo>
                  <a:pt x="0" y="4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115480" y="2576520"/>
            <a:ext cx="82440" cy="74520"/>
          </a:xfrm>
          <a:custGeom>
            <a:avLst/>
            <a:gdLst/>
            <a:ahLst/>
            <a:rect l="l" t="t" r="r" b="b"/>
            <a:pathLst>
              <a:path w="52" h="47">
                <a:moveTo>
                  <a:pt x="0" y="0"/>
                </a:moveTo>
                <a:lnTo>
                  <a:pt x="51" y="22"/>
                </a:lnTo>
                <a:lnTo>
                  <a:pt x="0" y="4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008920" y="2859120"/>
            <a:ext cx="87480" cy="69840"/>
          </a:xfrm>
          <a:custGeom>
            <a:avLst/>
            <a:gdLst/>
            <a:ahLst/>
            <a:rect l="l" t="t" r="r" b="b"/>
            <a:pathLst>
              <a:path w="55" h="44">
                <a:moveTo>
                  <a:pt x="0" y="0"/>
                </a:moveTo>
                <a:lnTo>
                  <a:pt x="54" y="10"/>
                </a:lnTo>
                <a:lnTo>
                  <a:pt x="8" y="4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008920" y="2859120"/>
            <a:ext cx="87480" cy="69840"/>
          </a:xfrm>
          <a:custGeom>
            <a:avLst/>
            <a:gdLst/>
            <a:ahLst/>
            <a:rect l="l" t="t" r="r" b="b"/>
            <a:pathLst>
              <a:path w="55" h="44">
                <a:moveTo>
                  <a:pt x="0" y="0"/>
                </a:moveTo>
                <a:lnTo>
                  <a:pt x="54" y="10"/>
                </a:lnTo>
                <a:lnTo>
                  <a:pt x="8" y="4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824960" y="3170160"/>
            <a:ext cx="91800" cy="69840"/>
          </a:xfrm>
          <a:custGeom>
            <a:avLst/>
            <a:gdLst/>
            <a:ahLst/>
            <a:rect l="l" t="t" r="r" b="b"/>
            <a:pathLst>
              <a:path w="58" h="44">
                <a:moveTo>
                  <a:pt x="0" y="0"/>
                </a:moveTo>
                <a:lnTo>
                  <a:pt x="57" y="0"/>
                </a:lnTo>
                <a:lnTo>
                  <a:pt x="19" y="4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824960" y="3170160"/>
            <a:ext cx="91800" cy="69840"/>
          </a:xfrm>
          <a:custGeom>
            <a:avLst/>
            <a:gdLst/>
            <a:ahLst/>
            <a:rect l="l" t="t" r="r" b="b"/>
            <a:pathLst>
              <a:path w="58" h="44">
                <a:moveTo>
                  <a:pt x="0" y="0"/>
                </a:moveTo>
                <a:lnTo>
                  <a:pt x="57" y="0"/>
                </a:lnTo>
                <a:lnTo>
                  <a:pt x="19" y="4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060880" y="2887560"/>
            <a:ext cx="133560" cy="104760"/>
          </a:xfrm>
          <a:custGeom>
            <a:avLst/>
            <a:gdLst/>
            <a:ahLst/>
            <a:rect l="l" t="t" r="r" b="b"/>
            <a:pathLst>
              <a:path w="84" h="66">
                <a:moveTo>
                  <a:pt x="0" y="0"/>
                </a:moveTo>
                <a:lnTo>
                  <a:pt x="83" y="30"/>
                </a:lnTo>
                <a:lnTo>
                  <a:pt x="0" y="65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060880" y="2887560"/>
            <a:ext cx="133560" cy="104760"/>
          </a:xfrm>
          <a:custGeom>
            <a:avLst/>
            <a:gdLst/>
            <a:ahLst/>
            <a:rect l="l" t="t" r="r" b="b"/>
            <a:pathLst>
              <a:path w="84" h="66">
                <a:moveTo>
                  <a:pt x="0" y="0"/>
                </a:moveTo>
                <a:lnTo>
                  <a:pt x="83" y="30"/>
                </a:lnTo>
                <a:lnTo>
                  <a:pt x="0" y="65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192800" y="2768760"/>
            <a:ext cx="130320" cy="133200"/>
          </a:xfrm>
          <a:custGeom>
            <a:avLst/>
            <a:gdLst/>
            <a:ahLst/>
            <a:rect l="l" t="t" r="r" b="b"/>
            <a:pathLst>
              <a:path w="82" h="84">
                <a:moveTo>
                  <a:pt x="0" y="38"/>
                </a:moveTo>
                <a:lnTo>
                  <a:pt x="81" y="0"/>
                </a:lnTo>
                <a:lnTo>
                  <a:pt x="46" y="83"/>
                </a:lnTo>
                <a:lnTo>
                  <a:pt x="0" y="3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192800" y="2768760"/>
            <a:ext cx="130320" cy="133200"/>
          </a:xfrm>
          <a:custGeom>
            <a:avLst/>
            <a:gdLst/>
            <a:ahLst/>
            <a:rect l="l" t="t" r="r" b="b"/>
            <a:pathLst>
              <a:path w="82" h="84">
                <a:moveTo>
                  <a:pt x="0" y="38"/>
                </a:moveTo>
                <a:lnTo>
                  <a:pt x="81" y="0"/>
                </a:lnTo>
                <a:lnTo>
                  <a:pt x="46" y="83"/>
                </a:lnTo>
                <a:lnTo>
                  <a:pt x="0" y="3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186600" y="2598840"/>
            <a:ext cx="198360" cy="330120"/>
          </a:xfrm>
          <a:custGeom>
            <a:avLst/>
            <a:gdLst/>
            <a:ahLst/>
            <a:rect l="l" t="t" r="r" b="b"/>
            <a:pathLst>
              <a:path w="125" h="208">
                <a:moveTo>
                  <a:pt x="97" y="207"/>
                </a:moveTo>
                <a:lnTo>
                  <a:pt x="124" y="115"/>
                </a:lnTo>
                <a:lnTo>
                  <a:pt x="89" y="118"/>
                </a:lnTo>
                <a:lnTo>
                  <a:pt x="73" y="86"/>
                </a:lnTo>
                <a:lnTo>
                  <a:pt x="59" y="62"/>
                </a:lnTo>
                <a:lnTo>
                  <a:pt x="43" y="37"/>
                </a:lnTo>
                <a:lnTo>
                  <a:pt x="30" y="16"/>
                </a:lnTo>
                <a:lnTo>
                  <a:pt x="8" y="0"/>
                </a:lnTo>
                <a:lnTo>
                  <a:pt x="0" y="16"/>
                </a:lnTo>
                <a:lnTo>
                  <a:pt x="22" y="37"/>
                </a:lnTo>
                <a:lnTo>
                  <a:pt x="38" y="64"/>
                </a:lnTo>
                <a:lnTo>
                  <a:pt x="57" y="91"/>
                </a:lnTo>
                <a:lnTo>
                  <a:pt x="67" y="123"/>
                </a:lnTo>
                <a:lnTo>
                  <a:pt x="41" y="129"/>
                </a:lnTo>
                <a:lnTo>
                  <a:pt x="97" y="20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186600" y="2598840"/>
            <a:ext cx="198360" cy="330120"/>
          </a:xfrm>
          <a:custGeom>
            <a:avLst/>
            <a:gdLst/>
            <a:ahLst/>
            <a:rect l="l" t="t" r="r" b="b"/>
            <a:pathLst>
              <a:path w="125" h="208">
                <a:moveTo>
                  <a:pt x="97" y="207"/>
                </a:moveTo>
                <a:lnTo>
                  <a:pt x="124" y="115"/>
                </a:lnTo>
                <a:lnTo>
                  <a:pt x="89" y="118"/>
                </a:lnTo>
                <a:lnTo>
                  <a:pt x="73" y="86"/>
                </a:lnTo>
                <a:lnTo>
                  <a:pt x="59" y="62"/>
                </a:lnTo>
                <a:lnTo>
                  <a:pt x="43" y="37"/>
                </a:lnTo>
                <a:lnTo>
                  <a:pt x="30" y="16"/>
                </a:lnTo>
                <a:lnTo>
                  <a:pt x="8" y="0"/>
                </a:lnTo>
                <a:lnTo>
                  <a:pt x="0" y="16"/>
                </a:lnTo>
                <a:lnTo>
                  <a:pt x="22" y="37"/>
                </a:lnTo>
                <a:lnTo>
                  <a:pt x="38" y="64"/>
                </a:lnTo>
                <a:lnTo>
                  <a:pt x="57" y="91"/>
                </a:lnTo>
                <a:lnTo>
                  <a:pt x="67" y="123"/>
                </a:lnTo>
                <a:lnTo>
                  <a:pt x="41" y="129"/>
                </a:lnTo>
                <a:lnTo>
                  <a:pt x="97" y="20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900680" y="2684520"/>
            <a:ext cx="444600" cy="291960"/>
          </a:xfrm>
          <a:prstGeom prst="ellipse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881760" y="2608200"/>
            <a:ext cx="596880" cy="368280"/>
          </a:xfrm>
          <a:prstGeom prst="ellipse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 flipV="1">
            <a:off x="4132440" y="2373120"/>
            <a:ext cx="914400" cy="60948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 flipV="1">
            <a:off x="4970520" y="2220840"/>
            <a:ext cx="380880" cy="60984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986280" y="1998720"/>
            <a:ext cx="977760" cy="444600"/>
          </a:xfrm>
          <a:prstGeom prst="ellipse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039560" y="2065320"/>
            <a:ext cx="8845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637cd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6888240" y="2122200"/>
            <a:ext cx="296640" cy="63180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472520" y="2242800"/>
            <a:ext cx="492120" cy="59220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186680" y="1922400"/>
            <a:ext cx="825480" cy="444600"/>
          </a:xfrm>
          <a:prstGeom prst="ellipse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164360" y="1989000"/>
            <a:ext cx="10065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637cd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4"/>
          <a:stretch/>
        </p:blipFill>
        <p:spPr>
          <a:xfrm>
            <a:off x="3995640" y="4149720"/>
            <a:ext cx="4740480" cy="190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2BB6-9019-4932-AFA4-371161A62B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ILAGE (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6308640" cy="472428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3639240" y="5608800"/>
            <a:ext cx="1607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0066"/>
                </a:solidFill>
                <a:latin typeface="Times New Roman"/>
              </a:rPr>
              <a:t>Editing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207840" y="5627520"/>
            <a:ext cx="1989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Times New Roman"/>
              </a:rPr>
              <a:t>Simulation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54560" y="4389480"/>
            <a:ext cx="140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0066"/>
                </a:solidFill>
                <a:latin typeface="Times New Roman"/>
              </a:rPr>
              <a:t>Tool Pa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409760" y="3843360"/>
            <a:ext cx="137160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20680" y="5303880"/>
            <a:ext cx="17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Times New Roman"/>
              </a:rPr>
              <a:t>Dialogue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1486080" y="4834080"/>
            <a:ext cx="1143000" cy="457200"/>
          </a:xfrm>
          <a:prstGeom prst="line">
            <a:avLst/>
          </a:prstGeom>
          <a:ln w="12600">
            <a:solidFill>
              <a:srgbClr val="33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7652-8299-4958-B630-4BDDE921FD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afety Critical Interactive System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439236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fety Critical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ftware Engine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 cente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fety requirements (certific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l spec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ification / 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terfall model / structu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chaic interaction techniq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00720" y="1981080"/>
            <a:ext cx="464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active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ability expe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 center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man fa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sk analysis &amp; mo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erative process / Prototyp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vel Interaction techniqu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468360" y="3213000"/>
            <a:ext cx="8209080" cy="1928880"/>
            <a:chOff x="468360" y="3213000"/>
            <a:chExt cx="8209080" cy="1928880"/>
          </a:xfrm>
        </p:grpSpPr>
        <p:sp>
          <p:nvSpPr>
            <p:cNvPr id="513" name=""/>
            <p:cNvSpPr txBox="1"/>
            <p:nvPr/>
          </p:nvSpPr>
          <p:spPr>
            <a:xfrm>
              <a:off x="468360" y="3213000"/>
              <a:ext cx="3960720" cy="192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Reliability</a:t>
              </a:r>
              <a:endParaRPr b="0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514" name=""/>
            <p:cNvSpPr txBox="1"/>
            <p:nvPr/>
          </p:nvSpPr>
          <p:spPr>
            <a:xfrm>
              <a:off x="4716360" y="3213000"/>
              <a:ext cx="3961080" cy="192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Usability</a:t>
              </a:r>
              <a:endParaRPr b="0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8314-C236-45D9-8E1F-A6B6DA333A0D}" type="slidenum">
              <a:t>13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indefinite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indefinite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/>
                                        <p:tgtEl>
                                          <p:spTgt spid="5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indefinite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indefinite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indefinite"/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indefinite"/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4" dur="indefinite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6" dur="indefinite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4" dur="indefinite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6" dur="indefinite"/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5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8" dur="indefinite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2" dur="indefinite"/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6" dur="indefinite"/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What are we aiming at ?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ind of applications (one application, every kind of applicatio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ind of User Interfaces (basic, comple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ind of users (skills, expertise in the domain, 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readsheets are really good for building a fairly reduced kind of application, basic UI and by a significant amount of us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. Lamport "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tomaton is a formal description technique dedicated to the specification of stacks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4228-4D43-4BE6-ADCA-57F6E58755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 of LIIHS-IRIT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earch them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ftware Engineering for Human-Comput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l description techniques and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sual no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dealing with modeling power than with usability of no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tion doma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ir traffic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litary systems (command &amp; control system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DB4C-723A-41A4-9AE0-A15B105A6A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43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 of LIIHS-IRIT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1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I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 tenured people mainly HCI (CS and human facto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PhD 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IT about 400 people (mainly in C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pro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T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VIS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lysi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ign an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id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teractiv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ety-critica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ror-toleran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stems) 4 years (starting 11/200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SCC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ltimoda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teractiv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stems fo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mand an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trol) 3 years starting 01/20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IDER We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cification an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totyping for use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terfac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ign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gineering an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-engineering for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) started July 2002 (2 year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0197-8FAA-488E-BC4A-BFD7750889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e are what we publish ;-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-Computer Inter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CS HCI, DSVIS, EHCI, HCI Aeronautics, INTERACT, Interacting with Compu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cts Techn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OPSLA, ECOOP, D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al Method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PN (Petri Net conference), FM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sual Langu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. Journal on Visual Languages and Compu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-Based Approach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UI, TAMODIA, IEEE Rapid System Prototyp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 Appl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man Factors and the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F5D9-6508-46EF-AA4E-E91D4B267F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in Results Relevant to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UD-N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tSh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formal notation: 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interactive editor: PetSh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-centered design metho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king tasks, scenarios, system and user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 rationale (not presented he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lage (work with S. Chatty at CEN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notation: Whiz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editor: Whizz'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1495-A72C-455F-A1A4-4C501FA323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9364" t="13441" r="27219" b="12065"/>
          <a:stretch/>
        </p:blipFill>
        <p:spPr>
          <a:xfrm>
            <a:off x="0" y="0"/>
            <a:ext cx="5208480" cy="63244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362320" y="990720"/>
            <a:ext cx="1371600" cy="76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514600" y="152280"/>
            <a:ext cx="6629040" cy="1905120"/>
            <a:chOff x="2514600" y="152280"/>
            <a:chExt cx="6629040" cy="1905120"/>
          </a:xfrm>
        </p:grpSpPr>
        <p:grpSp>
          <p:nvGrpSpPr>
            <p:cNvPr id="165" name=""/>
            <p:cNvGrpSpPr/>
            <p:nvPr/>
          </p:nvGrpSpPr>
          <p:grpSpPr>
            <a:xfrm>
              <a:off x="2522160" y="155880"/>
              <a:ext cx="6612480" cy="1897200"/>
              <a:chOff x="2522160" y="155880"/>
              <a:chExt cx="6612480" cy="189720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2522160" y="155880"/>
                <a:ext cx="2748240" cy="450720"/>
                <a:chOff x="2522160" y="155880"/>
                <a:chExt cx="2748240" cy="4507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2522160" y="155880"/>
                  <a:ext cx="2748240" cy="450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8" name=""/>
                <p:cNvGrpSpPr/>
                <p:nvPr/>
              </p:nvGrpSpPr>
              <p:grpSpPr>
                <a:xfrm>
                  <a:off x="2522160" y="155880"/>
                  <a:ext cx="2747880" cy="450720"/>
                  <a:chOff x="2522160" y="155880"/>
                  <a:chExt cx="2747880" cy="45072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2594880" y="155880"/>
                    <a:ext cx="2601360" cy="450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000000"/>
                        </a:solidFill>
                        <a:latin typeface="Courier New"/>
                        <a:ea typeface="Courier New"/>
                      </a:rPr>
                      <a:t>Widget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2522160" y="155880"/>
                    <a:ext cx="2747880" cy="450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1" name=""/>
              <p:cNvGrpSpPr/>
              <p:nvPr/>
            </p:nvGrpSpPr>
            <p:grpSpPr>
              <a:xfrm>
                <a:off x="5270760" y="155880"/>
                <a:ext cx="1960560" cy="901080"/>
                <a:chOff x="5270760" y="155880"/>
                <a:chExt cx="1960560" cy="9010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270760" y="155880"/>
                  <a:ext cx="1960560" cy="450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3" name=""/>
                <p:cNvGrpSpPr/>
                <p:nvPr/>
              </p:nvGrpSpPr>
              <p:grpSpPr>
                <a:xfrm>
                  <a:off x="5270760" y="155880"/>
                  <a:ext cx="1960200" cy="901080"/>
                  <a:chOff x="5270760" y="155880"/>
                  <a:chExt cx="1960200" cy="90108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>
                    <a:off x="5343480" y="155880"/>
                    <a:ext cx="1813680" cy="901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000000"/>
                        </a:solidFill>
                        <a:latin typeface="Courier New"/>
                        <a:ea typeface="Courier New"/>
                      </a:rPr>
                      <a:t>Event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5270760" y="155880"/>
                    <a:ext cx="1960200" cy="901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6" name=""/>
              <p:cNvGrpSpPr/>
              <p:nvPr/>
            </p:nvGrpSpPr>
            <p:grpSpPr>
              <a:xfrm>
                <a:off x="7231680" y="155880"/>
                <a:ext cx="1902960" cy="901080"/>
                <a:chOff x="7231680" y="155880"/>
                <a:chExt cx="1902960" cy="90108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7231680" y="155880"/>
                  <a:ext cx="1902960" cy="450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8" name=""/>
                <p:cNvGrpSpPr/>
                <p:nvPr/>
              </p:nvGrpSpPr>
              <p:grpSpPr>
                <a:xfrm>
                  <a:off x="7231680" y="155880"/>
                  <a:ext cx="1902600" cy="901080"/>
                  <a:chOff x="7231680" y="155880"/>
                  <a:chExt cx="1902600" cy="90108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7304400" y="155880"/>
                    <a:ext cx="1756800" cy="901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000000"/>
                        </a:solidFill>
                        <a:latin typeface="Courier New"/>
                        <a:ea typeface="Courier New"/>
                      </a:rPr>
                      <a:t>Servic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7231680" y="155880"/>
                    <a:ext cx="1902600" cy="901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1" name=""/>
              <p:cNvGrpSpPr/>
              <p:nvPr/>
            </p:nvGrpSpPr>
            <p:grpSpPr>
              <a:xfrm>
                <a:off x="2522160" y="606600"/>
                <a:ext cx="1599840" cy="450360"/>
                <a:chOff x="2522160" y="606600"/>
                <a:chExt cx="1599840" cy="45036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2522160" y="606600"/>
                  <a:ext cx="1599840" cy="450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"/>
                <p:cNvGrpSpPr/>
                <p:nvPr/>
              </p:nvGrpSpPr>
              <p:grpSpPr>
                <a:xfrm>
                  <a:off x="2522160" y="606600"/>
                  <a:ext cx="1599480" cy="450360"/>
                  <a:chOff x="2522160" y="606600"/>
                  <a:chExt cx="1599480" cy="4503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>
                    <a:off x="2594880" y="606600"/>
                    <a:ext cx="1452960" cy="450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000000"/>
                        </a:solidFill>
                        <a:latin typeface="Courier New"/>
                        <a:ea typeface="Courier New"/>
                      </a:rPr>
                      <a:t>Plac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2522160" y="606600"/>
                    <a:ext cx="1599480" cy="450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6" name=""/>
              <p:cNvGrpSpPr/>
              <p:nvPr/>
            </p:nvGrpSpPr>
            <p:grpSpPr>
              <a:xfrm>
                <a:off x="4122360" y="606600"/>
                <a:ext cx="1147680" cy="450360"/>
                <a:chOff x="4122360" y="606600"/>
                <a:chExt cx="1147680" cy="45036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122360" y="606600"/>
                  <a:ext cx="1147680" cy="450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8" name=""/>
                <p:cNvGrpSpPr/>
                <p:nvPr/>
              </p:nvGrpSpPr>
              <p:grpSpPr>
                <a:xfrm>
                  <a:off x="4122360" y="606600"/>
                  <a:ext cx="1147320" cy="450360"/>
                  <a:chOff x="4122360" y="606600"/>
                  <a:chExt cx="1147320" cy="4503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4195080" y="606600"/>
                    <a:ext cx="1000800" cy="450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000000"/>
                        </a:solidFill>
                        <a:latin typeface="Courier New"/>
                        <a:ea typeface="Courier New"/>
                      </a:rPr>
                      <a:t>Typ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4122360" y="606600"/>
                    <a:ext cx="1147320" cy="450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1" name=""/>
              <p:cNvGrpSpPr/>
              <p:nvPr/>
            </p:nvGrpSpPr>
            <p:grpSpPr>
              <a:xfrm>
                <a:off x="2522160" y="1056960"/>
                <a:ext cx="1599840" cy="450720"/>
                <a:chOff x="2522160" y="1056960"/>
                <a:chExt cx="1599840" cy="4507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2594880" y="1056960"/>
                  <a:ext cx="145332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Plane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522160" y="1056960"/>
                  <a:ext cx="1599840" cy="45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4122360" y="1056960"/>
                <a:ext cx="1147680" cy="450720"/>
                <a:chOff x="4122360" y="1056960"/>
                <a:chExt cx="1147680" cy="45072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195080" y="1056960"/>
                  <a:ext cx="100116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Plan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122360" y="1056960"/>
                  <a:ext cx="1147680" cy="45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5270760" y="1056960"/>
                <a:ext cx="1960560" cy="450720"/>
                <a:chOff x="5270760" y="1056960"/>
                <a:chExt cx="1960560" cy="45072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5343480" y="1056960"/>
                  <a:ext cx="181404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LabeClic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270760" y="1056960"/>
                  <a:ext cx="1960560" cy="45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7231680" y="1056960"/>
                <a:ext cx="1902960" cy="450720"/>
                <a:chOff x="7231680" y="1056960"/>
                <a:chExt cx="1902960" cy="45072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304400" y="1056960"/>
                  <a:ext cx="1757160" cy="450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userAssum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231680" y="1056960"/>
                  <a:ext cx="1902960" cy="45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2522160" y="1507680"/>
                <a:ext cx="1599840" cy="545400"/>
                <a:chOff x="2522160" y="1507680"/>
                <a:chExt cx="1599840" cy="54540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2594880" y="1507680"/>
                  <a:ext cx="145332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AssumedPlane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522160" y="1507680"/>
                  <a:ext cx="1599840" cy="54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4122360" y="1507680"/>
                <a:ext cx="1147680" cy="545400"/>
                <a:chOff x="4122360" y="1507680"/>
                <a:chExt cx="1147680" cy="54540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4195080" y="1507680"/>
                  <a:ext cx="100116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Plan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122360" y="1507680"/>
                  <a:ext cx="1147680" cy="54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5270760" y="1507680"/>
                <a:ext cx="1960560" cy="545400"/>
                <a:chOff x="5270760" y="1507680"/>
                <a:chExt cx="1960560" cy="54540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5343480" y="1507680"/>
                  <a:ext cx="181404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ButtonClic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270760" y="1507680"/>
                  <a:ext cx="1960560" cy="54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7231680" y="1507680"/>
                <a:ext cx="1902960" cy="545400"/>
                <a:chOff x="7231680" y="1507680"/>
                <a:chExt cx="1902960" cy="54540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7304400" y="1507680"/>
                  <a:ext cx="175716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7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userOpenMenu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231680" y="1507680"/>
                  <a:ext cx="1902960" cy="54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5" name=""/>
            <p:cNvSpPr/>
            <p:nvPr/>
          </p:nvSpPr>
          <p:spPr>
            <a:xfrm>
              <a:off x="2514600" y="152280"/>
              <a:ext cx="6629040" cy="19051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121880" y="2133720"/>
            <a:ext cx="18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)Ac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rcRect l="33042" t="28960" r="22169" b="39921"/>
          <a:stretch/>
        </p:blipFill>
        <p:spPr>
          <a:xfrm>
            <a:off x="4267080" y="2514600"/>
            <a:ext cx="3990960" cy="30542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5715000"/>
            <a:ext cx="5105520" cy="762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04920" y="5562720"/>
            <a:ext cx="7238520" cy="1066680"/>
            <a:chOff x="304920" y="5562720"/>
            <a:chExt cx="7238520" cy="1066680"/>
          </a:xfrm>
        </p:grpSpPr>
        <p:grpSp>
          <p:nvGrpSpPr>
            <p:cNvPr id="220" name=""/>
            <p:cNvGrpSpPr/>
            <p:nvPr/>
          </p:nvGrpSpPr>
          <p:grpSpPr>
            <a:xfrm>
              <a:off x="311400" y="5566680"/>
              <a:ext cx="7224120" cy="1058040"/>
              <a:chOff x="311400" y="5566680"/>
              <a:chExt cx="7224120" cy="105804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311400" y="5566680"/>
                <a:ext cx="2513880" cy="529200"/>
                <a:chOff x="311400" y="5566680"/>
                <a:chExt cx="2513880" cy="5292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311400" y="5566680"/>
                  <a:ext cx="2513880" cy="529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311400" y="5566680"/>
                  <a:ext cx="2513520" cy="529200"/>
                  <a:chOff x="311400" y="5566680"/>
                  <a:chExt cx="2513520" cy="52920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72960" y="5566680"/>
                    <a:ext cx="2390040" cy="529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000000"/>
                        </a:solidFill>
                        <a:latin typeface="Courier New"/>
                        <a:ea typeface="Courier New"/>
                      </a:rPr>
                      <a:t>ObCS Element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11400" y="5566680"/>
                    <a:ext cx="2513520" cy="529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6" name=""/>
              <p:cNvGrpSpPr/>
              <p:nvPr/>
            </p:nvGrpSpPr>
            <p:grpSpPr>
              <a:xfrm>
                <a:off x="2825640" y="5566680"/>
                <a:ext cx="2035800" cy="529200"/>
                <a:chOff x="2825640" y="5566680"/>
                <a:chExt cx="2035800" cy="529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2825640" y="5566680"/>
                  <a:ext cx="2035800" cy="529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8" name=""/>
                <p:cNvGrpSpPr/>
                <p:nvPr/>
              </p:nvGrpSpPr>
              <p:grpSpPr>
                <a:xfrm>
                  <a:off x="2825640" y="5566680"/>
                  <a:ext cx="2035440" cy="529200"/>
                  <a:chOff x="2825640" y="5566680"/>
                  <a:chExt cx="2035440" cy="52920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2887560" y="5566680"/>
                    <a:ext cx="1911600" cy="529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000000"/>
                        </a:solidFill>
                        <a:latin typeface="Courier New"/>
                        <a:ea typeface="Courier New"/>
                      </a:rPr>
                      <a:t>Featur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2825640" y="5566680"/>
                    <a:ext cx="2035440" cy="529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1" name=""/>
              <p:cNvGrpSpPr/>
              <p:nvPr/>
            </p:nvGrpSpPr>
            <p:grpSpPr>
              <a:xfrm>
                <a:off x="4862160" y="5566680"/>
                <a:ext cx="2673360" cy="529200"/>
                <a:chOff x="4862160" y="5566680"/>
                <a:chExt cx="2673360" cy="5292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4862160" y="5566680"/>
                  <a:ext cx="2673360" cy="529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3" name=""/>
                <p:cNvGrpSpPr/>
                <p:nvPr/>
              </p:nvGrpSpPr>
              <p:grpSpPr>
                <a:xfrm>
                  <a:off x="4862160" y="5566680"/>
                  <a:ext cx="2673000" cy="529200"/>
                  <a:chOff x="4862160" y="5566680"/>
                  <a:chExt cx="2673000" cy="52920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4924080" y="5566680"/>
                    <a:ext cx="2549160" cy="529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000000"/>
                        </a:solidFill>
                        <a:latin typeface="Courier New"/>
                        <a:ea typeface="Courier New"/>
                      </a:rPr>
                      <a:t>Rendering metho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4862160" y="5566680"/>
                    <a:ext cx="2673000" cy="529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6" name=""/>
              <p:cNvGrpSpPr/>
              <p:nvPr/>
            </p:nvGrpSpPr>
            <p:grpSpPr>
              <a:xfrm>
                <a:off x="311400" y="6095880"/>
                <a:ext cx="2513880" cy="528840"/>
                <a:chOff x="311400" y="6095880"/>
                <a:chExt cx="2513880" cy="52884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372960" y="6095880"/>
                  <a:ext cx="2390400" cy="52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Place</a:t>
                  </a:r>
                  <a:r>
                    <a:rPr b="0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Plane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11400" y="6095880"/>
                  <a:ext cx="2513880" cy="52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825640" y="6095880"/>
                <a:ext cx="2035800" cy="528840"/>
                <a:chOff x="2825640" y="6095880"/>
                <a:chExt cx="2035800" cy="5288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887560" y="6095880"/>
                  <a:ext cx="1911960" cy="52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token &lt;p&gt; entere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825640" y="6095880"/>
                  <a:ext cx="2035800" cy="52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4862160" y="6095880"/>
                <a:ext cx="2673360" cy="528840"/>
                <a:chOff x="4862160" y="6095880"/>
                <a:chExt cx="2673360" cy="5288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4924080" y="6095880"/>
                  <a:ext cx="2549520" cy="52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p.show(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862160" y="6095880"/>
                  <a:ext cx="2673360" cy="52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5" name=""/>
            <p:cNvSpPr/>
            <p:nvPr/>
          </p:nvSpPr>
          <p:spPr>
            <a:xfrm>
              <a:off x="304920" y="5562720"/>
              <a:ext cx="7238520" cy="10666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7258320" y="587700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4)Ren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23960" y="243828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2)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6171840" y="5943240"/>
            <a:ext cx="1143000" cy="228600"/>
          </a:xfrm>
          <a:prstGeom prst="line">
            <a:avLst/>
          </a:prstGeom>
          <a:ln w="38160">
            <a:solidFill>
              <a:srgbClr val="cc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7543440" y="1980720"/>
            <a:ext cx="1143000" cy="228600"/>
          </a:xfrm>
          <a:prstGeom prst="line">
            <a:avLst/>
          </a:prstGeom>
          <a:ln w="38160">
            <a:solidFill>
              <a:srgbClr val="cc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2362320"/>
            <a:ext cx="1676520" cy="685800"/>
          </a:xfrm>
          <a:prstGeom prst="line">
            <a:avLst/>
          </a:prstGeom>
          <a:ln w="38160">
            <a:solidFill>
              <a:srgbClr val="cc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83920" y="213372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1)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1219320" y="1981080"/>
            <a:ext cx="761760" cy="533520"/>
          </a:xfrm>
          <a:prstGeom prst="line">
            <a:avLst/>
          </a:prstGeom>
          <a:ln w="38160">
            <a:solidFill>
              <a:srgbClr val="cc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109E-ADDB-4E3C-AE49-D9E09E203BD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etSho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ly interactive tool support for the ICO no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l methods can be usable (and useful beyond n! calcul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ning the Path from Specification to Prototyp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practically not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-Ba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pecification model is embedded and interpreted at run-time WYMIWYR (what you model is what you run) to reduce gaps in interpretation (Norman's mode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“Modes” : no “automation surprise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model is editable and interpretable at any ti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for interactive prototyping of new interaction scenari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9B30-E593-4002-B78E-1ECD3BD5B6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549360"/>
            <a:ext cx="766764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2195640" y="2924280"/>
            <a:ext cx="936360" cy="1441440"/>
          </a:xfrm>
          <a:prstGeom prst="line">
            <a:avLst/>
          </a:prstGeom>
          <a:ln w="38160">
            <a:solidFill>
              <a:srgbClr val="6699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627280" y="3860280"/>
            <a:ext cx="576360" cy="505080"/>
          </a:xfrm>
          <a:prstGeom prst="line">
            <a:avLst/>
          </a:prstGeom>
          <a:ln w="38160">
            <a:solidFill>
              <a:srgbClr val="6699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03640" y="6238800"/>
            <a:ext cx="2089080" cy="142920"/>
          </a:xfrm>
          <a:prstGeom prst="line">
            <a:avLst/>
          </a:prstGeom>
          <a:ln w="38160">
            <a:solidFill>
              <a:srgbClr val="6699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203640" y="4653000"/>
            <a:ext cx="433440" cy="216000"/>
          </a:xfrm>
          <a:prstGeom prst="line">
            <a:avLst/>
          </a:prstGeom>
          <a:ln w="38160">
            <a:solidFill>
              <a:srgbClr val="6699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203640" y="2662200"/>
            <a:ext cx="5761080" cy="3862440"/>
            <a:chOff x="3203640" y="2662200"/>
            <a:chExt cx="5761080" cy="3862440"/>
          </a:xfrm>
        </p:grpSpPr>
        <p:sp>
          <p:nvSpPr>
            <p:cNvPr id="261" name=""/>
            <p:cNvSpPr/>
            <p:nvPr/>
          </p:nvSpPr>
          <p:spPr>
            <a:xfrm>
              <a:off x="3203640" y="2662200"/>
              <a:ext cx="1512720" cy="479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76720" y="2781360"/>
              <a:ext cx="1422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995640" y="3141720"/>
              <a:ext cx="266760" cy="425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45040" y="4762440"/>
              <a:ext cx="208080" cy="382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56160" y="3970440"/>
              <a:ext cx="166680" cy="357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348000" y="3552840"/>
              <a:ext cx="1474920" cy="4381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19640" y="3645000"/>
              <a:ext cx="1296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Specif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635280" y="4346640"/>
              <a:ext cx="1557360" cy="595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08360" y="4367160"/>
              <a:ext cx="14176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rchitecture desig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27640" y="5133960"/>
              <a:ext cx="1353960" cy="6001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27640" y="5162400"/>
              <a:ext cx="1439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Detailed desig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48440" y="5135400"/>
              <a:ext cx="1160280" cy="669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27640" y="5229360"/>
              <a:ext cx="7797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Unitary te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40640" y="4348080"/>
              <a:ext cx="1792080" cy="593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804000" y="4365720"/>
              <a:ext cx="1584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Implementation and te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80360" y="2762280"/>
              <a:ext cx="1584360" cy="436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524720" y="2878200"/>
              <a:ext cx="133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inten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338960" y="3556080"/>
              <a:ext cx="1265400" cy="4381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77200" y="3676680"/>
              <a:ext cx="1127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Valid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92720" y="6165720"/>
              <a:ext cx="1366920" cy="3589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80000" y="6165720"/>
              <a:ext cx="711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Co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64000" y="5734080"/>
              <a:ext cx="287640" cy="431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084720" y="5805360"/>
              <a:ext cx="287640" cy="341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804000" y="4941720"/>
              <a:ext cx="216000" cy="185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7396200" y="3990600"/>
              <a:ext cx="260280" cy="351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7999560" y="3206880"/>
              <a:ext cx="250560" cy="342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4858920" y="3789360"/>
              <a:ext cx="25210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5219640" y="4653000"/>
              <a:ext cx="1511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78560" y="260280"/>
            <a:ext cx="3098160" cy="3359160"/>
            <a:chOff x="178560" y="260280"/>
            <a:chExt cx="3098160" cy="3359160"/>
          </a:xfrm>
        </p:grpSpPr>
        <p:sp>
          <p:nvSpPr>
            <p:cNvPr id="290" name=""/>
            <p:cNvSpPr/>
            <p:nvPr/>
          </p:nvSpPr>
          <p:spPr>
            <a:xfrm>
              <a:off x="179280" y="260280"/>
              <a:ext cx="1656000" cy="771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79280" y="260280"/>
              <a:ext cx="16192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Preliminary nee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79280" y="1700280"/>
              <a:ext cx="987480" cy="4651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8560" y="1773360"/>
              <a:ext cx="96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ototyp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436760" y="1413000"/>
              <a:ext cx="1839960" cy="8334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476360" y="1557360"/>
              <a:ext cx="180036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User's 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58920" y="2565360"/>
              <a:ext cx="1297080" cy="1054080"/>
            </a:xfrm>
            <a:custGeom>
              <a:avLst/>
              <a:gdLst/>
              <a:ahLst/>
              <a:rect l="l" t="t" r="r" b="b"/>
              <a:pathLst>
                <a:path w="764" h="767">
                  <a:moveTo>
                    <a:pt x="380" y="0"/>
                  </a:moveTo>
                  <a:lnTo>
                    <a:pt x="764" y="385"/>
                  </a:lnTo>
                  <a:lnTo>
                    <a:pt x="384" y="767"/>
                  </a:lnTo>
                  <a:lnTo>
                    <a:pt x="0" y="381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58920" y="2492280"/>
              <a:ext cx="322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88920" y="2836800"/>
              <a:ext cx="17460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39640" y="3068640"/>
              <a:ext cx="719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709640" y="2970360"/>
              <a:ext cx="59544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76000" y="2944800"/>
              <a:ext cx="1061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adequate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19200" y="2836800"/>
              <a:ext cx="1461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339640" y="249228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908000" y="2276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26920" y="105264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87280" y="191628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539640" y="22046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556000" y="2349360"/>
            <a:ext cx="2374920" cy="719280"/>
            <a:chOff x="2556000" y="2349360"/>
            <a:chExt cx="2374920" cy="719280"/>
          </a:xfrm>
        </p:grpSpPr>
        <p:sp>
          <p:nvSpPr>
            <p:cNvPr id="309" name=""/>
            <p:cNvSpPr/>
            <p:nvPr/>
          </p:nvSpPr>
          <p:spPr>
            <a:xfrm flipV="1">
              <a:off x="2556000" y="2565360"/>
              <a:ext cx="647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03640" y="2349360"/>
              <a:ext cx="1727280" cy="43200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Require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556000" y="3068640"/>
            <a:ext cx="2303280" cy="792000"/>
            <a:chOff x="2556000" y="3068640"/>
            <a:chExt cx="2303280" cy="792000"/>
          </a:xfrm>
        </p:grpSpPr>
        <p:sp>
          <p:nvSpPr>
            <p:cNvPr id="312" name=""/>
            <p:cNvSpPr/>
            <p:nvPr/>
          </p:nvSpPr>
          <p:spPr>
            <a:xfrm>
              <a:off x="3132000" y="3429000"/>
              <a:ext cx="1727280" cy="43164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nal Syst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56000" y="3068640"/>
              <a:ext cx="57600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539640" y="1773360"/>
            <a:ext cx="2806920" cy="4464000"/>
            <a:chOff x="539640" y="1773360"/>
            <a:chExt cx="2806920" cy="4464000"/>
          </a:xfrm>
        </p:grpSpPr>
        <p:grpSp>
          <p:nvGrpSpPr>
            <p:cNvPr id="315" name=""/>
            <p:cNvGrpSpPr/>
            <p:nvPr/>
          </p:nvGrpSpPr>
          <p:grpSpPr>
            <a:xfrm>
              <a:off x="539640" y="3573360"/>
              <a:ext cx="2775240" cy="2664000"/>
              <a:chOff x="539640" y="3573360"/>
              <a:chExt cx="2775240" cy="2664000"/>
            </a:xfrm>
          </p:grpSpPr>
          <p:sp>
            <p:nvSpPr>
              <p:cNvPr id="316" name=""/>
              <p:cNvSpPr/>
              <p:nvPr/>
            </p:nvSpPr>
            <p:spPr>
              <a:xfrm>
                <a:off x="1908000" y="3573360"/>
                <a:ext cx="0" cy="792360"/>
              </a:xfrm>
              <a:prstGeom prst="line">
                <a:avLst/>
              </a:prstGeom>
              <a:ln w="90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39640" y="4394160"/>
                <a:ext cx="2670120" cy="1843200"/>
              </a:xfrm>
              <a:prstGeom prst="rect">
                <a:avLst/>
              </a:prstGeom>
              <a:solidFill>
                <a:srgbClr val="ffffff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84360" y="4437000"/>
                <a:ext cx="2376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Requiremen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Formal specificatio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84360" y="5156280"/>
                <a:ext cx="22921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Hi-fidelity prototyp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84360" y="5877000"/>
                <a:ext cx="2630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84360" y="5516640"/>
                <a:ext cx="220644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oftware Architectur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1268280" y="177336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ahoma"/>
                </a:rPr>
                <a:t>&amp; 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 flipV="1">
            <a:off x="3276720" y="5444640"/>
            <a:ext cx="1150920" cy="1800"/>
          </a:xfrm>
          <a:prstGeom prst="line">
            <a:avLst/>
          </a:prstGeom>
          <a:ln w="38160">
            <a:solidFill>
              <a:srgbClr val="6699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76360" y="259920"/>
            <a:ext cx="280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etSho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4F17-4426-412F-B74A-8B486A0ADD48}" type="slidenum">
              <a:t>8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er Centered Design Method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395600">
            <a:off x="3059280" y="3789360"/>
            <a:ext cx="2663640" cy="525600"/>
          </a:xfrm>
          <a:prstGeom prst="leftRightArrow">
            <a:avLst>
              <a:gd name="adj1" fmla="val 50000"/>
              <a:gd name="adj2" fmla="val 10088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03640" y="5157720"/>
            <a:ext cx="2376360" cy="432000"/>
          </a:xfrm>
          <a:prstGeom prst="rightArrow">
            <a:avLst>
              <a:gd name="adj1" fmla="val 50000"/>
              <a:gd name="adj2" fmla="val 137521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50920" y="2638440"/>
            <a:ext cx="2952720" cy="3311280"/>
            <a:chOff x="250920" y="2638440"/>
            <a:chExt cx="2952720" cy="3311280"/>
          </a:xfrm>
        </p:grpSpPr>
        <p:sp>
          <p:nvSpPr>
            <p:cNvPr id="329" name=""/>
            <p:cNvSpPr/>
            <p:nvPr/>
          </p:nvSpPr>
          <p:spPr>
            <a:xfrm>
              <a:off x="468360" y="3207960"/>
              <a:ext cx="2521080" cy="520560"/>
            </a:xfrm>
            <a:prstGeom prst="foldedCorner">
              <a:avLst>
                <a:gd name="adj" fmla="val 12500"/>
              </a:avLst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ahoma"/>
                </a:rPr>
                <a:t>Task mod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68360" y="5146200"/>
              <a:ext cx="2521080" cy="520560"/>
            </a:xfrm>
            <a:prstGeom prst="foldedCorner">
              <a:avLst>
                <a:gd name="adj" fmla="val 12500"/>
              </a:avLst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ahoma"/>
                </a:rPr>
                <a:t>Scenar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5400000">
              <a:off x="1007640" y="4179960"/>
              <a:ext cx="1224000" cy="57600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44000 h 576000"/>
                <a:gd name="textAreaBottom" fmla="*/ 43200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250920" y="2638440"/>
              <a:ext cx="2952720" cy="3311280"/>
              <a:chOff x="250920" y="2638440"/>
              <a:chExt cx="2952720" cy="3311280"/>
            </a:xfrm>
          </p:grpSpPr>
          <p:sp>
            <p:nvSpPr>
              <p:cNvPr id="333" name=""/>
              <p:cNvSpPr/>
              <p:nvPr/>
            </p:nvSpPr>
            <p:spPr>
              <a:xfrm>
                <a:off x="250920" y="2875320"/>
                <a:ext cx="2952720" cy="307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t" anchorCtr="1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16160" y="2638440"/>
                <a:ext cx="8802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CTT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5" name=""/>
          <p:cNvGrpSpPr/>
          <p:nvPr/>
        </p:nvGrpSpPr>
        <p:grpSpPr>
          <a:xfrm>
            <a:off x="4932360" y="1700280"/>
            <a:ext cx="3995640" cy="4322520"/>
            <a:chOff x="4932360" y="1700280"/>
            <a:chExt cx="3995640" cy="4322520"/>
          </a:xfrm>
        </p:grpSpPr>
        <p:sp>
          <p:nvSpPr>
            <p:cNvPr id="336" name=""/>
            <p:cNvSpPr/>
            <p:nvPr/>
          </p:nvSpPr>
          <p:spPr>
            <a:xfrm>
              <a:off x="5724360" y="4641480"/>
              <a:ext cx="2521080" cy="1349280"/>
            </a:xfrm>
            <a:prstGeom prst="foldedCorner">
              <a:avLst>
                <a:gd name="adj" fmla="val 12500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ahoma"/>
                </a:rPr>
                <a:t>Formal Description of the 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51640" y="2494080"/>
              <a:ext cx="649080" cy="2087280"/>
            </a:xfrm>
            <a:custGeom>
              <a:avLst/>
              <a:gdLst>
                <a:gd name="textAreaLeft" fmla="*/ 86760 w 649080"/>
                <a:gd name="textAreaRight" fmla="*/ 562320 w 649080"/>
                <a:gd name="textAreaTop" fmla="*/ 365040 h 2087280"/>
                <a:gd name="textAreaBottom" fmla="*/ 1513440 h 20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793489"/>
                  <a:lnTo>
                    <a:pt x="14804" y="21216"/>
                  </a:lnTo>
                  <a:lnTo>
                    <a:pt x="21600" y="17280"/>
                  </a:lnTo>
                  <a:lnTo>
                    <a:pt x="14804" y="12576"/>
                  </a:lnTo>
                  <a:lnTo>
                    <a:pt x="14804" y="14736"/>
                  </a:lnTo>
                  <a:arcTo wR="21600" hR="7560" stAng="8006511" swAng="2436054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19920" y="2997360"/>
              <a:ext cx="192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ahoma"/>
                </a:rPr>
                <a:t>High-fidelity</a:t>
              </a:r>
              <a:br>
                <a:rPr sz="2400"/>
              </a:br>
              <a:r>
                <a:rPr b="0" lang="fr-FR" sz="2400" spc="-1" strike="noStrike">
                  <a:solidFill>
                    <a:srgbClr val="000000"/>
                  </a:solidFill>
                  <a:latin typeface="Tahoma"/>
                </a:rPr>
                <a:t>prototyp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flipV="1">
              <a:off x="7740000" y="2420280"/>
              <a:ext cx="649080" cy="2087640"/>
            </a:xfrm>
            <a:custGeom>
              <a:avLst/>
              <a:gdLst>
                <a:gd name="textAreaLeft" fmla="*/ 86760 w 649080"/>
                <a:gd name="textAreaRight" fmla="*/ 562320 w 649080"/>
                <a:gd name="textAreaTop" fmla="*/ 365040 h 2087640"/>
                <a:gd name="textAreaBottom" fmla="*/ 1513440 h 20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793489"/>
                  <a:lnTo>
                    <a:pt x="14804" y="21216"/>
                  </a:lnTo>
                  <a:lnTo>
                    <a:pt x="21600" y="17280"/>
                  </a:lnTo>
                  <a:lnTo>
                    <a:pt x="14804" y="12576"/>
                  </a:lnTo>
                  <a:lnTo>
                    <a:pt x="14804" y="14736"/>
                  </a:lnTo>
                  <a:arcTo wR="21600" hR="7560" stAng="8006511" swAng="2436054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4932360" y="1989000"/>
              <a:ext cx="3995640" cy="4033800"/>
              <a:chOff x="4932360" y="1989000"/>
              <a:chExt cx="3995640" cy="4033800"/>
            </a:xfrm>
          </p:grpSpPr>
          <p:sp>
            <p:nvSpPr>
              <p:cNvPr id="341" name=""/>
              <p:cNvSpPr/>
              <p:nvPr/>
            </p:nvSpPr>
            <p:spPr>
              <a:xfrm>
                <a:off x="4932360" y="2277720"/>
                <a:ext cx="3995640" cy="37450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t" anchorCtr="1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145840" y="1989000"/>
                <a:ext cx="1288440" cy="82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ahoma"/>
                  </a:rPr>
                  <a:t>PetSho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343" name=""/>
            <p:cNvGraphicFramePr/>
            <p:nvPr/>
          </p:nvGraphicFramePr>
          <p:xfrm>
            <a:off x="6443640" y="1700280"/>
            <a:ext cx="1143000" cy="960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43640" y="1700280"/>
                      <a:ext cx="1143000" cy="96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5920-AD5B-4035-93F6-54F7097859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09:12:55Z</dcterms:created>
  <dc:creator>Phil</dc:creator>
  <dc:description/>
  <dc:language>en-US</dc:language>
  <cp:lastModifiedBy>Phil</cp:lastModifiedBy>
  <dcterms:modified xsi:type="dcterms:W3CDTF">2002-09-23T16:02:34Z</dcterms:modified>
  <cp:revision>140</cp:revision>
  <dc:subject/>
  <dc:title>Diapositive 1</dc:title>
</cp:coreProperties>
</file>