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91575" cy="69342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781992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40" y="3881880"/>
            <a:ext cx="781992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0200" y="144144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3040" y="388188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80200" y="388188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251784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7240" y="1441440"/>
            <a:ext cx="251784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1440" y="1441440"/>
            <a:ext cx="251784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040" y="3881880"/>
            <a:ext cx="251784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7240" y="3881880"/>
            <a:ext cx="251784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61440" y="3881880"/>
            <a:ext cx="251784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3040" y="1441440"/>
            <a:ext cx="78199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spcAft>
                <a:spcPts val="601"/>
              </a:spcAft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7819920" cy="4672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3816000" cy="4672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80200" y="1441440"/>
            <a:ext cx="3816000" cy="4672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4640" y="154080"/>
            <a:ext cx="793296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spcAft>
                <a:spcPts val="601"/>
              </a:spcAft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441440"/>
            <a:ext cx="3816000" cy="4672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3040" y="388188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3816000" cy="4672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80200" y="144144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80200" y="388188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3040" y="144144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80200" y="1441440"/>
            <a:ext cx="381600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40" y="3881880"/>
            <a:ext cx="7819920" cy="2228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ts val="2200"/>
              </a:lnSpc>
              <a:spcAft>
                <a:spcPts val="601"/>
              </a:spcAft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3040" y="1441440"/>
            <a:ext cx="7819920" cy="467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457200" indent="-228600">
              <a:lnSpc>
                <a:spcPts val="2200"/>
              </a:lnSpc>
              <a:spcAft>
                <a:spcPts val="601"/>
              </a:spcAft>
              <a:buClr>
                <a:srgbClr val="000000"/>
              </a:buClr>
              <a:buSzPct val="140000"/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28600">
              <a:lnSpc>
                <a:spcPts val="2200"/>
              </a:lnSpc>
              <a:spcAft>
                <a:spcPts val="601"/>
              </a:spcAft>
              <a:buClr>
                <a:srgbClr val="000000"/>
              </a:buClr>
              <a:buFont typeface="MITRE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171360">
              <a:lnSpc>
                <a:spcPts val="22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03040">
              <a:lnSpc>
                <a:spcPts val="22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MITRE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04840">
              <a:lnSpc>
                <a:spcPts val="22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04840">
              <a:lnSpc>
                <a:spcPts val="22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04840">
              <a:lnSpc>
                <a:spcPts val="22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154080"/>
            <a:ext cx="7932960" cy="96048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97560" y="6372360"/>
            <a:ext cx="1326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Page </a:t>
            </a:r>
            <a:fld id="{F661BCE2-B5B8-41C2-8867-71D473A316A9}" type="slidenum">
              <a:rPr b="1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 flipV="1">
            <a:off x="2841480" y="658440"/>
            <a:ext cx="762120" cy="1187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 flipH="1" flipV="1">
            <a:off x="5442120" y="671400"/>
            <a:ext cx="698400" cy="11844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flipV="1">
            <a:off x="3900600" y="729720"/>
            <a:ext cx="422280" cy="1054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4611240" y="666360"/>
            <a:ext cx="249480" cy="1117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1768320"/>
            <a:ext cx="8683560" cy="4392720"/>
          </a:xfrm>
          <a:custGeom>
            <a:avLst/>
            <a:gdLst/>
            <a:ahLst/>
            <a:rect l="l" t="t" r="r" b="b"/>
            <a:pathLst>
              <a:path w="15174" h="7439">
                <a:moveTo>
                  <a:pt x="4967" y="102"/>
                </a:moveTo>
                <a:lnTo>
                  <a:pt x="5141" y="87"/>
                </a:lnTo>
                <a:lnTo>
                  <a:pt x="5315" y="72"/>
                </a:lnTo>
                <a:lnTo>
                  <a:pt x="5488" y="59"/>
                </a:lnTo>
                <a:lnTo>
                  <a:pt x="5661" y="47"/>
                </a:lnTo>
                <a:lnTo>
                  <a:pt x="5833" y="36"/>
                </a:lnTo>
                <a:lnTo>
                  <a:pt x="6004" y="28"/>
                </a:lnTo>
                <a:lnTo>
                  <a:pt x="6176" y="20"/>
                </a:lnTo>
                <a:lnTo>
                  <a:pt x="6346" y="14"/>
                </a:lnTo>
                <a:lnTo>
                  <a:pt x="6516" y="9"/>
                </a:lnTo>
                <a:lnTo>
                  <a:pt x="6686" y="4"/>
                </a:lnTo>
                <a:lnTo>
                  <a:pt x="6856" y="2"/>
                </a:lnTo>
                <a:lnTo>
                  <a:pt x="7025" y="0"/>
                </a:lnTo>
                <a:lnTo>
                  <a:pt x="7195" y="0"/>
                </a:lnTo>
                <a:lnTo>
                  <a:pt x="7365" y="1"/>
                </a:lnTo>
                <a:lnTo>
                  <a:pt x="7535" y="3"/>
                </a:lnTo>
                <a:lnTo>
                  <a:pt x="7705" y="6"/>
                </a:lnTo>
                <a:lnTo>
                  <a:pt x="7877" y="10"/>
                </a:lnTo>
                <a:lnTo>
                  <a:pt x="8047" y="15"/>
                </a:lnTo>
                <a:lnTo>
                  <a:pt x="8218" y="21"/>
                </a:lnTo>
                <a:lnTo>
                  <a:pt x="8391" y="27"/>
                </a:lnTo>
                <a:lnTo>
                  <a:pt x="8564" y="35"/>
                </a:lnTo>
                <a:lnTo>
                  <a:pt x="8738" y="43"/>
                </a:lnTo>
                <a:lnTo>
                  <a:pt x="8912" y="54"/>
                </a:lnTo>
                <a:lnTo>
                  <a:pt x="9086" y="63"/>
                </a:lnTo>
                <a:lnTo>
                  <a:pt x="9263" y="74"/>
                </a:lnTo>
                <a:lnTo>
                  <a:pt x="9439" y="87"/>
                </a:lnTo>
                <a:lnTo>
                  <a:pt x="9618" y="99"/>
                </a:lnTo>
                <a:lnTo>
                  <a:pt x="9797" y="112"/>
                </a:lnTo>
                <a:lnTo>
                  <a:pt x="10161" y="140"/>
                </a:lnTo>
                <a:lnTo>
                  <a:pt x="10529" y="171"/>
                </a:lnTo>
                <a:lnTo>
                  <a:pt x="10562" y="179"/>
                </a:lnTo>
                <a:lnTo>
                  <a:pt x="10596" y="190"/>
                </a:lnTo>
                <a:lnTo>
                  <a:pt x="10628" y="202"/>
                </a:lnTo>
                <a:lnTo>
                  <a:pt x="10661" y="217"/>
                </a:lnTo>
                <a:lnTo>
                  <a:pt x="10693" y="233"/>
                </a:lnTo>
                <a:lnTo>
                  <a:pt x="10726" y="253"/>
                </a:lnTo>
                <a:lnTo>
                  <a:pt x="10758" y="273"/>
                </a:lnTo>
                <a:lnTo>
                  <a:pt x="10791" y="296"/>
                </a:lnTo>
                <a:lnTo>
                  <a:pt x="10822" y="321"/>
                </a:lnTo>
                <a:lnTo>
                  <a:pt x="10854" y="348"/>
                </a:lnTo>
                <a:lnTo>
                  <a:pt x="10887" y="378"/>
                </a:lnTo>
                <a:lnTo>
                  <a:pt x="10920" y="410"/>
                </a:lnTo>
                <a:lnTo>
                  <a:pt x="10953" y="442"/>
                </a:lnTo>
                <a:lnTo>
                  <a:pt x="10986" y="478"/>
                </a:lnTo>
                <a:lnTo>
                  <a:pt x="11018" y="516"/>
                </a:lnTo>
                <a:lnTo>
                  <a:pt x="11052" y="556"/>
                </a:lnTo>
                <a:lnTo>
                  <a:pt x="11086" y="599"/>
                </a:lnTo>
                <a:lnTo>
                  <a:pt x="11120" y="643"/>
                </a:lnTo>
                <a:lnTo>
                  <a:pt x="11155" y="690"/>
                </a:lnTo>
                <a:lnTo>
                  <a:pt x="11191" y="739"/>
                </a:lnTo>
                <a:lnTo>
                  <a:pt x="11227" y="790"/>
                </a:lnTo>
                <a:lnTo>
                  <a:pt x="11263" y="843"/>
                </a:lnTo>
                <a:lnTo>
                  <a:pt x="11300" y="900"/>
                </a:lnTo>
                <a:lnTo>
                  <a:pt x="11338" y="957"/>
                </a:lnTo>
                <a:lnTo>
                  <a:pt x="11416" y="1080"/>
                </a:lnTo>
                <a:lnTo>
                  <a:pt x="11497" y="1211"/>
                </a:lnTo>
                <a:lnTo>
                  <a:pt x="11583" y="1352"/>
                </a:lnTo>
                <a:lnTo>
                  <a:pt x="11673" y="1502"/>
                </a:lnTo>
                <a:lnTo>
                  <a:pt x="11728" y="1595"/>
                </a:lnTo>
                <a:lnTo>
                  <a:pt x="11786" y="1688"/>
                </a:lnTo>
                <a:lnTo>
                  <a:pt x="11845" y="1783"/>
                </a:lnTo>
                <a:lnTo>
                  <a:pt x="11907" y="1877"/>
                </a:lnTo>
                <a:lnTo>
                  <a:pt x="12033" y="2069"/>
                </a:lnTo>
                <a:lnTo>
                  <a:pt x="12164" y="2263"/>
                </a:lnTo>
                <a:lnTo>
                  <a:pt x="12299" y="2463"/>
                </a:lnTo>
                <a:lnTo>
                  <a:pt x="12434" y="2666"/>
                </a:lnTo>
                <a:lnTo>
                  <a:pt x="12503" y="2770"/>
                </a:lnTo>
                <a:lnTo>
                  <a:pt x="12572" y="2875"/>
                </a:lnTo>
                <a:lnTo>
                  <a:pt x="12639" y="2980"/>
                </a:lnTo>
                <a:lnTo>
                  <a:pt x="12707" y="3087"/>
                </a:lnTo>
                <a:lnTo>
                  <a:pt x="12793" y="3226"/>
                </a:lnTo>
                <a:lnTo>
                  <a:pt x="12881" y="3367"/>
                </a:lnTo>
                <a:lnTo>
                  <a:pt x="12966" y="3508"/>
                </a:lnTo>
                <a:lnTo>
                  <a:pt x="13052" y="3651"/>
                </a:lnTo>
                <a:lnTo>
                  <a:pt x="13221" y="3937"/>
                </a:lnTo>
                <a:lnTo>
                  <a:pt x="13389" y="4223"/>
                </a:lnTo>
                <a:lnTo>
                  <a:pt x="13557" y="4509"/>
                </a:lnTo>
                <a:lnTo>
                  <a:pt x="13722" y="4793"/>
                </a:lnTo>
                <a:lnTo>
                  <a:pt x="13885" y="5072"/>
                </a:lnTo>
                <a:lnTo>
                  <a:pt x="14047" y="5346"/>
                </a:lnTo>
                <a:lnTo>
                  <a:pt x="14137" y="5499"/>
                </a:lnTo>
                <a:lnTo>
                  <a:pt x="14227" y="5649"/>
                </a:lnTo>
                <a:lnTo>
                  <a:pt x="14313" y="5798"/>
                </a:lnTo>
                <a:lnTo>
                  <a:pt x="14396" y="5945"/>
                </a:lnTo>
                <a:lnTo>
                  <a:pt x="14478" y="6088"/>
                </a:lnTo>
                <a:lnTo>
                  <a:pt x="14556" y="6230"/>
                </a:lnTo>
                <a:lnTo>
                  <a:pt x="14632" y="6367"/>
                </a:lnTo>
                <a:lnTo>
                  <a:pt x="14705" y="6502"/>
                </a:lnTo>
                <a:lnTo>
                  <a:pt x="14776" y="6634"/>
                </a:lnTo>
                <a:lnTo>
                  <a:pt x="14842" y="6761"/>
                </a:lnTo>
                <a:lnTo>
                  <a:pt x="14906" y="6885"/>
                </a:lnTo>
                <a:lnTo>
                  <a:pt x="14966" y="7005"/>
                </a:lnTo>
                <a:lnTo>
                  <a:pt x="15024" y="7120"/>
                </a:lnTo>
                <a:lnTo>
                  <a:pt x="15077" y="7230"/>
                </a:lnTo>
                <a:lnTo>
                  <a:pt x="15127" y="7337"/>
                </a:lnTo>
                <a:lnTo>
                  <a:pt x="15174" y="7439"/>
                </a:lnTo>
                <a:lnTo>
                  <a:pt x="0" y="7433"/>
                </a:lnTo>
                <a:lnTo>
                  <a:pt x="100" y="7238"/>
                </a:lnTo>
                <a:lnTo>
                  <a:pt x="199" y="7043"/>
                </a:lnTo>
                <a:lnTo>
                  <a:pt x="300" y="6848"/>
                </a:lnTo>
                <a:lnTo>
                  <a:pt x="402" y="6655"/>
                </a:lnTo>
                <a:lnTo>
                  <a:pt x="505" y="6462"/>
                </a:lnTo>
                <a:lnTo>
                  <a:pt x="609" y="6271"/>
                </a:lnTo>
                <a:lnTo>
                  <a:pt x="713" y="6080"/>
                </a:lnTo>
                <a:lnTo>
                  <a:pt x="819" y="5889"/>
                </a:lnTo>
                <a:lnTo>
                  <a:pt x="926" y="5699"/>
                </a:lnTo>
                <a:lnTo>
                  <a:pt x="1033" y="5511"/>
                </a:lnTo>
                <a:lnTo>
                  <a:pt x="1141" y="5322"/>
                </a:lnTo>
                <a:lnTo>
                  <a:pt x="1250" y="5134"/>
                </a:lnTo>
                <a:lnTo>
                  <a:pt x="1360" y="4947"/>
                </a:lnTo>
                <a:lnTo>
                  <a:pt x="1470" y="4760"/>
                </a:lnTo>
                <a:lnTo>
                  <a:pt x="1581" y="4574"/>
                </a:lnTo>
                <a:lnTo>
                  <a:pt x="1693" y="4388"/>
                </a:lnTo>
                <a:lnTo>
                  <a:pt x="1806" y="4202"/>
                </a:lnTo>
                <a:lnTo>
                  <a:pt x="1920" y="4018"/>
                </a:lnTo>
                <a:lnTo>
                  <a:pt x="2034" y="3832"/>
                </a:lnTo>
                <a:lnTo>
                  <a:pt x="2148" y="3649"/>
                </a:lnTo>
                <a:lnTo>
                  <a:pt x="2262" y="3464"/>
                </a:lnTo>
                <a:lnTo>
                  <a:pt x="2378" y="3281"/>
                </a:lnTo>
                <a:lnTo>
                  <a:pt x="2494" y="3097"/>
                </a:lnTo>
                <a:lnTo>
                  <a:pt x="2611" y="2915"/>
                </a:lnTo>
                <a:lnTo>
                  <a:pt x="2845" y="2548"/>
                </a:lnTo>
                <a:lnTo>
                  <a:pt x="3081" y="2183"/>
                </a:lnTo>
                <a:lnTo>
                  <a:pt x="3319" y="1818"/>
                </a:lnTo>
                <a:lnTo>
                  <a:pt x="3557" y="1453"/>
                </a:lnTo>
                <a:lnTo>
                  <a:pt x="3607" y="1380"/>
                </a:lnTo>
                <a:lnTo>
                  <a:pt x="3657" y="1308"/>
                </a:lnTo>
                <a:lnTo>
                  <a:pt x="3706" y="1238"/>
                </a:lnTo>
                <a:lnTo>
                  <a:pt x="3755" y="1171"/>
                </a:lnTo>
                <a:lnTo>
                  <a:pt x="3806" y="1106"/>
                </a:lnTo>
                <a:lnTo>
                  <a:pt x="3855" y="1042"/>
                </a:lnTo>
                <a:lnTo>
                  <a:pt x="3904" y="981"/>
                </a:lnTo>
                <a:lnTo>
                  <a:pt x="3953" y="922"/>
                </a:lnTo>
                <a:lnTo>
                  <a:pt x="4003" y="865"/>
                </a:lnTo>
                <a:lnTo>
                  <a:pt x="4051" y="809"/>
                </a:lnTo>
                <a:lnTo>
                  <a:pt x="4099" y="756"/>
                </a:lnTo>
                <a:lnTo>
                  <a:pt x="4147" y="706"/>
                </a:lnTo>
                <a:lnTo>
                  <a:pt x="4194" y="657"/>
                </a:lnTo>
                <a:lnTo>
                  <a:pt x="4242" y="609"/>
                </a:lnTo>
                <a:lnTo>
                  <a:pt x="4289" y="564"/>
                </a:lnTo>
                <a:lnTo>
                  <a:pt x="4335" y="521"/>
                </a:lnTo>
                <a:lnTo>
                  <a:pt x="4380" y="480"/>
                </a:lnTo>
                <a:lnTo>
                  <a:pt x="4425" y="441"/>
                </a:lnTo>
                <a:lnTo>
                  <a:pt x="4470" y="404"/>
                </a:lnTo>
                <a:lnTo>
                  <a:pt x="4513" y="370"/>
                </a:lnTo>
                <a:lnTo>
                  <a:pt x="4557" y="337"/>
                </a:lnTo>
                <a:lnTo>
                  <a:pt x="4599" y="305"/>
                </a:lnTo>
                <a:lnTo>
                  <a:pt x="4640" y="276"/>
                </a:lnTo>
                <a:lnTo>
                  <a:pt x="4681" y="249"/>
                </a:lnTo>
                <a:lnTo>
                  <a:pt x="4720" y="224"/>
                </a:lnTo>
                <a:lnTo>
                  <a:pt x="4759" y="200"/>
                </a:lnTo>
                <a:lnTo>
                  <a:pt x="4796" y="179"/>
                </a:lnTo>
                <a:lnTo>
                  <a:pt x="4833" y="160"/>
                </a:lnTo>
                <a:lnTo>
                  <a:pt x="4867" y="143"/>
                </a:lnTo>
                <a:lnTo>
                  <a:pt x="4901" y="128"/>
                </a:lnTo>
                <a:lnTo>
                  <a:pt x="4935" y="114"/>
                </a:lnTo>
                <a:lnTo>
                  <a:pt x="4967" y="102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2320" y="1517760"/>
            <a:ext cx="219240" cy="461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4480" y="1622520"/>
            <a:ext cx="1229040" cy="4505400"/>
          </a:xfrm>
          <a:custGeom>
            <a:avLst/>
            <a:gdLst/>
            <a:ahLst/>
            <a:rect l="l" t="t" r="r" b="b"/>
            <a:pathLst>
              <a:path w="4831" h="18372">
                <a:moveTo>
                  <a:pt x="4812" y="322"/>
                </a:moveTo>
                <a:lnTo>
                  <a:pt x="4820" y="248"/>
                </a:lnTo>
                <a:lnTo>
                  <a:pt x="4826" y="185"/>
                </a:lnTo>
                <a:lnTo>
                  <a:pt x="4829" y="130"/>
                </a:lnTo>
                <a:lnTo>
                  <a:pt x="4831" y="85"/>
                </a:lnTo>
                <a:lnTo>
                  <a:pt x="4831" y="67"/>
                </a:lnTo>
                <a:lnTo>
                  <a:pt x="4829" y="49"/>
                </a:lnTo>
                <a:lnTo>
                  <a:pt x="4828" y="36"/>
                </a:lnTo>
                <a:lnTo>
                  <a:pt x="4827" y="24"/>
                </a:lnTo>
                <a:lnTo>
                  <a:pt x="4824" y="15"/>
                </a:lnTo>
                <a:lnTo>
                  <a:pt x="4821" y="7"/>
                </a:lnTo>
                <a:lnTo>
                  <a:pt x="4817" y="2"/>
                </a:lnTo>
                <a:lnTo>
                  <a:pt x="4812" y="0"/>
                </a:lnTo>
                <a:lnTo>
                  <a:pt x="4808" y="0"/>
                </a:lnTo>
                <a:lnTo>
                  <a:pt x="4802" y="2"/>
                </a:lnTo>
                <a:lnTo>
                  <a:pt x="4796" y="7"/>
                </a:lnTo>
                <a:lnTo>
                  <a:pt x="4789" y="14"/>
                </a:lnTo>
                <a:lnTo>
                  <a:pt x="4782" y="23"/>
                </a:lnTo>
                <a:lnTo>
                  <a:pt x="4774" y="36"/>
                </a:lnTo>
                <a:lnTo>
                  <a:pt x="4765" y="49"/>
                </a:lnTo>
                <a:lnTo>
                  <a:pt x="4756" y="67"/>
                </a:lnTo>
                <a:lnTo>
                  <a:pt x="4735" y="107"/>
                </a:lnTo>
                <a:lnTo>
                  <a:pt x="4712" y="156"/>
                </a:lnTo>
                <a:lnTo>
                  <a:pt x="4687" y="216"/>
                </a:lnTo>
                <a:lnTo>
                  <a:pt x="4658" y="285"/>
                </a:lnTo>
                <a:lnTo>
                  <a:pt x="4645" y="334"/>
                </a:lnTo>
                <a:lnTo>
                  <a:pt x="4627" y="385"/>
                </a:lnTo>
                <a:lnTo>
                  <a:pt x="4607" y="439"/>
                </a:lnTo>
                <a:lnTo>
                  <a:pt x="4584" y="495"/>
                </a:lnTo>
                <a:lnTo>
                  <a:pt x="4560" y="553"/>
                </a:lnTo>
                <a:lnTo>
                  <a:pt x="4532" y="613"/>
                </a:lnTo>
                <a:lnTo>
                  <a:pt x="4502" y="676"/>
                </a:lnTo>
                <a:lnTo>
                  <a:pt x="4471" y="741"/>
                </a:lnTo>
                <a:lnTo>
                  <a:pt x="4664" y="741"/>
                </a:lnTo>
                <a:lnTo>
                  <a:pt x="4688" y="688"/>
                </a:lnTo>
                <a:lnTo>
                  <a:pt x="4710" y="635"/>
                </a:lnTo>
                <a:lnTo>
                  <a:pt x="4731" y="582"/>
                </a:lnTo>
                <a:lnTo>
                  <a:pt x="4750" y="529"/>
                </a:lnTo>
                <a:lnTo>
                  <a:pt x="4767" y="478"/>
                </a:lnTo>
                <a:lnTo>
                  <a:pt x="4785" y="426"/>
                </a:lnTo>
                <a:lnTo>
                  <a:pt x="4798" y="373"/>
                </a:lnTo>
                <a:lnTo>
                  <a:pt x="4812" y="322"/>
                </a:lnTo>
                <a:close/>
                <a:moveTo>
                  <a:pt x="4341" y="999"/>
                </a:moveTo>
                <a:lnTo>
                  <a:pt x="4288" y="1105"/>
                </a:lnTo>
                <a:lnTo>
                  <a:pt x="4231" y="1214"/>
                </a:lnTo>
                <a:lnTo>
                  <a:pt x="4174" y="1327"/>
                </a:lnTo>
                <a:lnTo>
                  <a:pt x="4115" y="1446"/>
                </a:lnTo>
                <a:lnTo>
                  <a:pt x="4056" y="1567"/>
                </a:lnTo>
                <a:lnTo>
                  <a:pt x="3996" y="1694"/>
                </a:lnTo>
                <a:lnTo>
                  <a:pt x="3936" y="1823"/>
                </a:lnTo>
                <a:lnTo>
                  <a:pt x="3876" y="1957"/>
                </a:lnTo>
                <a:lnTo>
                  <a:pt x="3902" y="1957"/>
                </a:lnTo>
                <a:lnTo>
                  <a:pt x="3927" y="1957"/>
                </a:lnTo>
                <a:lnTo>
                  <a:pt x="3952" y="1957"/>
                </a:lnTo>
                <a:lnTo>
                  <a:pt x="3976" y="1957"/>
                </a:lnTo>
                <a:lnTo>
                  <a:pt x="4002" y="1957"/>
                </a:lnTo>
                <a:lnTo>
                  <a:pt x="4027" y="1957"/>
                </a:lnTo>
                <a:lnTo>
                  <a:pt x="4052" y="1957"/>
                </a:lnTo>
                <a:lnTo>
                  <a:pt x="4076" y="1957"/>
                </a:lnTo>
                <a:lnTo>
                  <a:pt x="4106" y="1887"/>
                </a:lnTo>
                <a:lnTo>
                  <a:pt x="4136" y="1819"/>
                </a:lnTo>
                <a:lnTo>
                  <a:pt x="4166" y="1752"/>
                </a:lnTo>
                <a:lnTo>
                  <a:pt x="4196" y="1687"/>
                </a:lnTo>
                <a:lnTo>
                  <a:pt x="4255" y="1560"/>
                </a:lnTo>
                <a:lnTo>
                  <a:pt x="4315" y="1440"/>
                </a:lnTo>
                <a:lnTo>
                  <a:pt x="4374" y="1324"/>
                </a:lnTo>
                <a:lnTo>
                  <a:pt x="4431" y="1211"/>
                </a:lnTo>
                <a:lnTo>
                  <a:pt x="4487" y="1103"/>
                </a:lnTo>
                <a:lnTo>
                  <a:pt x="4541" y="999"/>
                </a:lnTo>
                <a:lnTo>
                  <a:pt x="4341" y="999"/>
                </a:lnTo>
                <a:close/>
                <a:moveTo>
                  <a:pt x="3725" y="2330"/>
                </a:moveTo>
                <a:lnTo>
                  <a:pt x="3695" y="2410"/>
                </a:lnTo>
                <a:lnTo>
                  <a:pt x="3666" y="2492"/>
                </a:lnTo>
                <a:lnTo>
                  <a:pt x="3638" y="2574"/>
                </a:lnTo>
                <a:lnTo>
                  <a:pt x="3610" y="2658"/>
                </a:lnTo>
                <a:lnTo>
                  <a:pt x="3582" y="2743"/>
                </a:lnTo>
                <a:lnTo>
                  <a:pt x="3557" y="2829"/>
                </a:lnTo>
                <a:lnTo>
                  <a:pt x="3533" y="2917"/>
                </a:lnTo>
                <a:lnTo>
                  <a:pt x="3509" y="3005"/>
                </a:lnTo>
                <a:lnTo>
                  <a:pt x="3496" y="3053"/>
                </a:lnTo>
                <a:lnTo>
                  <a:pt x="3483" y="3103"/>
                </a:lnTo>
                <a:lnTo>
                  <a:pt x="3470" y="3153"/>
                </a:lnTo>
                <a:lnTo>
                  <a:pt x="3456" y="3202"/>
                </a:lnTo>
                <a:lnTo>
                  <a:pt x="3442" y="3253"/>
                </a:lnTo>
                <a:lnTo>
                  <a:pt x="3429" y="3302"/>
                </a:lnTo>
                <a:lnTo>
                  <a:pt x="3415" y="3353"/>
                </a:lnTo>
                <a:lnTo>
                  <a:pt x="3400" y="3403"/>
                </a:lnTo>
                <a:lnTo>
                  <a:pt x="3430" y="3403"/>
                </a:lnTo>
                <a:lnTo>
                  <a:pt x="3460" y="3403"/>
                </a:lnTo>
                <a:lnTo>
                  <a:pt x="3489" y="3403"/>
                </a:lnTo>
                <a:lnTo>
                  <a:pt x="3519" y="3403"/>
                </a:lnTo>
                <a:lnTo>
                  <a:pt x="3549" y="3403"/>
                </a:lnTo>
                <a:lnTo>
                  <a:pt x="3580" y="3403"/>
                </a:lnTo>
                <a:lnTo>
                  <a:pt x="3610" y="3403"/>
                </a:lnTo>
                <a:lnTo>
                  <a:pt x="3640" y="3403"/>
                </a:lnTo>
                <a:lnTo>
                  <a:pt x="3659" y="3332"/>
                </a:lnTo>
                <a:lnTo>
                  <a:pt x="3679" y="3261"/>
                </a:lnTo>
                <a:lnTo>
                  <a:pt x="3697" y="3190"/>
                </a:lnTo>
                <a:lnTo>
                  <a:pt x="3717" y="3120"/>
                </a:lnTo>
                <a:lnTo>
                  <a:pt x="3734" y="3050"/>
                </a:lnTo>
                <a:lnTo>
                  <a:pt x="3752" y="2980"/>
                </a:lnTo>
                <a:lnTo>
                  <a:pt x="3770" y="2911"/>
                </a:lnTo>
                <a:lnTo>
                  <a:pt x="3787" y="2842"/>
                </a:lnTo>
                <a:lnTo>
                  <a:pt x="3804" y="2774"/>
                </a:lnTo>
                <a:lnTo>
                  <a:pt x="3821" y="2706"/>
                </a:lnTo>
                <a:lnTo>
                  <a:pt x="3840" y="2641"/>
                </a:lnTo>
                <a:lnTo>
                  <a:pt x="3858" y="2577"/>
                </a:lnTo>
                <a:lnTo>
                  <a:pt x="3876" y="2514"/>
                </a:lnTo>
                <a:lnTo>
                  <a:pt x="3896" y="2450"/>
                </a:lnTo>
                <a:lnTo>
                  <a:pt x="3915" y="2390"/>
                </a:lnTo>
                <a:lnTo>
                  <a:pt x="3936" y="2330"/>
                </a:lnTo>
                <a:lnTo>
                  <a:pt x="3910" y="2330"/>
                </a:lnTo>
                <a:lnTo>
                  <a:pt x="3883" y="2330"/>
                </a:lnTo>
                <a:lnTo>
                  <a:pt x="3857" y="2330"/>
                </a:lnTo>
                <a:lnTo>
                  <a:pt x="3831" y="2330"/>
                </a:lnTo>
                <a:lnTo>
                  <a:pt x="3804" y="2330"/>
                </a:lnTo>
                <a:lnTo>
                  <a:pt x="3778" y="2330"/>
                </a:lnTo>
                <a:lnTo>
                  <a:pt x="3751" y="2330"/>
                </a:lnTo>
                <a:lnTo>
                  <a:pt x="3725" y="2330"/>
                </a:lnTo>
                <a:close/>
                <a:moveTo>
                  <a:pt x="3255" y="3894"/>
                </a:moveTo>
                <a:lnTo>
                  <a:pt x="3207" y="4050"/>
                </a:lnTo>
                <a:lnTo>
                  <a:pt x="3156" y="4207"/>
                </a:lnTo>
                <a:lnTo>
                  <a:pt x="3106" y="4367"/>
                </a:lnTo>
                <a:lnTo>
                  <a:pt x="3054" y="4529"/>
                </a:lnTo>
                <a:lnTo>
                  <a:pt x="3001" y="4691"/>
                </a:lnTo>
                <a:lnTo>
                  <a:pt x="2949" y="4855"/>
                </a:lnTo>
                <a:lnTo>
                  <a:pt x="2895" y="5020"/>
                </a:lnTo>
                <a:lnTo>
                  <a:pt x="2841" y="5187"/>
                </a:lnTo>
                <a:lnTo>
                  <a:pt x="2873" y="5187"/>
                </a:lnTo>
                <a:lnTo>
                  <a:pt x="2906" y="5187"/>
                </a:lnTo>
                <a:lnTo>
                  <a:pt x="2939" y="5187"/>
                </a:lnTo>
                <a:lnTo>
                  <a:pt x="2973" y="5187"/>
                </a:lnTo>
                <a:lnTo>
                  <a:pt x="3005" y="5187"/>
                </a:lnTo>
                <a:lnTo>
                  <a:pt x="3038" y="5187"/>
                </a:lnTo>
                <a:lnTo>
                  <a:pt x="3072" y="5187"/>
                </a:lnTo>
                <a:lnTo>
                  <a:pt x="3105" y="5187"/>
                </a:lnTo>
                <a:lnTo>
                  <a:pt x="3156" y="5020"/>
                </a:lnTo>
                <a:lnTo>
                  <a:pt x="3207" y="4855"/>
                </a:lnTo>
                <a:lnTo>
                  <a:pt x="3258" y="4691"/>
                </a:lnTo>
                <a:lnTo>
                  <a:pt x="3308" y="4528"/>
                </a:lnTo>
                <a:lnTo>
                  <a:pt x="3357" y="4367"/>
                </a:lnTo>
                <a:lnTo>
                  <a:pt x="3406" y="4207"/>
                </a:lnTo>
                <a:lnTo>
                  <a:pt x="3453" y="4050"/>
                </a:lnTo>
                <a:lnTo>
                  <a:pt x="3500" y="3894"/>
                </a:lnTo>
                <a:lnTo>
                  <a:pt x="3469" y="3894"/>
                </a:lnTo>
                <a:lnTo>
                  <a:pt x="3438" y="3894"/>
                </a:lnTo>
                <a:lnTo>
                  <a:pt x="3408" y="3894"/>
                </a:lnTo>
                <a:lnTo>
                  <a:pt x="3377" y="3894"/>
                </a:lnTo>
                <a:lnTo>
                  <a:pt x="3347" y="3894"/>
                </a:lnTo>
                <a:lnTo>
                  <a:pt x="3316" y="3894"/>
                </a:lnTo>
                <a:lnTo>
                  <a:pt x="3285" y="3894"/>
                </a:lnTo>
                <a:lnTo>
                  <a:pt x="3255" y="3894"/>
                </a:lnTo>
                <a:close/>
                <a:moveTo>
                  <a:pt x="2643" y="5792"/>
                </a:moveTo>
                <a:lnTo>
                  <a:pt x="2577" y="6001"/>
                </a:lnTo>
                <a:lnTo>
                  <a:pt x="2510" y="6212"/>
                </a:lnTo>
                <a:lnTo>
                  <a:pt x="2443" y="6423"/>
                </a:lnTo>
                <a:lnTo>
                  <a:pt x="2378" y="6637"/>
                </a:lnTo>
                <a:lnTo>
                  <a:pt x="2313" y="6850"/>
                </a:lnTo>
                <a:lnTo>
                  <a:pt x="2249" y="7066"/>
                </a:lnTo>
                <a:lnTo>
                  <a:pt x="2187" y="7282"/>
                </a:lnTo>
                <a:lnTo>
                  <a:pt x="2127" y="7499"/>
                </a:lnTo>
                <a:lnTo>
                  <a:pt x="2166" y="7499"/>
                </a:lnTo>
                <a:lnTo>
                  <a:pt x="2205" y="7499"/>
                </a:lnTo>
                <a:lnTo>
                  <a:pt x="2244" y="7499"/>
                </a:lnTo>
                <a:lnTo>
                  <a:pt x="2283" y="7499"/>
                </a:lnTo>
                <a:lnTo>
                  <a:pt x="2321" y="7499"/>
                </a:lnTo>
                <a:lnTo>
                  <a:pt x="2360" y="7499"/>
                </a:lnTo>
                <a:lnTo>
                  <a:pt x="2399" y="7499"/>
                </a:lnTo>
                <a:lnTo>
                  <a:pt x="2438" y="7499"/>
                </a:lnTo>
                <a:lnTo>
                  <a:pt x="2494" y="7282"/>
                </a:lnTo>
                <a:lnTo>
                  <a:pt x="2551" y="7066"/>
                </a:lnTo>
                <a:lnTo>
                  <a:pt x="2611" y="6850"/>
                </a:lnTo>
                <a:lnTo>
                  <a:pt x="2671" y="6636"/>
                </a:lnTo>
                <a:lnTo>
                  <a:pt x="2732" y="6423"/>
                </a:lnTo>
                <a:lnTo>
                  <a:pt x="2794" y="6211"/>
                </a:lnTo>
                <a:lnTo>
                  <a:pt x="2857" y="6001"/>
                </a:lnTo>
                <a:lnTo>
                  <a:pt x="2919" y="5792"/>
                </a:lnTo>
                <a:lnTo>
                  <a:pt x="2884" y="5792"/>
                </a:lnTo>
                <a:lnTo>
                  <a:pt x="2850" y="5792"/>
                </a:lnTo>
                <a:lnTo>
                  <a:pt x="2815" y="5792"/>
                </a:lnTo>
                <a:lnTo>
                  <a:pt x="2781" y="5792"/>
                </a:lnTo>
                <a:lnTo>
                  <a:pt x="2747" y="5792"/>
                </a:lnTo>
                <a:lnTo>
                  <a:pt x="2712" y="5792"/>
                </a:lnTo>
                <a:lnTo>
                  <a:pt x="2678" y="5792"/>
                </a:lnTo>
                <a:lnTo>
                  <a:pt x="2643" y="5792"/>
                </a:lnTo>
                <a:close/>
                <a:moveTo>
                  <a:pt x="1941" y="8220"/>
                </a:moveTo>
                <a:lnTo>
                  <a:pt x="1903" y="8381"/>
                </a:lnTo>
                <a:lnTo>
                  <a:pt x="1865" y="8541"/>
                </a:lnTo>
                <a:lnTo>
                  <a:pt x="1827" y="8700"/>
                </a:lnTo>
                <a:lnTo>
                  <a:pt x="1791" y="8861"/>
                </a:lnTo>
                <a:lnTo>
                  <a:pt x="1755" y="9021"/>
                </a:lnTo>
                <a:lnTo>
                  <a:pt x="1719" y="9181"/>
                </a:lnTo>
                <a:lnTo>
                  <a:pt x="1684" y="9341"/>
                </a:lnTo>
                <a:lnTo>
                  <a:pt x="1650" y="9502"/>
                </a:lnTo>
                <a:lnTo>
                  <a:pt x="1583" y="9821"/>
                </a:lnTo>
                <a:lnTo>
                  <a:pt x="1519" y="10140"/>
                </a:lnTo>
                <a:lnTo>
                  <a:pt x="1457" y="10459"/>
                </a:lnTo>
                <a:lnTo>
                  <a:pt x="1397" y="10776"/>
                </a:lnTo>
                <a:lnTo>
                  <a:pt x="1775" y="10776"/>
                </a:lnTo>
                <a:lnTo>
                  <a:pt x="1828" y="10458"/>
                </a:lnTo>
                <a:lnTo>
                  <a:pt x="1884" y="10139"/>
                </a:lnTo>
                <a:lnTo>
                  <a:pt x="1942" y="9820"/>
                </a:lnTo>
                <a:lnTo>
                  <a:pt x="2001" y="9499"/>
                </a:lnTo>
                <a:lnTo>
                  <a:pt x="2032" y="9340"/>
                </a:lnTo>
                <a:lnTo>
                  <a:pt x="2065" y="9179"/>
                </a:lnTo>
                <a:lnTo>
                  <a:pt x="2097" y="9020"/>
                </a:lnTo>
                <a:lnTo>
                  <a:pt x="2129" y="8859"/>
                </a:lnTo>
                <a:lnTo>
                  <a:pt x="2162" y="8699"/>
                </a:lnTo>
                <a:lnTo>
                  <a:pt x="2197" y="8540"/>
                </a:lnTo>
                <a:lnTo>
                  <a:pt x="2231" y="8380"/>
                </a:lnTo>
                <a:lnTo>
                  <a:pt x="2267" y="8220"/>
                </a:lnTo>
                <a:lnTo>
                  <a:pt x="2225" y="8220"/>
                </a:lnTo>
                <a:lnTo>
                  <a:pt x="2185" y="8220"/>
                </a:lnTo>
                <a:lnTo>
                  <a:pt x="2144" y="8220"/>
                </a:lnTo>
                <a:lnTo>
                  <a:pt x="2104" y="8220"/>
                </a:lnTo>
                <a:lnTo>
                  <a:pt x="2063" y="8220"/>
                </a:lnTo>
                <a:lnTo>
                  <a:pt x="2022" y="8220"/>
                </a:lnTo>
                <a:lnTo>
                  <a:pt x="1982" y="8220"/>
                </a:lnTo>
                <a:lnTo>
                  <a:pt x="1941" y="8220"/>
                </a:lnTo>
                <a:close/>
                <a:moveTo>
                  <a:pt x="1247" y="11612"/>
                </a:moveTo>
                <a:lnTo>
                  <a:pt x="1215" y="11797"/>
                </a:lnTo>
                <a:lnTo>
                  <a:pt x="1182" y="11980"/>
                </a:lnTo>
                <a:lnTo>
                  <a:pt x="1148" y="12162"/>
                </a:lnTo>
                <a:lnTo>
                  <a:pt x="1115" y="12344"/>
                </a:lnTo>
                <a:lnTo>
                  <a:pt x="1047" y="12703"/>
                </a:lnTo>
                <a:lnTo>
                  <a:pt x="978" y="13057"/>
                </a:lnTo>
                <a:lnTo>
                  <a:pt x="839" y="13747"/>
                </a:lnTo>
                <a:lnTo>
                  <a:pt x="704" y="14411"/>
                </a:lnTo>
                <a:lnTo>
                  <a:pt x="640" y="14731"/>
                </a:lnTo>
                <a:lnTo>
                  <a:pt x="576" y="15043"/>
                </a:lnTo>
                <a:lnTo>
                  <a:pt x="517" y="15346"/>
                </a:lnTo>
                <a:lnTo>
                  <a:pt x="460" y="15640"/>
                </a:lnTo>
                <a:lnTo>
                  <a:pt x="434" y="15784"/>
                </a:lnTo>
                <a:lnTo>
                  <a:pt x="408" y="15925"/>
                </a:lnTo>
                <a:lnTo>
                  <a:pt x="384" y="16063"/>
                </a:lnTo>
                <a:lnTo>
                  <a:pt x="361" y="16198"/>
                </a:lnTo>
                <a:lnTo>
                  <a:pt x="338" y="16332"/>
                </a:lnTo>
                <a:lnTo>
                  <a:pt x="317" y="16461"/>
                </a:lnTo>
                <a:lnTo>
                  <a:pt x="297" y="16589"/>
                </a:lnTo>
                <a:lnTo>
                  <a:pt x="280" y="16713"/>
                </a:lnTo>
                <a:lnTo>
                  <a:pt x="242" y="16981"/>
                </a:lnTo>
                <a:lnTo>
                  <a:pt x="206" y="17233"/>
                </a:lnTo>
                <a:lnTo>
                  <a:pt x="170" y="17468"/>
                </a:lnTo>
                <a:lnTo>
                  <a:pt x="134" y="17688"/>
                </a:lnTo>
                <a:lnTo>
                  <a:pt x="117" y="17790"/>
                </a:lnTo>
                <a:lnTo>
                  <a:pt x="100" y="17887"/>
                </a:lnTo>
                <a:lnTo>
                  <a:pt x="84" y="17980"/>
                </a:lnTo>
                <a:lnTo>
                  <a:pt x="67" y="18069"/>
                </a:lnTo>
                <a:lnTo>
                  <a:pt x="49" y="18152"/>
                </a:lnTo>
                <a:lnTo>
                  <a:pt x="33" y="18231"/>
                </a:lnTo>
                <a:lnTo>
                  <a:pt x="16" y="18304"/>
                </a:lnTo>
                <a:lnTo>
                  <a:pt x="0" y="18372"/>
                </a:lnTo>
                <a:lnTo>
                  <a:pt x="450" y="18372"/>
                </a:lnTo>
                <a:lnTo>
                  <a:pt x="468" y="18296"/>
                </a:lnTo>
                <a:lnTo>
                  <a:pt x="487" y="18217"/>
                </a:lnTo>
                <a:lnTo>
                  <a:pt x="505" y="18135"/>
                </a:lnTo>
                <a:lnTo>
                  <a:pt x="524" y="18052"/>
                </a:lnTo>
                <a:lnTo>
                  <a:pt x="541" y="17963"/>
                </a:lnTo>
                <a:lnTo>
                  <a:pt x="559" y="17874"/>
                </a:lnTo>
                <a:lnTo>
                  <a:pt x="576" y="17781"/>
                </a:lnTo>
                <a:lnTo>
                  <a:pt x="594" y="17684"/>
                </a:lnTo>
                <a:lnTo>
                  <a:pt x="628" y="17484"/>
                </a:lnTo>
                <a:lnTo>
                  <a:pt x="661" y="17274"/>
                </a:lnTo>
                <a:lnTo>
                  <a:pt x="696" y="17054"/>
                </a:lnTo>
                <a:lnTo>
                  <a:pt x="729" y="16824"/>
                </a:lnTo>
                <a:lnTo>
                  <a:pt x="749" y="16693"/>
                </a:lnTo>
                <a:lnTo>
                  <a:pt x="768" y="16561"/>
                </a:lnTo>
                <a:lnTo>
                  <a:pt x="790" y="16425"/>
                </a:lnTo>
                <a:lnTo>
                  <a:pt x="813" y="16287"/>
                </a:lnTo>
                <a:lnTo>
                  <a:pt x="861" y="16002"/>
                </a:lnTo>
                <a:lnTo>
                  <a:pt x="913" y="15708"/>
                </a:lnTo>
                <a:lnTo>
                  <a:pt x="968" y="15405"/>
                </a:lnTo>
                <a:lnTo>
                  <a:pt x="1025" y="15094"/>
                </a:lnTo>
                <a:lnTo>
                  <a:pt x="1085" y="14773"/>
                </a:lnTo>
                <a:lnTo>
                  <a:pt x="1146" y="14446"/>
                </a:lnTo>
                <a:lnTo>
                  <a:pt x="1209" y="14112"/>
                </a:lnTo>
                <a:lnTo>
                  <a:pt x="1272" y="13771"/>
                </a:lnTo>
                <a:lnTo>
                  <a:pt x="1337" y="13423"/>
                </a:lnTo>
                <a:lnTo>
                  <a:pt x="1400" y="13071"/>
                </a:lnTo>
                <a:lnTo>
                  <a:pt x="1463" y="12712"/>
                </a:lnTo>
                <a:lnTo>
                  <a:pt x="1525" y="12349"/>
                </a:lnTo>
                <a:lnTo>
                  <a:pt x="1555" y="12167"/>
                </a:lnTo>
                <a:lnTo>
                  <a:pt x="1585" y="11983"/>
                </a:lnTo>
                <a:lnTo>
                  <a:pt x="1613" y="11798"/>
                </a:lnTo>
                <a:lnTo>
                  <a:pt x="1642" y="11612"/>
                </a:lnTo>
                <a:lnTo>
                  <a:pt x="1247" y="116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91240" y="1655640"/>
            <a:ext cx="1257120" cy="4505400"/>
          </a:xfrm>
          <a:custGeom>
            <a:avLst/>
            <a:gdLst/>
            <a:ahLst/>
            <a:rect l="l" t="t" r="r" b="b"/>
            <a:pathLst>
              <a:path w="4943" h="18372">
                <a:moveTo>
                  <a:pt x="21" y="322"/>
                </a:moveTo>
                <a:lnTo>
                  <a:pt x="11" y="248"/>
                </a:lnTo>
                <a:lnTo>
                  <a:pt x="6" y="185"/>
                </a:lnTo>
                <a:lnTo>
                  <a:pt x="1" y="130"/>
                </a:lnTo>
                <a:lnTo>
                  <a:pt x="0" y="85"/>
                </a:lnTo>
                <a:lnTo>
                  <a:pt x="0" y="67"/>
                </a:lnTo>
                <a:lnTo>
                  <a:pt x="0" y="49"/>
                </a:lnTo>
                <a:lnTo>
                  <a:pt x="1" y="36"/>
                </a:lnTo>
                <a:lnTo>
                  <a:pt x="3" y="24"/>
                </a:lnTo>
                <a:lnTo>
                  <a:pt x="6" y="15"/>
                </a:lnTo>
                <a:lnTo>
                  <a:pt x="9" y="7"/>
                </a:lnTo>
                <a:lnTo>
                  <a:pt x="12" y="2"/>
                </a:lnTo>
                <a:lnTo>
                  <a:pt x="17" y="0"/>
                </a:lnTo>
                <a:lnTo>
                  <a:pt x="22" y="0"/>
                </a:lnTo>
                <a:lnTo>
                  <a:pt x="27" y="2"/>
                </a:lnTo>
                <a:lnTo>
                  <a:pt x="34" y="7"/>
                </a:lnTo>
                <a:lnTo>
                  <a:pt x="41" y="14"/>
                </a:lnTo>
                <a:lnTo>
                  <a:pt x="48" y="23"/>
                </a:lnTo>
                <a:lnTo>
                  <a:pt x="56" y="36"/>
                </a:lnTo>
                <a:lnTo>
                  <a:pt x="65" y="49"/>
                </a:lnTo>
                <a:lnTo>
                  <a:pt x="74" y="67"/>
                </a:lnTo>
                <a:lnTo>
                  <a:pt x="95" y="107"/>
                </a:lnTo>
                <a:lnTo>
                  <a:pt x="118" y="156"/>
                </a:lnTo>
                <a:lnTo>
                  <a:pt x="145" y="216"/>
                </a:lnTo>
                <a:lnTo>
                  <a:pt x="173" y="285"/>
                </a:lnTo>
                <a:lnTo>
                  <a:pt x="188" y="334"/>
                </a:lnTo>
                <a:lnTo>
                  <a:pt x="205" y="385"/>
                </a:lnTo>
                <a:lnTo>
                  <a:pt x="226" y="439"/>
                </a:lnTo>
                <a:lnTo>
                  <a:pt x="249" y="495"/>
                </a:lnTo>
                <a:lnTo>
                  <a:pt x="274" y="553"/>
                </a:lnTo>
                <a:lnTo>
                  <a:pt x="302" y="613"/>
                </a:lnTo>
                <a:lnTo>
                  <a:pt x="332" y="676"/>
                </a:lnTo>
                <a:lnTo>
                  <a:pt x="363" y="741"/>
                </a:lnTo>
                <a:lnTo>
                  <a:pt x="170" y="741"/>
                </a:lnTo>
                <a:lnTo>
                  <a:pt x="146" y="688"/>
                </a:lnTo>
                <a:lnTo>
                  <a:pt x="124" y="635"/>
                </a:lnTo>
                <a:lnTo>
                  <a:pt x="103" y="582"/>
                </a:lnTo>
                <a:lnTo>
                  <a:pt x="83" y="529"/>
                </a:lnTo>
                <a:lnTo>
                  <a:pt x="65" y="478"/>
                </a:lnTo>
                <a:lnTo>
                  <a:pt x="48" y="426"/>
                </a:lnTo>
                <a:lnTo>
                  <a:pt x="33" y="373"/>
                </a:lnTo>
                <a:lnTo>
                  <a:pt x="21" y="322"/>
                </a:lnTo>
                <a:close/>
                <a:moveTo>
                  <a:pt x="494" y="999"/>
                </a:moveTo>
                <a:lnTo>
                  <a:pt x="549" y="1105"/>
                </a:lnTo>
                <a:lnTo>
                  <a:pt x="605" y="1214"/>
                </a:lnTo>
                <a:lnTo>
                  <a:pt x="664" y="1327"/>
                </a:lnTo>
                <a:lnTo>
                  <a:pt x="723" y="1446"/>
                </a:lnTo>
                <a:lnTo>
                  <a:pt x="784" y="1567"/>
                </a:lnTo>
                <a:lnTo>
                  <a:pt x="845" y="1694"/>
                </a:lnTo>
                <a:lnTo>
                  <a:pt x="905" y="1823"/>
                </a:lnTo>
                <a:lnTo>
                  <a:pt x="966" y="1957"/>
                </a:lnTo>
                <a:lnTo>
                  <a:pt x="940" y="1957"/>
                </a:lnTo>
                <a:lnTo>
                  <a:pt x="915" y="1957"/>
                </a:lnTo>
                <a:lnTo>
                  <a:pt x="890" y="1957"/>
                </a:lnTo>
                <a:lnTo>
                  <a:pt x="866" y="1957"/>
                </a:lnTo>
                <a:lnTo>
                  <a:pt x="840" y="1957"/>
                </a:lnTo>
                <a:lnTo>
                  <a:pt x="815" y="1957"/>
                </a:lnTo>
                <a:lnTo>
                  <a:pt x="790" y="1957"/>
                </a:lnTo>
                <a:lnTo>
                  <a:pt x="766" y="1957"/>
                </a:lnTo>
                <a:lnTo>
                  <a:pt x="736" y="1887"/>
                </a:lnTo>
                <a:lnTo>
                  <a:pt x="705" y="1819"/>
                </a:lnTo>
                <a:lnTo>
                  <a:pt x="675" y="1752"/>
                </a:lnTo>
                <a:lnTo>
                  <a:pt x="645" y="1687"/>
                </a:lnTo>
                <a:lnTo>
                  <a:pt x="584" y="1560"/>
                </a:lnTo>
                <a:lnTo>
                  <a:pt x="523" y="1440"/>
                </a:lnTo>
                <a:lnTo>
                  <a:pt x="464" y="1324"/>
                </a:lnTo>
                <a:lnTo>
                  <a:pt x="406" y="1211"/>
                </a:lnTo>
                <a:lnTo>
                  <a:pt x="350" y="1103"/>
                </a:lnTo>
                <a:lnTo>
                  <a:pt x="295" y="999"/>
                </a:lnTo>
                <a:lnTo>
                  <a:pt x="494" y="999"/>
                </a:lnTo>
                <a:close/>
                <a:moveTo>
                  <a:pt x="1119" y="2330"/>
                </a:moveTo>
                <a:lnTo>
                  <a:pt x="1149" y="2410"/>
                </a:lnTo>
                <a:lnTo>
                  <a:pt x="1179" y="2492"/>
                </a:lnTo>
                <a:lnTo>
                  <a:pt x="1208" y="2574"/>
                </a:lnTo>
                <a:lnTo>
                  <a:pt x="1236" y="2658"/>
                </a:lnTo>
                <a:lnTo>
                  <a:pt x="1264" y="2743"/>
                </a:lnTo>
                <a:lnTo>
                  <a:pt x="1290" y="2829"/>
                </a:lnTo>
                <a:lnTo>
                  <a:pt x="1316" y="2917"/>
                </a:lnTo>
                <a:lnTo>
                  <a:pt x="1340" y="3005"/>
                </a:lnTo>
                <a:lnTo>
                  <a:pt x="1352" y="3053"/>
                </a:lnTo>
                <a:lnTo>
                  <a:pt x="1366" y="3103"/>
                </a:lnTo>
                <a:lnTo>
                  <a:pt x="1379" y="3153"/>
                </a:lnTo>
                <a:lnTo>
                  <a:pt x="1394" y="3202"/>
                </a:lnTo>
                <a:lnTo>
                  <a:pt x="1408" y="3253"/>
                </a:lnTo>
                <a:lnTo>
                  <a:pt x="1421" y="3302"/>
                </a:lnTo>
                <a:lnTo>
                  <a:pt x="1436" y="3353"/>
                </a:lnTo>
                <a:lnTo>
                  <a:pt x="1451" y="3403"/>
                </a:lnTo>
                <a:lnTo>
                  <a:pt x="1421" y="3403"/>
                </a:lnTo>
                <a:lnTo>
                  <a:pt x="1390" y="3403"/>
                </a:lnTo>
                <a:lnTo>
                  <a:pt x="1361" y="3403"/>
                </a:lnTo>
                <a:lnTo>
                  <a:pt x="1331" y="3403"/>
                </a:lnTo>
                <a:lnTo>
                  <a:pt x="1301" y="3403"/>
                </a:lnTo>
                <a:lnTo>
                  <a:pt x="1271" y="3403"/>
                </a:lnTo>
                <a:lnTo>
                  <a:pt x="1241" y="3403"/>
                </a:lnTo>
                <a:lnTo>
                  <a:pt x="1211" y="3403"/>
                </a:lnTo>
                <a:lnTo>
                  <a:pt x="1191" y="3332"/>
                </a:lnTo>
                <a:lnTo>
                  <a:pt x="1171" y="3261"/>
                </a:lnTo>
                <a:lnTo>
                  <a:pt x="1152" y="3190"/>
                </a:lnTo>
                <a:lnTo>
                  <a:pt x="1133" y="3120"/>
                </a:lnTo>
                <a:lnTo>
                  <a:pt x="1114" y="3050"/>
                </a:lnTo>
                <a:lnTo>
                  <a:pt x="1096" y="2980"/>
                </a:lnTo>
                <a:lnTo>
                  <a:pt x="1078" y="2911"/>
                </a:lnTo>
                <a:lnTo>
                  <a:pt x="1061" y="2842"/>
                </a:lnTo>
                <a:lnTo>
                  <a:pt x="1044" y="2774"/>
                </a:lnTo>
                <a:lnTo>
                  <a:pt x="1025" y="2706"/>
                </a:lnTo>
                <a:lnTo>
                  <a:pt x="1007" y="2641"/>
                </a:lnTo>
                <a:lnTo>
                  <a:pt x="988" y="2577"/>
                </a:lnTo>
                <a:lnTo>
                  <a:pt x="969" y="2514"/>
                </a:lnTo>
                <a:lnTo>
                  <a:pt x="949" y="2450"/>
                </a:lnTo>
                <a:lnTo>
                  <a:pt x="929" y="2390"/>
                </a:lnTo>
                <a:lnTo>
                  <a:pt x="908" y="2330"/>
                </a:lnTo>
                <a:lnTo>
                  <a:pt x="935" y="2330"/>
                </a:lnTo>
                <a:lnTo>
                  <a:pt x="961" y="2330"/>
                </a:lnTo>
                <a:lnTo>
                  <a:pt x="987" y="2330"/>
                </a:lnTo>
                <a:lnTo>
                  <a:pt x="1014" y="2330"/>
                </a:lnTo>
                <a:lnTo>
                  <a:pt x="1040" y="2330"/>
                </a:lnTo>
                <a:lnTo>
                  <a:pt x="1067" y="2330"/>
                </a:lnTo>
                <a:lnTo>
                  <a:pt x="1093" y="2330"/>
                </a:lnTo>
                <a:lnTo>
                  <a:pt x="1119" y="2330"/>
                </a:lnTo>
                <a:close/>
                <a:moveTo>
                  <a:pt x="1599" y="3894"/>
                </a:moveTo>
                <a:lnTo>
                  <a:pt x="1649" y="4050"/>
                </a:lnTo>
                <a:lnTo>
                  <a:pt x="1699" y="4207"/>
                </a:lnTo>
                <a:lnTo>
                  <a:pt x="1751" y="4367"/>
                </a:lnTo>
                <a:lnTo>
                  <a:pt x="1803" y="4529"/>
                </a:lnTo>
                <a:lnTo>
                  <a:pt x="1857" y="4691"/>
                </a:lnTo>
                <a:lnTo>
                  <a:pt x="1911" y="4855"/>
                </a:lnTo>
                <a:lnTo>
                  <a:pt x="1966" y="5020"/>
                </a:lnTo>
                <a:lnTo>
                  <a:pt x="2022" y="5187"/>
                </a:lnTo>
                <a:lnTo>
                  <a:pt x="1989" y="5187"/>
                </a:lnTo>
                <a:lnTo>
                  <a:pt x="1955" y="5187"/>
                </a:lnTo>
                <a:lnTo>
                  <a:pt x="1922" y="5187"/>
                </a:lnTo>
                <a:lnTo>
                  <a:pt x="1890" y="5187"/>
                </a:lnTo>
                <a:lnTo>
                  <a:pt x="1857" y="5187"/>
                </a:lnTo>
                <a:lnTo>
                  <a:pt x="1823" y="5187"/>
                </a:lnTo>
                <a:lnTo>
                  <a:pt x="1790" y="5187"/>
                </a:lnTo>
                <a:lnTo>
                  <a:pt x="1757" y="5187"/>
                </a:lnTo>
                <a:lnTo>
                  <a:pt x="1705" y="5020"/>
                </a:lnTo>
                <a:lnTo>
                  <a:pt x="1652" y="4855"/>
                </a:lnTo>
                <a:lnTo>
                  <a:pt x="1600" y="4691"/>
                </a:lnTo>
                <a:lnTo>
                  <a:pt x="1550" y="4528"/>
                </a:lnTo>
                <a:lnTo>
                  <a:pt x="1499" y="4367"/>
                </a:lnTo>
                <a:lnTo>
                  <a:pt x="1450" y="4207"/>
                </a:lnTo>
                <a:lnTo>
                  <a:pt x="1402" y="4050"/>
                </a:lnTo>
                <a:lnTo>
                  <a:pt x="1355" y="3894"/>
                </a:lnTo>
                <a:lnTo>
                  <a:pt x="1385" y="3894"/>
                </a:lnTo>
                <a:lnTo>
                  <a:pt x="1416" y="3894"/>
                </a:lnTo>
                <a:lnTo>
                  <a:pt x="1447" y="3894"/>
                </a:lnTo>
                <a:lnTo>
                  <a:pt x="1476" y="3894"/>
                </a:lnTo>
                <a:lnTo>
                  <a:pt x="1507" y="3894"/>
                </a:lnTo>
                <a:lnTo>
                  <a:pt x="1537" y="3894"/>
                </a:lnTo>
                <a:lnTo>
                  <a:pt x="1568" y="3894"/>
                </a:lnTo>
                <a:lnTo>
                  <a:pt x="1599" y="3894"/>
                </a:lnTo>
                <a:close/>
                <a:moveTo>
                  <a:pt x="2222" y="5792"/>
                </a:moveTo>
                <a:lnTo>
                  <a:pt x="2291" y="6001"/>
                </a:lnTo>
                <a:lnTo>
                  <a:pt x="2358" y="6212"/>
                </a:lnTo>
                <a:lnTo>
                  <a:pt x="2426" y="6423"/>
                </a:lnTo>
                <a:lnTo>
                  <a:pt x="2493" y="6637"/>
                </a:lnTo>
                <a:lnTo>
                  <a:pt x="2559" y="6850"/>
                </a:lnTo>
                <a:lnTo>
                  <a:pt x="2624" y="7066"/>
                </a:lnTo>
                <a:lnTo>
                  <a:pt x="2688" y="7282"/>
                </a:lnTo>
                <a:lnTo>
                  <a:pt x="2750" y="7499"/>
                </a:lnTo>
                <a:lnTo>
                  <a:pt x="2711" y="7499"/>
                </a:lnTo>
                <a:lnTo>
                  <a:pt x="2672" y="7499"/>
                </a:lnTo>
                <a:lnTo>
                  <a:pt x="2633" y="7499"/>
                </a:lnTo>
                <a:lnTo>
                  <a:pt x="2594" y="7499"/>
                </a:lnTo>
                <a:lnTo>
                  <a:pt x="2555" y="7499"/>
                </a:lnTo>
                <a:lnTo>
                  <a:pt x="2516" y="7499"/>
                </a:lnTo>
                <a:lnTo>
                  <a:pt x="2477" y="7499"/>
                </a:lnTo>
                <a:lnTo>
                  <a:pt x="2439" y="7499"/>
                </a:lnTo>
                <a:lnTo>
                  <a:pt x="2381" y="7282"/>
                </a:lnTo>
                <a:lnTo>
                  <a:pt x="2322" y="7066"/>
                </a:lnTo>
                <a:lnTo>
                  <a:pt x="2262" y="6850"/>
                </a:lnTo>
                <a:lnTo>
                  <a:pt x="2200" y="6636"/>
                </a:lnTo>
                <a:lnTo>
                  <a:pt x="2138" y="6423"/>
                </a:lnTo>
                <a:lnTo>
                  <a:pt x="2075" y="6211"/>
                </a:lnTo>
                <a:lnTo>
                  <a:pt x="2010" y="6001"/>
                </a:lnTo>
                <a:lnTo>
                  <a:pt x="1946" y="5792"/>
                </a:lnTo>
                <a:lnTo>
                  <a:pt x="1981" y="5792"/>
                </a:lnTo>
                <a:lnTo>
                  <a:pt x="2015" y="5792"/>
                </a:lnTo>
                <a:lnTo>
                  <a:pt x="2049" y="5792"/>
                </a:lnTo>
                <a:lnTo>
                  <a:pt x="2084" y="5792"/>
                </a:lnTo>
                <a:lnTo>
                  <a:pt x="2118" y="5792"/>
                </a:lnTo>
                <a:lnTo>
                  <a:pt x="2153" y="5792"/>
                </a:lnTo>
                <a:lnTo>
                  <a:pt x="2187" y="5792"/>
                </a:lnTo>
                <a:lnTo>
                  <a:pt x="2222" y="5792"/>
                </a:lnTo>
                <a:close/>
                <a:moveTo>
                  <a:pt x="2939" y="8220"/>
                </a:moveTo>
                <a:lnTo>
                  <a:pt x="2980" y="8381"/>
                </a:lnTo>
                <a:lnTo>
                  <a:pt x="3017" y="8541"/>
                </a:lnTo>
                <a:lnTo>
                  <a:pt x="3056" y="8700"/>
                </a:lnTo>
                <a:lnTo>
                  <a:pt x="3093" y="8861"/>
                </a:lnTo>
                <a:lnTo>
                  <a:pt x="3167" y="9181"/>
                </a:lnTo>
                <a:lnTo>
                  <a:pt x="3238" y="9502"/>
                </a:lnTo>
                <a:lnTo>
                  <a:pt x="3307" y="9821"/>
                </a:lnTo>
                <a:lnTo>
                  <a:pt x="3372" y="10140"/>
                </a:lnTo>
                <a:lnTo>
                  <a:pt x="3437" y="10459"/>
                </a:lnTo>
                <a:lnTo>
                  <a:pt x="3499" y="10776"/>
                </a:lnTo>
                <a:lnTo>
                  <a:pt x="3121" y="10776"/>
                </a:lnTo>
                <a:lnTo>
                  <a:pt x="3066" y="10458"/>
                </a:lnTo>
                <a:lnTo>
                  <a:pt x="3008" y="10139"/>
                </a:lnTo>
                <a:lnTo>
                  <a:pt x="2949" y="9820"/>
                </a:lnTo>
                <a:lnTo>
                  <a:pt x="2887" y="9499"/>
                </a:lnTo>
                <a:lnTo>
                  <a:pt x="2854" y="9340"/>
                </a:lnTo>
                <a:lnTo>
                  <a:pt x="2822" y="9179"/>
                </a:lnTo>
                <a:lnTo>
                  <a:pt x="2789" y="9020"/>
                </a:lnTo>
                <a:lnTo>
                  <a:pt x="2756" y="8859"/>
                </a:lnTo>
                <a:lnTo>
                  <a:pt x="2721" y="8699"/>
                </a:lnTo>
                <a:lnTo>
                  <a:pt x="2686" y="8540"/>
                </a:lnTo>
                <a:lnTo>
                  <a:pt x="2650" y="8380"/>
                </a:lnTo>
                <a:lnTo>
                  <a:pt x="2614" y="8220"/>
                </a:lnTo>
                <a:lnTo>
                  <a:pt x="2655" y="8220"/>
                </a:lnTo>
                <a:lnTo>
                  <a:pt x="2696" y="8220"/>
                </a:lnTo>
                <a:lnTo>
                  <a:pt x="2736" y="8220"/>
                </a:lnTo>
                <a:lnTo>
                  <a:pt x="2777" y="8220"/>
                </a:lnTo>
                <a:lnTo>
                  <a:pt x="2818" y="8220"/>
                </a:lnTo>
                <a:lnTo>
                  <a:pt x="2858" y="8220"/>
                </a:lnTo>
                <a:lnTo>
                  <a:pt x="2899" y="8220"/>
                </a:lnTo>
                <a:lnTo>
                  <a:pt x="2939" y="8220"/>
                </a:lnTo>
                <a:close/>
                <a:moveTo>
                  <a:pt x="3655" y="11612"/>
                </a:moveTo>
                <a:lnTo>
                  <a:pt x="3688" y="11797"/>
                </a:lnTo>
                <a:lnTo>
                  <a:pt x="3721" y="11980"/>
                </a:lnTo>
                <a:lnTo>
                  <a:pt x="3756" y="12162"/>
                </a:lnTo>
                <a:lnTo>
                  <a:pt x="3791" y="12344"/>
                </a:lnTo>
                <a:lnTo>
                  <a:pt x="3861" y="12703"/>
                </a:lnTo>
                <a:lnTo>
                  <a:pt x="3933" y="13057"/>
                </a:lnTo>
                <a:lnTo>
                  <a:pt x="4075" y="13747"/>
                </a:lnTo>
                <a:lnTo>
                  <a:pt x="4214" y="14411"/>
                </a:lnTo>
                <a:lnTo>
                  <a:pt x="4282" y="14731"/>
                </a:lnTo>
                <a:lnTo>
                  <a:pt x="4346" y="15043"/>
                </a:lnTo>
                <a:lnTo>
                  <a:pt x="4408" y="15346"/>
                </a:lnTo>
                <a:lnTo>
                  <a:pt x="4466" y="15640"/>
                </a:lnTo>
                <a:lnTo>
                  <a:pt x="4494" y="15784"/>
                </a:lnTo>
                <a:lnTo>
                  <a:pt x="4520" y="15925"/>
                </a:lnTo>
                <a:lnTo>
                  <a:pt x="4546" y="16063"/>
                </a:lnTo>
                <a:lnTo>
                  <a:pt x="4570" y="16198"/>
                </a:lnTo>
                <a:lnTo>
                  <a:pt x="4593" y="16332"/>
                </a:lnTo>
                <a:lnTo>
                  <a:pt x="4615" y="16461"/>
                </a:lnTo>
                <a:lnTo>
                  <a:pt x="4634" y="16589"/>
                </a:lnTo>
                <a:lnTo>
                  <a:pt x="4652" y="16713"/>
                </a:lnTo>
                <a:lnTo>
                  <a:pt x="4693" y="16981"/>
                </a:lnTo>
                <a:lnTo>
                  <a:pt x="4731" y="17233"/>
                </a:lnTo>
                <a:lnTo>
                  <a:pt x="4767" y="17468"/>
                </a:lnTo>
                <a:lnTo>
                  <a:pt x="4804" y="17688"/>
                </a:lnTo>
                <a:lnTo>
                  <a:pt x="4822" y="17790"/>
                </a:lnTo>
                <a:lnTo>
                  <a:pt x="4840" y="17887"/>
                </a:lnTo>
                <a:lnTo>
                  <a:pt x="4857" y="17980"/>
                </a:lnTo>
                <a:lnTo>
                  <a:pt x="4874" y="18069"/>
                </a:lnTo>
                <a:lnTo>
                  <a:pt x="4891" y="18152"/>
                </a:lnTo>
                <a:lnTo>
                  <a:pt x="4909" y="18231"/>
                </a:lnTo>
                <a:lnTo>
                  <a:pt x="4926" y="18304"/>
                </a:lnTo>
                <a:lnTo>
                  <a:pt x="4943" y="18372"/>
                </a:lnTo>
                <a:lnTo>
                  <a:pt x="4493" y="18372"/>
                </a:lnTo>
                <a:lnTo>
                  <a:pt x="4473" y="18296"/>
                </a:lnTo>
                <a:lnTo>
                  <a:pt x="4455" y="18217"/>
                </a:lnTo>
                <a:lnTo>
                  <a:pt x="4437" y="18135"/>
                </a:lnTo>
                <a:lnTo>
                  <a:pt x="4418" y="18052"/>
                </a:lnTo>
                <a:lnTo>
                  <a:pt x="4400" y="17963"/>
                </a:lnTo>
                <a:lnTo>
                  <a:pt x="4382" y="17874"/>
                </a:lnTo>
                <a:lnTo>
                  <a:pt x="4363" y="17781"/>
                </a:lnTo>
                <a:lnTo>
                  <a:pt x="4345" y="17684"/>
                </a:lnTo>
                <a:lnTo>
                  <a:pt x="4309" y="17484"/>
                </a:lnTo>
                <a:lnTo>
                  <a:pt x="4275" y="17274"/>
                </a:lnTo>
                <a:lnTo>
                  <a:pt x="4239" y="17054"/>
                </a:lnTo>
                <a:lnTo>
                  <a:pt x="4205" y="16824"/>
                </a:lnTo>
                <a:lnTo>
                  <a:pt x="4184" y="16693"/>
                </a:lnTo>
                <a:lnTo>
                  <a:pt x="4163" y="16561"/>
                </a:lnTo>
                <a:lnTo>
                  <a:pt x="4140" y="16425"/>
                </a:lnTo>
                <a:lnTo>
                  <a:pt x="4117" y="16287"/>
                </a:lnTo>
                <a:lnTo>
                  <a:pt x="4068" y="16002"/>
                </a:lnTo>
                <a:lnTo>
                  <a:pt x="4014" y="15708"/>
                </a:lnTo>
                <a:lnTo>
                  <a:pt x="3957" y="15405"/>
                </a:lnTo>
                <a:lnTo>
                  <a:pt x="3898" y="15094"/>
                </a:lnTo>
                <a:lnTo>
                  <a:pt x="3836" y="14773"/>
                </a:lnTo>
                <a:lnTo>
                  <a:pt x="3772" y="14446"/>
                </a:lnTo>
                <a:lnTo>
                  <a:pt x="3707" y="14112"/>
                </a:lnTo>
                <a:lnTo>
                  <a:pt x="3642" y="13771"/>
                </a:lnTo>
                <a:lnTo>
                  <a:pt x="3577" y="13423"/>
                </a:lnTo>
                <a:lnTo>
                  <a:pt x="3510" y="13071"/>
                </a:lnTo>
                <a:lnTo>
                  <a:pt x="3446" y="12712"/>
                </a:lnTo>
                <a:lnTo>
                  <a:pt x="3381" y="12349"/>
                </a:lnTo>
                <a:lnTo>
                  <a:pt x="3350" y="12167"/>
                </a:lnTo>
                <a:lnTo>
                  <a:pt x="3319" y="11983"/>
                </a:lnTo>
                <a:lnTo>
                  <a:pt x="3288" y="11798"/>
                </a:lnTo>
                <a:lnTo>
                  <a:pt x="3260" y="11612"/>
                </a:lnTo>
                <a:lnTo>
                  <a:pt x="3655" y="116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080" y="6167520"/>
            <a:ext cx="8683560" cy="7239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13040" y="4546440"/>
            <a:ext cx="607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40320" y="1666800"/>
            <a:ext cx="607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67600" y="4815000"/>
            <a:ext cx="647640" cy="164880"/>
          </a:xfrm>
          <a:custGeom>
            <a:avLst/>
            <a:gdLst/>
            <a:ahLst/>
            <a:rect l="l" t="t" r="r" b="b"/>
            <a:pathLst>
              <a:path w="560" h="129">
                <a:moveTo>
                  <a:pt x="560" y="57"/>
                </a:moveTo>
                <a:lnTo>
                  <a:pt x="560" y="0"/>
                </a:lnTo>
                <a:lnTo>
                  <a:pt x="0" y="1"/>
                </a:lnTo>
                <a:lnTo>
                  <a:pt x="65" y="129"/>
                </a:lnTo>
                <a:lnTo>
                  <a:pt x="560" y="129"/>
                </a:lnTo>
                <a:lnTo>
                  <a:pt x="560" y="57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67600" y="1954080"/>
            <a:ext cx="2447640" cy="144720"/>
          </a:xfrm>
          <a:custGeom>
            <a:avLst/>
            <a:gdLst/>
            <a:ahLst/>
            <a:rect l="l" t="t" r="r" b="b"/>
            <a:pathLst>
              <a:path w="1670" h="103">
                <a:moveTo>
                  <a:pt x="1670" y="51"/>
                </a:moveTo>
                <a:lnTo>
                  <a:pt x="1670" y="0"/>
                </a:lnTo>
                <a:lnTo>
                  <a:pt x="0" y="0"/>
                </a:lnTo>
                <a:lnTo>
                  <a:pt x="60" y="99"/>
                </a:lnTo>
                <a:lnTo>
                  <a:pt x="1670" y="103"/>
                </a:lnTo>
                <a:lnTo>
                  <a:pt x="1670" y="5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76560" y="1552680"/>
            <a:ext cx="219240" cy="461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0520" y="620388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arget Applications, Dom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801600" y="516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6840" y="3005280"/>
            <a:ext cx="1778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44960" y="62485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35600" y="6275520"/>
            <a:ext cx="28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evelopment systems, langu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0800" y="6189840"/>
            <a:ext cx="0" cy="6951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5920" y="6184800"/>
            <a:ext cx="0" cy="7207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6560" y="1517760"/>
            <a:ext cx="219240" cy="461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8120" y="1096920"/>
            <a:ext cx="4608360" cy="49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114560"/>
            <a:ext cx="4557600" cy="453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143000"/>
            <a:ext cx="4539960" cy="337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ead End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1160" y="76320"/>
            <a:ext cx="200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3399"/>
                </a:solidFill>
                <a:uFillTx/>
                <a:latin typeface="Arial"/>
              </a:rPr>
              <a:t>Related Fields</a:t>
            </a:r>
            <a:r>
              <a:rPr b="1" lang="de-DE" sz="1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520" y="803160"/>
            <a:ext cx="14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Purple -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520" y="5875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Red - 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520" y="371520"/>
            <a:ext cx="18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ark Blue - Des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42120" y="673200"/>
            <a:ext cx="3273120" cy="129960"/>
          </a:xfrm>
          <a:custGeom>
            <a:avLst/>
            <a:gdLst/>
            <a:ahLst/>
            <a:rect l="l" t="t" r="r" b="b"/>
            <a:pathLst>
              <a:path w="1670" h="103">
                <a:moveTo>
                  <a:pt x="1670" y="51"/>
                </a:moveTo>
                <a:lnTo>
                  <a:pt x="1670" y="0"/>
                </a:lnTo>
                <a:lnTo>
                  <a:pt x="0" y="0"/>
                </a:lnTo>
                <a:lnTo>
                  <a:pt x="60" y="99"/>
                </a:lnTo>
                <a:lnTo>
                  <a:pt x="1670" y="103"/>
                </a:lnTo>
                <a:lnTo>
                  <a:pt x="1670" y="5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37000" y="395280"/>
            <a:ext cx="607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20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3616800">
            <a:off x="8088480" y="5387400"/>
            <a:ext cx="85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TOD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79545" t="16341" r="2750" b="23025"/>
          <a:stretch/>
        </p:blipFill>
        <p:spPr>
          <a:xfrm>
            <a:off x="8931240" y="-71280"/>
            <a:ext cx="1727280" cy="4435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79545" t="16341" r="2001" b="23025"/>
          <a:stretch/>
        </p:blipFill>
        <p:spPr>
          <a:xfrm>
            <a:off x="10483920" y="4546440"/>
            <a:ext cx="1800000" cy="4435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81026" t="16341" r="3060" b="24221"/>
          <a:stretch/>
        </p:blipFill>
        <p:spPr>
          <a:xfrm>
            <a:off x="10731600" y="-71280"/>
            <a:ext cx="1552320" cy="434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79545" t="16882" r="3012" b="23025"/>
          <a:stretch/>
        </p:blipFill>
        <p:spPr>
          <a:xfrm>
            <a:off x="12387240" y="4557600"/>
            <a:ext cx="1701720" cy="439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rcRect l="79545" t="16863" r="3127" b="23827"/>
          <a:stretch/>
        </p:blipFill>
        <p:spPr>
          <a:xfrm>
            <a:off x="12387240" y="-71280"/>
            <a:ext cx="1690560" cy="433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4520" y="2387520"/>
            <a:ext cx="71280" cy="617760"/>
          </a:xfrm>
          <a:prstGeom prst="rect">
            <a:avLst/>
          </a:prstGeom>
          <a:solidFill>
            <a:srgbClr val="7f7f7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rcRect l="91391" t="47551" r="4965" b="44382"/>
          <a:stretch/>
        </p:blipFill>
        <p:spPr>
          <a:xfrm>
            <a:off x="487440" y="1822320"/>
            <a:ext cx="355680" cy="59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3076560" y="103320"/>
            <a:ext cx="2717640" cy="626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520" y="1019160"/>
            <a:ext cx="14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Green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840" y="1243080"/>
            <a:ext cx="14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Blue -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03:01:10Z</dcterms:created>
  <dc:creator>Dr. Mark T. Maybury</dc:creator>
  <dc:description/>
  <dc:language>en-US</dc:language>
  <cp:lastModifiedBy>Fabio Paternò</cp:lastModifiedBy>
  <cp:lastPrinted>1998-12-30T16:07:24Z</cp:lastPrinted>
  <dcterms:modified xsi:type="dcterms:W3CDTF">2002-09-25T14:58:54Z</dcterms:modified>
  <cp:revision>1270</cp:revision>
  <dc:subject/>
  <dc:title>No Slide Title</dc:title>
</cp:coreProperties>
</file>