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875880" y="858960"/>
            <a:ext cx="501660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59080" y="9182160"/>
            <a:ext cx="205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1-04-12   </a:t>
            </a:r>
            <a:fld id="{5649A9C9-05C7-4595-AB7F-B04CF000EB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c in comput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d 1997 Hambur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pplication and language context - about the interaction between ordinary and formal language during development and use of softwar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1997 at the university of Karlskrona/Ronneb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ing with the interdisciplinary program ‘people, computers and work’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50% human work science, 50% computer 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 manager for the computer science part (1999-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of the research group Use Oriented Design and Development of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intere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 for design i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ical research in software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together wit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two other research groups at the department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6 industrial partmners (Ericsson, ABB, VolvoIT e.g.) about 3,5 Million EUR 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matching industrial counterfinanci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municipalities in Blekinge and Stockho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private companies, one software development company, one cal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example: the introduction of a highly tailorable publication tool for inter- and intr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much of the project is a technical project, how much of it is organisa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new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ing question: how useful is such a flexible database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what is it usefu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the beginning the payments were computed manually.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umberso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oring pape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 manual computation: using filemaker for the event data and excel sheets for the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contract and payment system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tabase were the contracts are administrated, and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atch procedure that takes each event and computes the respective payment based on the contract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reason for re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certain types of contracts could be administ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interface unsatisf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tain contract types have to be handled manually The system is hard to mai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Specifica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pecial purpos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 to a changing business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common object of work has to be 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endency on interfaces to 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ystem controls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22640" y="1905120"/>
            <a:ext cx="948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le, 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aving data about con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is data is matched by events that trigger concrete 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roof of concept prototypes of parts of th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o connection to surroundi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mplementing a flexible user interface and a tailoring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mplementing the matching algorithm that is used to compute the data for the financi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The project did decide against the flexible database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.) a non standard databas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.) complex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.)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 industrial conditions, a technologically less advanced solution might be the better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jor disadvantages regarding anticip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ilar change effort regarding unanticip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and product qualities as important as (at least) change ef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de 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lexibility vs.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ailorability vs maintenance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daptability vs main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unctionality vs qualitative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e started to think about context analytical concept to understand this unexpected out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5E9E-E576-48FE-B7B2-517587E19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7FB3-B5BE-4672-971C-5B158A54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ECFD-0CED-49E7-9BBE-F631DB302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40CC-2C61-4627-9BBD-6AA28B07A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4EB4-A7E1-431E-BE2E-F2A36A0F7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688B-7710-4AFA-A720-5A029E698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A98F-B612-4247-AB89-21B95A6B2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39DB-345D-4628-8312-646F01987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D1BA-CEAF-4FF8-8FBA-4B1C6980D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6328-5FE1-4CFD-B104-F78FCC8FD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DD83-81D6-4E95-BB59-3FE97F39A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4129-A895-499C-BCDF-C61566E55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463680"/>
            <a:ext cx="8826480" cy="58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324480"/>
            <a:ext cx="2666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ittrich  0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rgb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5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8A53-58ED-4A31-A97F-DB8A6B97F4F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chang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busines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vonne Dittrich, Olle Linde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kinge 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artment for Software Engineering and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95AD-A723-42EE-9F04-F2C30997D9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riente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and Development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existing since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r. Yvonne Dittrich, Jeanette Eriksson, Christina Hansson, Olle Lindeberg, Kari Rönk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we are today involved in the following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lekinge Engineering Software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se orientation in the development of mobil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lexibility and use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of IT in Use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ive Technologies for Public Service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leader: Dr. Sara Eriksén, 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290C-985F-4F94-9894-10D835135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periences with Tailo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 in use of database application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evelopment of a flexible back-office support system for telecommunication provider. Will be subject of th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of IT in Use: Supportive Technologies for Public Service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Need for ongoing Design in Use. Tailoring practices. Flexibilisation of development processe. (together with Sara Eriksé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 of a flexible architecture for Action Block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Using XML to adjust behavior of ubiquetouos computing systems. 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Master Thesis in Co-operation with the Interactive Institute in Malmoe (Thomas Binde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other research in the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Billing Gateway – 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using domain specific languages to tailor large telecommunication systems (Lars Lundberg, 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4D05-606F-43C1-B6FC-9D80C63E3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jec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in Use of Databas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ipant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telecommunication provider, a small software developer and the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business application to administrate contracts and compute payments based on the contracts and triggered by certai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ex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pidly changing business practices require a flexible adaptab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l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flexible meta-modelling database system allowing to manipulate the data model during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E7CF-2D8E-420A-97E5-ECFCF4436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ood design: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are easily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eta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rsely populated databa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 based combination and prioritisation between different payments triggered by the sam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s of the program control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 by meta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d back to be able to test the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iloring interface for the system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27A8-176D-4F09-8429-B56274E9B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between context and techn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change but for whom? when?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ork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ase study wa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software for on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 for futur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F945-3419-411E-A39C-541B3E0D7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0:50:22Z</dcterms:created>
  <dc:creator>Yvonne</dc:creator>
  <dc:description/>
  <dc:language>en-US</dc:language>
  <cp:lastModifiedBy>Silvia</cp:lastModifiedBy>
  <cp:lastPrinted>2001-04-23T06:25:18Z</cp:lastPrinted>
  <dcterms:modified xsi:type="dcterms:W3CDTF">2002-10-04T08:03:13Z</dcterms:modified>
  <cp:revision>34</cp:revision>
  <dc:subject/>
  <dc:title>Participatory and Evolutionary  Software Development</dc:title>
</cp:coreProperties>
</file>