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ct" ContentType="image/x-pict"/>
  <Override PartName="/ppt/media/image9.pct" ContentType="image/x-pict"/>
  <Override PartName="/ppt/media/image10.pct" ContentType="image/x-pict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04760" y="914040"/>
            <a:ext cx="504828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609480"/>
            <a:ext cx="7953120" cy="5743800"/>
          </a:xfrm>
          <a:prstGeom prst="rect">
            <a:avLst/>
          </a:prstGeom>
          <a:solidFill>
            <a:srgbClr val="ffffff"/>
          </a:solidFill>
          <a:ln w="475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00960" y="6477120"/>
            <a:ext cx="702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488517-C4F7-46BA-A694-BC07C0C53FBF}" type="slidenum">
              <a:rPr b="0" lang="nb-N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62320" y="609480"/>
            <a:ext cx="4419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228600"/>
            <a:ext cx="617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 Participation in Evolutionary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7120" y="64008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sa,  23/9 - </a:t>
            </a: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33720" y="2514600"/>
            <a:ext cx="2666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" descr=""/>
          <p:cNvPicPr/>
          <p:nvPr/>
        </p:nvPicPr>
        <p:blipFill>
          <a:blip r:embed="rId2"/>
          <a:stretch/>
        </p:blipFill>
        <p:spPr>
          <a:xfrm>
            <a:off x="5958000" y="68400"/>
            <a:ext cx="1914480" cy="504720"/>
          </a:xfrm>
          <a:prstGeom prst="rect">
            <a:avLst/>
          </a:prstGeom>
          <a:ln w="0">
            <a:noFill/>
          </a:ln>
        </p:spPr>
      </p:pic>
      <p:pic>
        <p:nvPicPr>
          <p:cNvPr id="8" name="apollon" descr=""/>
          <p:cNvPicPr/>
          <p:nvPr/>
        </p:nvPicPr>
        <p:blipFill>
          <a:blip r:embed="rId3"/>
          <a:stretch/>
        </p:blipFill>
        <p:spPr>
          <a:xfrm>
            <a:off x="7896240" y="0"/>
            <a:ext cx="1247760" cy="12333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5800" y="6400800"/>
            <a:ext cx="11430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D-Net kick-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2120" y="1523880"/>
            <a:ext cx="76197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ntermedia.uio.no/ansatte/morch/research/publications/ead/02Chap.pdf" TargetMode="External"/><Relationship Id="rId2" Type="http://schemas.openxmlformats.org/officeDocument/2006/relationships/hyperlink" Target="http://www.intermedia.uio.no/ansatte/morch/research/publications/ead/02Chap.pdf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50640" y="983880"/>
            <a:ext cx="4630680" cy="9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ser Participation i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volutionary Development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8195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Anders Mørch</a:t>
            </a:r>
            <a:br>
              <a:rPr sz="2800"/>
            </a:b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InterMedia</a:t>
            </a:r>
            <a:br>
              <a:rPr sz="2800"/>
            </a:b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University of Oslo</a:t>
            </a:r>
            <a:br>
              <a:rPr sz="2800"/>
            </a:b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anders.morch@intermedia.uio.no</a:t>
            </a:r>
            <a:br>
              <a:rPr sz="2400"/>
            </a:b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www.intermedia.uio</a:t>
            </a:r>
            <a:r>
              <a:rPr b="0" i="1" lang="nb-NO" sz="2400" spc="-1" strike="noStrike">
                <a:solidFill>
                  <a:srgbClr val="00279f"/>
                </a:solidFill>
                <a:latin typeface="Arial"/>
              </a:rPr>
              <a:t>.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50556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arrowing the micro/macro gap of NL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27672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594360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057400" y="175248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76840" y="5105520"/>
            <a:ext cx="738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6920" y="3581280"/>
            <a:ext cx="991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8680" y="2286000"/>
            <a:ext cx="8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48320" y="4419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648320" y="2563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200" y="213372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atural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2480" y="510552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Genetic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35053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0000"/>
                </a:solidFill>
                <a:latin typeface="Arial"/>
              </a:rPr>
              <a:t>Individuals</a:t>
            </a:r>
            <a:br>
              <a:rPr sz="2000"/>
            </a:br>
            <a:r>
              <a:rPr b="0" i="1" lang="en-AU" sz="2000" spc="-1" strike="noStrike">
                <a:solidFill>
                  <a:srgbClr val="ff0000"/>
                </a:solidFill>
                <a:latin typeface="Arial"/>
              </a:rPr>
              <a:t>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647960" y="3429000"/>
            <a:ext cx="307440" cy="723960"/>
            <a:chOff x="4647960" y="3429000"/>
            <a:chExt cx="307440" cy="723960"/>
          </a:xfrm>
        </p:grpSpPr>
        <p:grpSp>
          <p:nvGrpSpPr>
            <p:cNvPr id="113" name=""/>
            <p:cNvGrpSpPr/>
            <p:nvPr/>
          </p:nvGrpSpPr>
          <p:grpSpPr>
            <a:xfrm>
              <a:off x="4673880" y="3429000"/>
              <a:ext cx="228600" cy="609480"/>
              <a:chOff x="4673880" y="3429000"/>
              <a:chExt cx="228600" cy="609480"/>
            </a:xfrm>
          </p:grpSpPr>
          <p:sp>
            <p:nvSpPr>
              <p:cNvPr id="114" name=""/>
              <p:cNvSpPr/>
              <p:nvPr/>
            </p:nvSpPr>
            <p:spPr>
              <a:xfrm>
                <a:off x="4673880" y="3429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88000" y="36576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647960" y="3988080"/>
              <a:ext cx="278280" cy="164880"/>
              <a:chOff x="4647960" y="3988080"/>
              <a:chExt cx="278280" cy="16488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4647960" y="39880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73600" y="40006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680360" y="3724920"/>
              <a:ext cx="275040" cy="172800"/>
              <a:chOff x="4680360" y="3724920"/>
              <a:chExt cx="275040" cy="172800"/>
            </a:xfrm>
          </p:grpSpPr>
          <p:sp>
            <p:nvSpPr>
              <p:cNvPr id="120" name=""/>
              <p:cNvSpPr/>
              <p:nvPr/>
            </p:nvSpPr>
            <p:spPr>
              <a:xfrm flipV="1">
                <a:off x="4793760" y="3755880"/>
                <a:ext cx="16164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>
                <a:off x="4680360" y="3724920"/>
                <a:ext cx="14184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124080" y="426708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523880"/>
            <a:ext cx="1412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cc"/>
                </a:solidFill>
                <a:latin typeface="Arial"/>
              </a:rPr>
              <a:t>Unit of </a:t>
            </a:r>
            <a:br>
              <a:rPr sz="1800"/>
            </a:br>
            <a:r>
              <a:rPr b="0" lang="en-AU" sz="1800" spc="-1" strike="noStrike">
                <a:solidFill>
                  <a:srgbClr val="3333cc"/>
                </a:solidFill>
                <a:latin typeface="Arial"/>
              </a:rPr>
              <a:t>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190760" y="3429000"/>
            <a:ext cx="307440" cy="723960"/>
            <a:chOff x="4190760" y="3429000"/>
            <a:chExt cx="307440" cy="723960"/>
          </a:xfrm>
        </p:grpSpPr>
        <p:grpSp>
          <p:nvGrpSpPr>
            <p:cNvPr id="125" name=""/>
            <p:cNvGrpSpPr/>
            <p:nvPr/>
          </p:nvGrpSpPr>
          <p:grpSpPr>
            <a:xfrm>
              <a:off x="4216680" y="3429000"/>
              <a:ext cx="228600" cy="609480"/>
              <a:chOff x="4216680" y="3429000"/>
              <a:chExt cx="228600" cy="60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4216680" y="3429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30800" y="36576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4190760" y="3988080"/>
              <a:ext cx="278280" cy="164880"/>
              <a:chOff x="4190760" y="3988080"/>
              <a:chExt cx="278280" cy="164880"/>
            </a:xfrm>
          </p:grpSpPr>
          <p:sp>
            <p:nvSpPr>
              <p:cNvPr id="129" name=""/>
              <p:cNvSpPr/>
              <p:nvPr/>
            </p:nvSpPr>
            <p:spPr>
              <a:xfrm flipH="1">
                <a:off x="4190760" y="39880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16400" y="40006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223160" y="3724920"/>
              <a:ext cx="275040" cy="172800"/>
              <a:chOff x="4223160" y="3724920"/>
              <a:chExt cx="275040" cy="17280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4336560" y="3755880"/>
                <a:ext cx="16164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223160" y="3724920"/>
                <a:ext cx="14184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48972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oing t</a:t>
            </a:r>
            <a:r>
              <a:rPr b="1" lang="nb-NO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 far is bypassing the issue?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2819520"/>
            <a:ext cx="4343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327672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94360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981080" y="175248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5160" y="5105520"/>
            <a:ext cx="738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6920" y="3581280"/>
            <a:ext cx="991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8840" y="2286000"/>
            <a:ext cx="8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724280" y="266652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952520" y="2285280"/>
            <a:ext cx="180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20080" y="190512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480" y="53341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840" y="36576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articip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523880"/>
            <a:ext cx="1412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cc"/>
                </a:solidFill>
                <a:latin typeface="Arial"/>
              </a:rPr>
              <a:t>Unit of </a:t>
            </a:r>
            <a:br>
              <a:rPr sz="1800"/>
            </a:br>
            <a:r>
              <a:rPr b="0" lang="en-AU" sz="1800" spc="-1" strike="noStrike">
                <a:solidFill>
                  <a:srgbClr val="3333cc"/>
                </a:solidFill>
                <a:latin typeface="Arial"/>
              </a:rPr>
              <a:t>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040" y="3429000"/>
            <a:ext cx="307440" cy="723960"/>
            <a:chOff x="4343040" y="3429000"/>
            <a:chExt cx="307440" cy="723960"/>
          </a:xfrm>
        </p:grpSpPr>
        <p:grpSp>
          <p:nvGrpSpPr>
            <p:cNvPr id="149" name=""/>
            <p:cNvGrpSpPr/>
            <p:nvPr/>
          </p:nvGrpSpPr>
          <p:grpSpPr>
            <a:xfrm>
              <a:off x="4368960" y="3429000"/>
              <a:ext cx="228600" cy="609480"/>
              <a:chOff x="4368960" y="3429000"/>
              <a:chExt cx="228600" cy="609480"/>
            </a:xfrm>
          </p:grpSpPr>
          <p:sp>
            <p:nvSpPr>
              <p:cNvPr id="150" name=""/>
              <p:cNvSpPr/>
              <p:nvPr/>
            </p:nvSpPr>
            <p:spPr>
              <a:xfrm>
                <a:off x="4368960" y="3429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83080" y="36576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343040" y="3988080"/>
              <a:ext cx="278280" cy="164880"/>
              <a:chOff x="4343040" y="3988080"/>
              <a:chExt cx="278280" cy="16488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4343040" y="39880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68680" y="40006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375440" y="3724920"/>
              <a:ext cx="275040" cy="172800"/>
              <a:chOff x="4375440" y="3724920"/>
              <a:chExt cx="275040" cy="17280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4488840" y="3755880"/>
                <a:ext cx="16164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4375440" y="3724920"/>
                <a:ext cx="14184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3048120" y="426708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62160" y="3429000"/>
            <a:ext cx="307440" cy="723960"/>
            <a:chOff x="3962160" y="3429000"/>
            <a:chExt cx="307440" cy="723960"/>
          </a:xfrm>
        </p:grpSpPr>
        <p:grpSp>
          <p:nvGrpSpPr>
            <p:cNvPr id="160" name=""/>
            <p:cNvGrpSpPr/>
            <p:nvPr/>
          </p:nvGrpSpPr>
          <p:grpSpPr>
            <a:xfrm>
              <a:off x="3988080" y="3429000"/>
              <a:ext cx="228600" cy="609480"/>
              <a:chOff x="3988080" y="3429000"/>
              <a:chExt cx="228600" cy="609480"/>
            </a:xfrm>
          </p:grpSpPr>
          <p:sp>
            <p:nvSpPr>
              <p:cNvPr id="161" name=""/>
              <p:cNvSpPr/>
              <p:nvPr/>
            </p:nvSpPr>
            <p:spPr>
              <a:xfrm>
                <a:off x="3988080" y="3429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02200" y="36576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2160" y="3988080"/>
              <a:ext cx="278280" cy="164880"/>
              <a:chOff x="3962160" y="3988080"/>
              <a:chExt cx="278280" cy="16488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3962160" y="39880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87800" y="40006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994560" y="3724920"/>
              <a:ext cx="275040" cy="172800"/>
              <a:chOff x="3994560" y="3724920"/>
              <a:chExt cx="275040" cy="17280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4107960" y="3755880"/>
                <a:ext cx="16164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3994560" y="3724920"/>
                <a:ext cx="14184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990720"/>
            <a:ext cx="7315200" cy="47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hortening the variation-selection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0240" y="1981080"/>
            <a:ext cx="1386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3623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48640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715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6280" y="4191120"/>
            <a:ext cx="14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libe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5029200"/>
            <a:ext cx="1600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1200" y="2590920"/>
            <a:ext cx="114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Arial"/>
              </a:rPr>
              <a:t>Genetic</a:t>
            </a:r>
            <a:r>
              <a:rPr b="0" lang="nb-NO" sz="2000" spc="-1" strike="noStrike">
                <a:solidFill>
                  <a:srgbClr val="3333cc"/>
                </a:solidFill>
                <a:latin typeface="Arial"/>
              </a:rPr>
              <a:t>/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5715000"/>
            <a:ext cx="10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ti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28954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895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4343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880" y="3048120"/>
            <a:ext cx="1828800" cy="129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754380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dopting evolutionary perspectives</a:t>
            </a:r>
            <a:r>
              <a:rPr b="1" lang="nb-NO" sz="2800" spc="-1" strike="noStrike">
                <a:solidFill>
                  <a:srgbClr val="3333cc"/>
                </a:solidFill>
                <a:latin typeface="Arial"/>
              </a:rPr>
              <a:t> to EU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3333cc"/>
                </a:solidFill>
                <a:latin typeface="Arial"/>
              </a:rPr>
              <a:t>Goal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: users as </a:t>
            </a:r>
            <a:r>
              <a:rPr b="0" i="1" lang="en-AU" sz="2800" spc="-1" strike="noStrike">
                <a:solidFill>
                  <a:srgbClr val="3333cc"/>
                </a:solidFill>
                <a:latin typeface="Arial"/>
              </a:rPr>
              <a:t>active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 participants as </a:t>
            </a:r>
            <a:r>
              <a:rPr b="0" i="1" lang="en-AU" sz="2800" spc="-1" strike="noStrike">
                <a:solidFill>
                  <a:srgbClr val="3333cc"/>
                </a:solidFill>
                <a:latin typeface="Arial"/>
              </a:rPr>
              <a:t>creators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 of evolutionary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er participation requiremen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riati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should approximate uni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electi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t of selection should approximate uni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igner perspectiv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tificial selec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liberated variation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632160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alogical solution (and metaphor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67652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ardening” as analogic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Gardening provides a level of abstraction that is suitable for user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Two literal examp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uning” as metaphor for artificial selec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fting” as metaphor for deliberated vari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16112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rtificial  selection: Pruning a bonsai tre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8" name="bonzai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64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1280" y="837720"/>
            <a:ext cx="5597640" cy="9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liberated variation: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ting and budding a fruit tre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762012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grafting2" descr=""/>
          <p:cNvPicPr/>
          <p:nvPr/>
        </p:nvPicPr>
        <p:blipFill>
          <a:blip r:embed="rId1"/>
          <a:stretch/>
        </p:blipFill>
        <p:spPr>
          <a:xfrm>
            <a:off x="5468760" y="2227320"/>
            <a:ext cx="229572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graftin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4190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624852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ast work at UiO: End-user tailoring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1676520"/>
            <a:ext cx="7618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chniques for deliberated varia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”application grafting”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plication units as basic building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plication unit go</a:t>
            </a:r>
            <a:r>
              <a:rPr b="0" lang="nb-NO" sz="2800" spc="-1" strike="noStrike">
                <a:solidFill>
                  <a:srgbClr val="3333cc"/>
                </a:solidFill>
                <a:latin typeface="Arial"/>
              </a:rPr>
              <a:t>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beyond GUI objects </a:t>
            </a:r>
            <a:r>
              <a:rPr b="0" lang="nb-NO" sz="2800" spc="-1" strike="noStrike">
                <a:solidFill>
                  <a:srgbClr val="3333cc"/>
                </a:solidFill>
                <a:latin typeface="Arial"/>
              </a:rPr>
              <a:t>by 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providing access to levels of an application  below the</a:t>
            </a:r>
            <a:r>
              <a:rPr b="0" lang="nb-NO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688500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volving BasicDraw into KitchenDesig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9160" y="1752480"/>
            <a:ext cx="75211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How to build a specialized draw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ram from a  generic progra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25320" y="3081240"/>
            <a:ext cx="2934000" cy="2435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99160" y="2782800"/>
            <a:ext cx="3595680" cy="2832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54520" y="5749920"/>
            <a:ext cx="1639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BasicD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9120" y="5735520"/>
            <a:ext cx="2146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Kitchen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3396240" y="4149360"/>
            <a:ext cx="157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8920" y="4540320"/>
            <a:ext cx="5810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21160" y="4529160"/>
            <a:ext cx="306360" cy="6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4400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osing aspects below the user interfac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816200" y="1933560"/>
            <a:ext cx="2246040" cy="1835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06760" y="2009880"/>
            <a:ext cx="2961000" cy="1725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419720" y="3886200"/>
            <a:ext cx="2120760" cy="2392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819520" y="3054240"/>
            <a:ext cx="0" cy="13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362480"/>
            <a:ext cx="1617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03400" y="2968560"/>
            <a:ext cx="141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892160" y="2619360"/>
            <a:ext cx="393840" cy="369000"/>
            <a:chOff x="1892160" y="2619360"/>
            <a:chExt cx="393840" cy="369000"/>
          </a:xfrm>
        </p:grpSpPr>
        <p:sp>
          <p:nvSpPr>
            <p:cNvPr id="212" name=""/>
            <p:cNvSpPr/>
            <p:nvPr/>
          </p:nvSpPr>
          <p:spPr>
            <a:xfrm>
              <a:off x="1923840" y="2649240"/>
              <a:ext cx="3621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92160" y="2619360"/>
              <a:ext cx="331920" cy="349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073400" y="2413080"/>
            <a:ext cx="327240" cy="342000"/>
            <a:chOff x="4073400" y="2413080"/>
            <a:chExt cx="327240" cy="342000"/>
          </a:xfrm>
        </p:grpSpPr>
        <p:sp>
          <p:nvSpPr>
            <p:cNvPr id="215" name=""/>
            <p:cNvSpPr/>
            <p:nvPr/>
          </p:nvSpPr>
          <p:spPr>
            <a:xfrm>
              <a:off x="4089240" y="2415960"/>
              <a:ext cx="31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73400" y="2413080"/>
              <a:ext cx="304920" cy="291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048200" y="3886200"/>
            <a:ext cx="327240" cy="339120"/>
            <a:chOff x="4048200" y="3886200"/>
            <a:chExt cx="327240" cy="339120"/>
          </a:xfrm>
        </p:grpSpPr>
        <p:sp>
          <p:nvSpPr>
            <p:cNvPr id="218" name=""/>
            <p:cNvSpPr/>
            <p:nvPr/>
          </p:nvSpPr>
          <p:spPr>
            <a:xfrm>
              <a:off x="4064040" y="3886200"/>
              <a:ext cx="31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8200" y="3895560"/>
              <a:ext cx="304560" cy="292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909160" y="2975040"/>
            <a:ext cx="14652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shiftMouse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92880" y="4100400"/>
            <a:ext cx="1373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trlMouse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673200" y="4067280"/>
            <a:ext cx="1828800" cy="2133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282680" y="345744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2680" y="34574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52840" y="305100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82680" y="3247920"/>
            <a:ext cx="128232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altMouse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344600" y="3678120"/>
            <a:ext cx="399240" cy="354960"/>
            <a:chOff x="1344600" y="3678120"/>
            <a:chExt cx="399240" cy="354960"/>
          </a:xfrm>
        </p:grpSpPr>
        <p:sp>
          <p:nvSpPr>
            <p:cNvPr id="228" name=""/>
            <p:cNvSpPr/>
            <p:nvPr/>
          </p:nvSpPr>
          <p:spPr>
            <a:xfrm>
              <a:off x="1347120" y="3693960"/>
              <a:ext cx="3967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44600" y="3678120"/>
              <a:ext cx="353880" cy="34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7840" y="914040"/>
            <a:ext cx="674856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Keywords from previous presenta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Natural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Gardening metap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untime tailo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Domain-expert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From abstract to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From concrete to abs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23800" y="914040"/>
            <a:ext cx="245268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lanned work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1447920"/>
            <a:ext cx="7618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Tools and techniques for artificial selection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“application pruning”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de-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con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Component-based systems with embedded “gardening”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Artificial selection as abstraction mechanism for turning components “off” during execution to cope with superfluous functionality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03080" y="914040"/>
            <a:ext cx="206244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447920"/>
            <a:ext cx="76183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An elaborated version of this presentation can be found in the following pap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ørch, A.I. Evolutionary Growth and Control in User Tailorable Systems. In Adaptive Evolutionary Information Systems. N. Patel (ed.). Idea Group Publishing, 2002. </a:t>
            </a:r>
            <a:br>
              <a:rPr sz="2000"/>
            </a:br>
            <a:br>
              <a:rPr sz="20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may take time to download 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	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termedia.uio.no/ansatte/morch/research/publications/ead/02Chap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1440" y="837720"/>
            <a:ext cx="136512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User participation i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volution as guiding principle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Arial"/>
              </a:rPr>
              <a:t>From natural to artificial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Arial"/>
              </a:rPr>
              <a:t>End users as initiators of evolutionar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Level of abstraction appropriate for user participa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gardening</a:t>
            </a:r>
            <a:r>
              <a:rPr b="0" lang="nb-N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aph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as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lanned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587664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ser participation in development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User participation in Scandinavian system development has been about how to involve users in the early stages of development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analysis and design)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This is appropriate for easy-to-us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One of the main EUD-Net goal is to move from easy-to-use to easy-to-develop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Our interest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: Users as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active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participants in the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further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development of exis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650700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Arial"/>
              </a:rPr>
              <a:t>Natural evolution as guiding principl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523880"/>
            <a:ext cx="7848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Evolution by incrementally making small changes to existing systems over long time works remarkab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A step beyond ”one shot” framework instantiation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e.g. spreadsheet develop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Principles of natural evolution have been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successfully adopted in many other domains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building architecture, evolution of everyday tool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Two levels of evolution: </a:t>
            </a:r>
            <a:r>
              <a:rPr b="0" i="1" lang="en-AU" sz="2800" spc="-1" strike="noStrike">
                <a:solidFill>
                  <a:srgbClr val="3333cc"/>
                </a:solidFill>
                <a:latin typeface="Arial"/>
              </a:rPr>
              <a:t>species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i="1" lang="en-AU" sz="2800" spc="-1" strike="noStrike">
                <a:solidFill>
                  <a:srgbClr val="3333cc"/>
                </a:solidFill>
                <a:latin typeface="Arial"/>
              </a:rPr>
              <a:t>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990720"/>
            <a:ext cx="5281560" cy="49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Arial"/>
              </a:rPr>
              <a:t>Two kinds of natural evolu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Phylogenetic evoluti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The evolution of speci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our gene pool; the gene pool of tre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Ontogenetic evoluti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The evolution of an individual member of a speci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you and me;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tree outside the building we’re 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Hypo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Natural evolution can serve a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alogy to identify and explain differences between two kinds of software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9160" y="914040"/>
            <a:ext cx="555948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wo kinds of software evolu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676520"/>
            <a:ext cx="74678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Programming language evoluti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The evolution of programming languages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e.g., Simula 67 =&gt; C++ =&gt;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800" spc="-1" strike="noStrike">
                <a:solidFill>
                  <a:srgbClr val="3333cc"/>
                </a:solidFill>
                <a:latin typeface="Arial"/>
              </a:rPr>
              <a:t>Program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 evoluti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The evolution of an individual memb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a program, an application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created from a programming languag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Word 1 =&gt; Word 4.0 =&gt; Word 97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ram evolution was fir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seriously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re-ated by Lehman and Belad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IBM OS/3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8280" y="990360"/>
            <a:ext cx="3384360" cy="13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gram evolutio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d  programming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anguage evolu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8120" y="1676520"/>
            <a:ext cx="2026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Layers of program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code in an appli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4880" y="4114800"/>
            <a:ext cx="22654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Programming languag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4800" y="2362320"/>
            <a:ext cx="3733920" cy="1433520"/>
            <a:chOff x="4114800" y="2362320"/>
            <a:chExt cx="3733920" cy="1433520"/>
          </a:xfrm>
        </p:grpSpPr>
        <p:sp>
          <p:nvSpPr>
            <p:cNvPr id="66" name=""/>
            <p:cNvSpPr/>
            <p:nvPr/>
          </p:nvSpPr>
          <p:spPr>
            <a:xfrm>
              <a:off x="5586480" y="3416400"/>
              <a:ext cx="159048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3840" y="2362320"/>
              <a:ext cx="1317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main-oriented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8320" y="2743200"/>
              <a:ext cx="2617560" cy="304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75000" y="2819520"/>
              <a:ext cx="1530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eneric exten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67160" y="3048120"/>
              <a:ext cx="3252960" cy="3045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68640" y="3124080"/>
              <a:ext cx="2321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ailorable generic 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14800" y="3352680"/>
              <a:ext cx="3733920" cy="304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14920" y="3429000"/>
              <a:ext cx="2640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pplication integration frame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29200" y="2362320"/>
              <a:ext cx="1828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066680" y="4572000"/>
            <a:ext cx="4191120" cy="1600200"/>
            <a:chOff x="1066680" y="4572000"/>
            <a:chExt cx="4191120" cy="1600200"/>
          </a:xfrm>
        </p:grpSpPr>
        <p:sp>
          <p:nvSpPr>
            <p:cNvPr id="76" name=""/>
            <p:cNvSpPr/>
            <p:nvPr/>
          </p:nvSpPr>
          <p:spPr>
            <a:xfrm>
              <a:off x="2306520" y="4572000"/>
              <a:ext cx="1585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isual programming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anguages (VP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28800" y="4953240"/>
              <a:ext cx="2617560" cy="3045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56200" y="5029200"/>
              <a:ext cx="156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cript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7640" y="5257800"/>
              <a:ext cx="3252960" cy="304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25080" y="5334120"/>
              <a:ext cx="2094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bject-oriented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5280" y="5562720"/>
              <a:ext cx="3733920" cy="304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39160" y="5639040"/>
              <a:ext cx="2952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inary languages (e.g. Java bytcod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9680" y="4572000"/>
              <a:ext cx="182880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5867640"/>
              <a:ext cx="4191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66440" y="5943600"/>
              <a:ext cx="3083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ardware description languages (HD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562720" y="51814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7600" y="4876920"/>
            <a:ext cx="1821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Language ev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4400" y="4648320"/>
            <a:ext cx="838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001000" y="198072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7399800" y="2705040"/>
            <a:ext cx="1736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Program ev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8391800">
            <a:off x="667440" y="4970520"/>
            <a:ext cx="101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08160" y="2895480"/>
            <a:ext cx="28764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ch layer can be implemente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ame (or a different)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057400" y="33526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057400" y="2666520"/>
            <a:ext cx="1905120" cy="228600"/>
            <a:chOff x="2057400" y="2666520"/>
            <a:chExt cx="1905120" cy="228600"/>
          </a:xfrm>
        </p:grpSpPr>
        <p:sp>
          <p:nvSpPr>
            <p:cNvPr id="95" name=""/>
            <p:cNvSpPr/>
            <p:nvPr/>
          </p:nvSpPr>
          <p:spPr>
            <a:xfrm>
              <a:off x="2057400" y="26668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057400" y="2666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13320" y="5410080"/>
            <a:ext cx="24685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E.g. HDL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&gt; HDL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&gt; HDL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ula 67 =&gt; C++ =&gt; Jav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589464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Arial"/>
              </a:rPr>
              <a:t>From natural to artificial evolu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NL works by two basic mechanisms: genetic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variation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and natural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selection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Genetic variation is a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micro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level mechanism that can cause permanent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inheritable)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change in an organis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Natural selection is a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macro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mechanism that </a:t>
            </a:r>
            <a:br>
              <a:rPr sz="2800"/>
            </a:b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is caused by external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environmental)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The mechanisms are outside the reach of individuals and create a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micro/macro g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22:27:11Z</dcterms:created>
  <dc:creator>anders</dc:creator>
  <dc:description/>
  <dc:language>en-US</dc:language>
  <cp:lastModifiedBy>Universitetsansatt</cp:lastModifiedBy>
  <cp:lastPrinted>2001-11-17T15:45:34Z</cp:lastPrinted>
  <dcterms:modified xsi:type="dcterms:W3CDTF">2002-09-28T20:21:48Z</dcterms:modified>
  <cp:revision>327</cp:revision>
  <dc:subject/>
  <dc:title>PowerPoint Presentation  -  Method and Rationale for Evolutionary Application Development</dc:title>
</cp:coreProperties>
</file>