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ct" ContentType="image/x-pict"/>
  <Override PartName="/ppt/media/image23.pct" ContentType="image/x-pict"/>
  <Override PartName="/ppt/media/image26.png" ContentType="image/png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29.pct" ContentType="image/x-pict"/>
  <Override PartName="/ppt/media/image11.pct" ContentType="image/x-pict"/>
  <Override PartName="/ppt/media/image6.pct" ContentType="image/x-pict"/>
  <Override PartName="/ppt/media/image36.pct" ContentType="image/x-pict"/>
  <Override PartName="/ppt/media/image32.pct" ContentType="image/x-pict"/>
  <Override PartName="/ppt/media/image12.pct" ContentType="image/x-pict"/>
  <Override PartName="/ppt/media/image7.pct" ContentType="image/x-pict"/>
  <Override PartName="/ppt/media/image37.pct" ContentType="image/x-pict"/>
  <Override PartName="/ppt/media/image33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9.pct" ContentType="image/x-pict"/>
  <Override PartName="/ppt/media/image10.pct" ContentType="image/x-pict"/>
  <Override PartName="/ppt/media/image35.pct" ContentType="image/x-pict"/>
  <Override PartName="/ppt/media/image5.pct" ContentType="image/x-pict"/>
  <Override PartName="/ppt/media/image2.jpeg" ContentType="image/jpeg"/>
  <Override PartName="/ppt/media/image28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0.pct" ContentType="image/x-pict"/>
  <Override PartName="/ppt/media/image3.png" ContentType="image/png"/>
  <Override PartName="/ppt/media/image14.pct" ContentType="image/x-pict"/>
  <Override PartName="/ppt/media/image31.pct" ContentType="image/x-pict"/>
  <Override PartName="/ppt/media/image1.pct" ContentType="image/x-pict"/>
  <Override PartName="/ppt/media/image24.pct" ContentType="image/x-pict"/>
  <Override PartName="/ppt/media/image15.pct" ContentType="image/x-pict"/>
  <Override PartName="/ppt/media/image1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3971520"/>
            <a:ext cx="754380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7152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6040" y="397152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0960" y="198108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920" y="198108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397152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0960" y="397152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920" y="3971520"/>
            <a:ext cx="242892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397152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6040" y="397152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6040" y="1981080"/>
            <a:ext cx="368136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3971520"/>
            <a:ext cx="7543800" cy="18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2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3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4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5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6" marL="285840" indent="-285840">
              <a:spcBef>
                <a:spcPts val="1500"/>
              </a:spcBef>
              <a:buClr>
                <a:srgbClr val="fafd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" name=""/>
          <p:cNvSpPr/>
          <p:nvPr/>
        </p:nvSpPr>
        <p:spPr>
          <a:xfrm>
            <a:off x="996840" y="6248520"/>
            <a:ext cx="71503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054080" y="1346040"/>
            <a:ext cx="7023240" cy="1778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546520" y="6372360"/>
            <a:ext cx="2619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c5e"/>
                </a:solidFill>
                <a:latin typeface="Arial"/>
              </a:rPr>
              <a:t>Henry Lieberman • MIT Media Lab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image" Target="../media/image8.pct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pct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image" Target="../media/image38.pct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Henry Lieberman</a:t>
            </a:r>
            <a:endParaRPr b="1" lang="en-US" sz="36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edia Laborator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assachusetts Institute of Technolog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ambridge, MA, USA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lieber@media.mit.edu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http://www.media.mit.edu/~lieber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PBE Web site: http://www.media.mit.edu/~lieber /PBE/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Issues in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should the user edit an already-recorded program?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do we keep the representations consistent during editing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an the user edit previous generalizations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can users debug programs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an users step/trace/break programs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Machine learning in Programming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ots of work in machine learn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areful: Watch for hidden assump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ew examples, learns fast, explainabl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71760" indent="-22392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xplanation-based Generalizatio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71760" indent="-22392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ase Based reason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ots of examples, slow but more robus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71760" indent="-22392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Neural networks, PAC learning, data-min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Users of the world, unite!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You have nothing to lose but your error messages!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lmost "political" message of empowerment of user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Users should not be at the mercy of software provider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User procedures and data should not be held hostage by software compani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"Poor man's"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acro recorders in applications, AppleScrip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macs keyboard macro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Interface builders / Scripting languag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Quickeys / OneClick …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Hooking PBE systems to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conventional application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BE systems would like to use conventional interfaces as tools rather than re-implement app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nventional interfaces aren't set up to be operated by an external program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Issues: Access to application data, sharing the interface, parallelism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rticle: Lieberman, IUI 98 "Attaching Interface Agents to Conventional Applications"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Watch What I Do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llen Cypher, ed. MIT Press 1993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373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A Small Matter of Programming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Bonnie Nardi, MIT Press, 1994.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nd-User Programm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cripting languag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pplication-specific languag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"Gardeners"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Eager - Allen Cypher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rogramming by example for Hypercard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Notices patterns in user ac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nticipation highlighting of predicted ac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nthropomorphization of learning agen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xample: Collect subject lines from messag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Eager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76400" y="2133720"/>
            <a:ext cx="3391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Mondrian: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An Instructible Graphical Editor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7480" y="192420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ondrian =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85800" indent="-22860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n object-oriented graphical editor +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85800" indent="-22860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n agent that records user interface actions +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85800" indent="-22860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earning and generalization heuristic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219680" y="4152960"/>
            <a:ext cx="19772280" cy="6088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69480" y="11160"/>
            <a:ext cx="45402480" cy="429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8983760" y="4457880"/>
            <a:ext cx="6540480" cy="34567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5676880" y="4610160"/>
            <a:ext cx="32321520" cy="73429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130720" y="3111480"/>
            <a:ext cx="2870280" cy="146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214200" y="4229280"/>
            <a:ext cx="54713160" cy="41297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4203720" y="1733400"/>
            <a:ext cx="622440" cy="173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301920" y="4648320"/>
            <a:ext cx="3276720" cy="149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Your Wish is My Command: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organ Kaufmann, 2001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73520" y="2286000"/>
            <a:ext cx="300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Mondrian: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An Instructible Graphical Editor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6880" y="1866960"/>
            <a:ext cx="7924680" cy="47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Wizard of Oz Experiment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uman simulates agen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hat kinds of communication between human and agent are plausible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hat kind of knowledge does the agent need to know to perform the task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Wizard of Oz experiment task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Reformat a Bibliograph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03360" indent="-20088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ieberman, H., The One True Path to Intelligent Agents, International Conference on Buzzwords and Hype, Tahiti, 1996.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03360" indent="-20088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[Lieberman 96]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The One True Path to Intelligent Agents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, Int. Conf. on Buzzwords and Hype, Tahiti, (1996).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1" marL="603360" indent="-200880">
              <a:spcBef>
                <a:spcPts val="150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Oz, Wizard Of, Pay No Attention to the Man Behind the Curtain, Journal of Smoke and Mirrors, August 1942, Emerald City, Oz. 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12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Wizard of Oz result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Users can make mistak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Information can be incomplet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s can ask the user if they encounter an error situatio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 could ask the user to supply missing informatio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 could ask the user to edit the exampl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kip steps that don't work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27" name=""/>
          <p:cNvSpPr/>
          <p:nvPr/>
        </p:nvSpPr>
        <p:spPr>
          <a:xfrm>
            <a:off x="1928880" y="848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Wizard of Oz experiment method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User performs task once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1" marL="685800" indent="-228600">
              <a:spcBef>
                <a:spcPts val="125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Thinking aloud”: goals and methods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Agent (secretly) constructs description of actions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1" marL="685800" indent="-228600">
              <a:spcBef>
                <a:spcPts val="1250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In terms of simple “implementable” operations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Agent offers help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Agent performs help according to action description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Agent gives user feedback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Agent accepts advice from user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urvey of "Your Wish" system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stonishingly wide variety of application domains: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Kids, Games, CAD, GIS, Text editing, Graphical editing, Web browsing, Animation, Databases, etc.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Illustrates variety of design decisions in PBE system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ifferent reps for programs, agents, etc.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much inference, generalization, initiative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tagecast Creator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- Smith, Cypher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Programming for kids, grid game world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If you see this pattern of squares, replace it with that pattern of squares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Viz rep of rules, editor/stepper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Generalization on object types, introduce variables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</a:rPr>
              <a:t>Commercially available, success with thousands of users</a:t>
            </a: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A Stagecast Creator Ru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63840" y="2057400"/>
            <a:ext cx="4216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A Stagecast Creator Gam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49520" y="1523880"/>
            <a:ext cx="58435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oontalk - Ken Kahn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rogramming language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is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 a video gam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ost radical programming mode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ncurrent logic programm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bstraction by removing detai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mmercially available, success with kids in school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should be like teaching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User plays the role of a teacher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mputer plays the role of a studen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117960" y="3029040"/>
            <a:ext cx="2940120" cy="2089080"/>
            <a:chOff x="3117960" y="3029040"/>
            <a:chExt cx="2940120" cy="2089080"/>
          </a:xfrm>
        </p:grpSpPr>
        <p:sp>
          <p:nvSpPr>
            <p:cNvPr id="49" name=""/>
            <p:cNvSpPr/>
            <p:nvPr/>
          </p:nvSpPr>
          <p:spPr>
            <a:xfrm>
              <a:off x="3917880" y="3029040"/>
              <a:ext cx="110484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117960" y="3181320"/>
              <a:ext cx="845280" cy="787320"/>
              <a:chOff x="3117960" y="3181320"/>
              <a:chExt cx="845280" cy="787320"/>
            </a:xfrm>
          </p:grpSpPr>
          <p:sp>
            <p:nvSpPr>
              <p:cNvPr id="51" name=""/>
              <p:cNvSpPr/>
              <p:nvPr/>
            </p:nvSpPr>
            <p:spPr>
              <a:xfrm>
                <a:off x="3117960" y="3181320"/>
                <a:ext cx="609480" cy="787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683160" y="3492360"/>
                <a:ext cx="102960" cy="217800"/>
              </a:xfrm>
              <a:custGeom>
                <a:avLst/>
                <a:gdLst/>
                <a:ahLst/>
                <a:rect l="l" t="t" r="r" b="b"/>
                <a:pathLst>
                  <a:path w="65" h="137">
                    <a:moveTo>
                      <a:pt x="32" y="0"/>
                    </a:moveTo>
                    <a:lnTo>
                      <a:pt x="64" y="136"/>
                    </a:lnTo>
                    <a:lnTo>
                      <a:pt x="0" y="13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473280" y="3371760"/>
                <a:ext cx="20340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613320" y="3397320"/>
                <a:ext cx="633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316320" y="3581280"/>
                <a:ext cx="646920" cy="2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460840" y="3587760"/>
              <a:ext cx="501840" cy="520560"/>
              <a:chOff x="5460840" y="3587760"/>
              <a:chExt cx="501840" cy="520560"/>
            </a:xfrm>
          </p:grpSpPr>
          <p:sp>
            <p:nvSpPr>
              <p:cNvPr id="57" name=""/>
              <p:cNvSpPr/>
              <p:nvPr/>
            </p:nvSpPr>
            <p:spPr>
              <a:xfrm>
                <a:off x="5581800" y="3587760"/>
                <a:ext cx="380880" cy="52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549760" y="3784680"/>
                <a:ext cx="65160" cy="154080"/>
              </a:xfrm>
              <a:custGeom>
                <a:avLst/>
                <a:gdLst/>
                <a:ahLst/>
                <a:rect l="l" t="t" r="r" b="b"/>
                <a:pathLst>
                  <a:path w="41" h="97">
                    <a:moveTo>
                      <a:pt x="16" y="0"/>
                    </a:moveTo>
                    <a:lnTo>
                      <a:pt x="0" y="96"/>
                    </a:lnTo>
                    <a:lnTo>
                      <a:pt x="40" y="9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619600" y="3714840"/>
                <a:ext cx="11448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19600" y="3727440"/>
                <a:ext cx="381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460840" y="3848400"/>
                <a:ext cx="368280" cy="18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6032520" y="4013280"/>
              <a:ext cx="0" cy="736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49760" y="4775040"/>
              <a:ext cx="4572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524200" y="4851360"/>
              <a:ext cx="228600" cy="266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80240" y="4851360"/>
              <a:ext cx="177840" cy="266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90840" y="3987720"/>
              <a:ext cx="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390840" y="3619440"/>
              <a:ext cx="774720" cy="698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65760" y="4114800"/>
              <a:ext cx="0" cy="520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422680" y="4622760"/>
              <a:ext cx="330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283360" y="4622760"/>
              <a:ext cx="164880" cy="36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5423040" y="4622400"/>
              <a:ext cx="12600" cy="406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35640" y="4280040"/>
              <a:ext cx="30492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83000" y="4343400"/>
              <a:ext cx="4950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54560" y="3378240"/>
              <a:ext cx="177480" cy="25200"/>
            </a:xfrm>
            <a:prstGeom prst="ellipse">
              <a:avLst/>
            </a:prstGeom>
            <a:solidFill>
              <a:srgbClr val="000000"/>
            </a:solidFill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64240" y="3759120"/>
              <a:ext cx="101520" cy="25560"/>
            </a:xfrm>
            <a:prstGeom prst="ellipse">
              <a:avLst/>
            </a:prstGeom>
            <a:solidFill>
              <a:srgbClr val="000000"/>
            </a:solidFill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oontalk's Visual Languag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58920" y="1905120"/>
            <a:ext cx="48261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Generalizing by Removing Detail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87520" y="1803240"/>
            <a:ext cx="436896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oontalk Sort program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63880" y="1981080"/>
            <a:ext cx="5016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How much intelligence?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- Brad Myers, Rich McDaniel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MU group one of most active and consistent in PB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48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ultitude of systems, "gems" of PB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48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eridot, Lapidary, Jade, Gilt, Tourmaline, C32, Pursuit, Gold, Marquise, Katie, Turquoise, Topaz, Gamu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48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xperience with range of conservative to radical PBE system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48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"Spectrum of Instructibility"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48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radeoff between conveience and control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ursuit's Visual Languag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22640" y="2006640"/>
            <a:ext cx="46987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electing Generalizations in Marquis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55640" y="1676520"/>
            <a:ext cx="58309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Internet Scrapbook - Sugiura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verybody's favorite application area - the Web!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utomates Browse &amp; Cut &amp; Paste applica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do you describe a Web page selection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artial matching, Web design heuristic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mmercially available - preloaded on NEC PC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Internet Scrapbook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06400" y="1981080"/>
            <a:ext cx="5729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riAS - Bauer, Meyer, Dengler, Paul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utomating Browse &amp; Copy &amp; Paste, like Scrapbook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llaborative, mixed-initiative dialo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t any time, agent or user can propose selections, generalizations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hat Next? Can I Stop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Integrates wrapper description language HyQL, InfoBeans dynamic Web sourc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Collaborative Wrapper Definition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9560" y="1752480"/>
            <a:ext cx="77230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(Also called "Programming by Demonstration")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 "watches what you do" in an interactive interfac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Records sequence of operations, data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Generalizes program so that you can use an analogous procedure in new exampl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"Macros on Steroids"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BE for GIS: CSprl 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- Traynor, William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tudy of how end users use Geographical Information System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"Gardeners", "Surrogate Users"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mic-strip PBE languag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A Geographical Info Systems PBE Program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76280" y="1905120"/>
            <a:ext cx="63896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Visual Language for Geographic Information System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12920" y="1822320"/>
            <a:ext cx="65167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BE for Computer Aided Design -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Girard, Pierra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rue "Industrial Strength" PBE, probably the champ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AD users are sophisticated in application domain, willing to specify a lo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rovides complete editing and debugg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Key issues: Naming, Ambiguity in spec/solutions, general control structures: conditionals, loop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Example-Based Programming in Computer-Aided Design 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640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Demonstrating "Hidden Features" - McDaniel, Myer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BE for animated computer gam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YSIWYG - "What you get is all you have"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emonstrate "hidden features" by reifying them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Guides, e.g. Arrows for direc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ophisticated heuristics, lots of inferenc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top This!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0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o Something!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Demonstrating Hidden Feature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761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Report Generation - Masuishi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undane, but hey, could save a lot of tim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ormat generalization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pplication-specific iteratio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istributed to wide user communit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Report Generation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72960" y="1676520"/>
            <a:ext cx="83962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Dynamic Macro - Masui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Notices loops in text editing command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imple, automatic: No start/stop record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ide community of user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lso: POBox  predictive input for PDAs, phones, etc.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in the User Interfac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he same interface used by end-users can be used for programm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mpowers end-users to do programm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No switching between user and programmer interfac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mpowers "visual thinkers"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Dynamic Macro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457360" y="1828800"/>
            <a:ext cx="42292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martEdit - Lau, Domingos, Wolfman, Weld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utomates repetitive text-editing procedur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redictive, anticipatory, loop detectio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Uses version-space learning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martEdit Version Spac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705040" y="1600200"/>
            <a:ext cx="3733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martEdit Screen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63720" y="1014480"/>
            <a:ext cx="72151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Grammex: "Grammars by Example"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- Lieberman, Nardi, Wright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ick out "needles" of structured information in "haystack" of unstructured informatio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irst direct-manipulation user interface to powerful grammar and parsing technolog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how example strings, explain components recursivel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Iterative: System parses, you explai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Defining Recursive Grammar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431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Visual representation of regular  expressions - Blackwell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WYN: "See what you need"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Representation of positive and negative exampl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nticipation of selections updated dynamicall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Representation of grammars as Finite-State machin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User study of understandability of representa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Visual representation of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Regular Expression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317680" y="2057400"/>
            <a:ext cx="450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APE: PBE for Programming Environments - Ruvini, Dony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mbining predictive interfaces with PB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onventional programming environment: Smalltalk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utomates coding, debugging procedur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hat-set, When-set use different learning algorithm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4.5, new algorithm IDHYS can learn non-consecutive patter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Repetitive code in protocol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2680" y="1600200"/>
            <a:ext cx="8917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BE and the "Intelligent Agent" movement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here's been a recent movement toward "intelligent agents" -- proactive, assistive, (possibly anthropomorphic) interfac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BE can be used to make agents </a:t>
            </a:r>
            <a:r>
              <a:rPr b="1" i="1" lang="en-US" sz="2400" spc="-1" strike="noStrike">
                <a:solidFill>
                  <a:srgbClr val="fafd00"/>
                </a:solidFill>
                <a:latin typeface="Palatino"/>
              </a:rPr>
              <a:t>instructibl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 personalities: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Butler/Servant/Secretary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eacher/Student, Master/Apprentic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Familiar - PBE across applications - Paynter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BE for Applescript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pplication-independent, no mods to applications, uses commercial OS scripting languag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Limited by shortcomings of Applescript and application implementa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Familiar arranging file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828800"/>
            <a:ext cx="727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atlin - Gaxiola, Lieberman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Examinability: Some applications will let you look at their data even if you can't record them or use API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BE by comparing states and inducing transformations rather than recording and generalizing ac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atlin - PBE via Examinability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96880" y="1981080"/>
            <a:ext cx="61484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Demonstrating What vs. When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- Wolber, Myer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aying "when" you want something to happen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timulus-Response PB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avlov: Animation scripting system like Macromind Director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avlov driving gam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240" y="1143000"/>
            <a:ext cx="9082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Analogous Examples - Repenning, Perron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gentsheets - Grid world like Stagecast Creator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If-then rules by exampl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Make generalizations by analogy to generalizations of previous example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Analogous Examples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95280" y="2349360"/>
          <a:ext cx="2870280" cy="21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9360"/>
                    <a:ext cx="287028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105520" y="1752480"/>
            <a:ext cx="2692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Visual Generalization - St. Amant, Zettlemoyer, Lieberman, Potter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ctually parse the screen!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imulate human user's visual system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inesses data access problem, hooking to applications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ragile - if viz rep changes, you're screwed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Permits unique visual generalizations not possible by accessing data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52480" y="1600200"/>
            <a:ext cx="5486400" cy="25146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962000" y="1600200"/>
          <a:ext cx="481968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600200"/>
                    <a:ext cx="481968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362320" y="4191120"/>
          <a:ext cx="3678120" cy="195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367812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riggers - "Just the pixels, ma'am"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Issues in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he Generalization Problem (= Data Description)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do I describe actions and data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similar do the actions/data have to be next time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Feedback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does the system show the user what it's learned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dvic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7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can the user influence or modify what the system learns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olitaire by "Parsing the screen"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52600" y="1600200"/>
            <a:ext cx="4438800" cy="2381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174760" y="4267080"/>
            <a:ext cx="47944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Short order programming” exercis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ask: Add similarity-based learning to an action-based learning system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Ingredients: Graphical editor, action recording, relation inference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Things to think about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could we integrate the paradigms of Mondrian and Eager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hat sort of information do we need to get from the graphical editor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hat should the learning algorithm learn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should the result of learning affect the interface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Issues in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should we record the user's actions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At what granularity should things be recorded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an the user interact with the agent during recording? If so, how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o we represent the agent directly in the interface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Do we anthropomorphize the agent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Can users give advice during recording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Turning recording on and off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59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Issues in </a:t>
            </a:r>
            <a:br>
              <a:rPr sz="3600"/>
            </a:b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Programming by Example</a:t>
            </a:r>
            <a:endParaRPr b="1" lang="en-US" sz="3600" spc="-1" strike="noStrike">
              <a:solidFill>
                <a:srgbClr val="eaec5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should the recorded program be represented? 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hould the user see the recorded program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What should it look like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Should the user interact directly with the recorded program? If so, how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to represent examples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</a:rPr>
              <a:t>How to represent generalizations?</a:t>
            </a: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4T21:26:39Z</dcterms:created>
  <dc:creator/>
  <dc:description/>
  <dc:language>en-US</dc:language>
  <cp:lastModifiedBy>***</cp:lastModifiedBy>
  <cp:lastPrinted>2009-04-22T19:24:48Z</cp:lastPrinted>
  <dcterms:modified xsi:type="dcterms:W3CDTF">2001-08-29T13:41:42Z</dcterms:modified>
  <cp:revision>26</cp:revision>
  <dc:subject/>
  <dc:title>Programming by Example Tutorial</dc:title>
</cp:coreProperties>
</file>