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DD64-845E-49BA-A6F6-409450ABDD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a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DODEs and derivatives are pass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E - Macro rec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matic programming/ PBE – infer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the question of declarative programming paradigm at its purist Nik argues that it is possibly 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This is an additional slide, recommended by Nik to back up the other work we are doing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Abstraction can be controllable by the end-u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user can work with predefined agents representing concrete metaph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 drop down to the more abstract to define new agents as nee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ontology is produced from textual DL called GRA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BIS uses concrete representations straight from the dom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ope is highly task and domain specif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ystem takes the users requirements and specifies the software that will be executed. Therefore activ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itia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BIS- Baker Gobel et al. IMG at Manchester working with school of biological science. Task and domain specific EUD t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Expressed via a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spective of sensory chann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(and attributes) +sensory channel = modality (Berns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n-Linguistic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onic/Visual Programming has syntax and semantics therefore a langu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nteresting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Programming arguing visual is inherently natural (concrete) because it visual!, claim that the lack of language (in the textual sense) also makes it more concrete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rigin Of Abs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isation – to generalise need to be abstr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e metaphors- Forcing thinking about domain in terms of objects when more natural in terms of flow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e of Domain- Highly abstract in real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oblem co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amming as problem sol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sk the end-user is using the EUD tool to su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s of G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ing complete – powerful as mainstream languages a matter of skill and effort on part of program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s of Task and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task is user:  searching for information OR searching for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iochemic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form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AF74-6F2B-467B-8593-3CEB5DF7A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4208040"/>
            <a:ext cx="822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7852-1006-4CEB-AF17-A2BFBBE9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420804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420804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AEE4-10BC-42B3-AEF1-DCE1D9035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420804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420804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420804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6840-8BBC-4860-93B4-916A65679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6A22-A505-4130-80E3-AAE36D5C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02A8-933D-445A-8DD3-7EC0C190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42F2-508A-4062-850A-52C1DD3A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3D4D-0A3E-4BBD-A1C4-52CB4FA3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EDA2-A1DE-41AB-B7A2-F7AC8364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420804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B31A-8ED7-4BD5-A404-D48ED941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420804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FE57-0C4A-4359-999E-FA18304C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4208040"/>
            <a:ext cx="822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3603-54E5-4ED6-A3B0-81C7E5F2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1F92-7DCB-44B4-8A8B-6EBD0319CF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298440" cy="3603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55640" y="430200"/>
            <a:ext cx="187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epartment of Compu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Comparative Framework for End User Development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76360" y="3141360"/>
            <a:ext cx="6400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istair Sutclif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ikolay Mehandjiev, Darren Le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artment  Of Comput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M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chester, UK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ystem Initiative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gree of user responsibility for specifying the 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s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 driven- language or composable artef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y supported by a critiquing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chine tracks user behaviour and infers a software solution- assumes an existing artef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intervenes to help design –partial initi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hine generates solution from natural language instructions or observes RW and learns- frontiers of A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32000" y="1197000"/>
            <a:ext cx="61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Active Vs Passi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1712-22BA-4813-9D5D-F6EB9A5BC8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ther issues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cial Context of EU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Collaborative EUD and EUD of CSCW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Autocratic Vs Democratic and Individual Vs Group EU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Communities of EUD developers, markets for components, scripts, et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.   Communication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Sensory channel  (Modality)- audio, visual, hap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Modality + Representation = EUD Paradig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Usability, User Cognition and Cognitive Dimen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chine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arency and  Execution Vs Interpretat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Integration with Software Engineering Paradigms- OO, Agents, et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Software reuse .legacy integ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3F95-6AE1-4841-86EE-FB17687FA1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sychological issues</a:t>
            </a:r>
            <a:endParaRPr b="0" lang="en-US" sz="40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08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ressability and complex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rning or display based cogn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uitiveness, affordances, and transpar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 cost,  effort and e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B9DB-4081-4546-9653-191495A287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velop or Adapt ?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74563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iloring, customisation, personalisation- low effort, limited s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iguration, design by composition- more effort, improved scope but limited by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ruction led design- high effort, good s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e requirements + machine designs- low effort, good s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229600" y="1828800"/>
            <a:ext cx="0" cy="36576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43080" y="609480"/>
            <a:ext cx="132552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AF31-C32B-418B-98F6-3ECCC74105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ODEs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2637000"/>
            <a:ext cx="1965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67000"/>
            <a:ext cx="8351640" cy="69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rchitecture for reducing the conceptual distance between the problem-domain and solution artefa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amming as construction and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ws programming as argumentative process between system and user. Critiquing systems support this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 world, editors, interpreter, solution templates, tutors, cri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DEs can evolve as the end-user becomes more skilled or the domain or task chang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441E-5B7D-4B44-8557-85E9694B50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gentSheets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1413000"/>
            <a:ext cx="8496000" cy="9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ds the DODEs concept by as a general purpose environment + langu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s true programmability through graphical if-then-else rules and simple message pas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chitecture and domain independent tool for simulation and building executable program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d interactive graphical micro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ce a set of agents are implemented it becomes a domain specific tool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4406-D6D3-45A3-8804-B116F8447A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AMBIS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13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oscience databases use multiple query languages from SQL to natural languag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tology, thesaurus, domain specific lexic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MBIS provides a visual ontology in which queries are built up through navigation of a 2D space representing the biochemistry domai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MBIS infers this navigation into the query language program for each of the databas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49F7-2DAE-4248-844E-DFEB819F2E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sing The Framework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DEs “Domain-Orientated Design Environments”. Fischer 1994 - Univ of Colorad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Sheets.  Repenning  1993 - Univ of Color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MBIS  “Transparent Access to Multiple Bioinformatics Information”.  Goble et al 1999 - Univ Of Manch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D055-F6B1-42EC-99FE-FD05708189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osition In Framework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553080" cy="465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0DF5-6C18-443F-BE4F-88B0D2CCA5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osition In Framework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553080" cy="4659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913120" y="4098960"/>
            <a:ext cx="2689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76360" y="4365720"/>
            <a:ext cx="2089080" cy="1581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Speci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r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348000" y="2491920"/>
            <a:ext cx="2952720" cy="1800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E96A-8AA9-475B-8120-2B1A377BA2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identify the contribution from different strands of EUD research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pose research issues and indicate a future research agend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act as a critical evaluation tool for EUD environments and system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3597-8E45-4B59-9308-15F34F2D13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osition In Framework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553080" cy="465912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1332000" y="1916280"/>
            <a:ext cx="4752360" cy="1581120"/>
            <a:chOff x="1332000" y="1916280"/>
            <a:chExt cx="4752360" cy="1581120"/>
          </a:xfrm>
        </p:grpSpPr>
        <p:sp>
          <p:nvSpPr>
            <p:cNvPr id="145" name=""/>
            <p:cNvSpPr/>
            <p:nvPr/>
          </p:nvSpPr>
          <p:spPr>
            <a:xfrm>
              <a:off x="1332000" y="1916280"/>
              <a:ext cx="2172600" cy="1581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Shee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5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ner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5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ssi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5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crete/abstra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71920" y="2345400"/>
              <a:ext cx="2512440" cy="122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BBE0-6C13-4944-B0AD-9C21EA7D83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osition In Framework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553080" cy="46591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716360" y="4221000"/>
            <a:ext cx="2952720" cy="1581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MB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 and Domain Speci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mi-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r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364000" y="2492280"/>
            <a:ext cx="1295640" cy="1728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7DDE-B558-4E8F-9DC2-074B5A4E4C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9640" y="1628640"/>
            <a:ext cx="756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1628640"/>
            <a:ext cx="259236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mework  based on common themes across research 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mits the comparison of tools and the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will help to identify trends and areas for future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771640" y="1484280"/>
            <a:ext cx="5977080" cy="4649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E0BE-0A9C-4DB9-93DA-7E57963E3B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ging paradigms- NL with interactive worlds, inference to help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 freedom, expression and assistance-where is the trade off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ice sensor integration, solution power and learnability trade of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able composable development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UD or design support environments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4D6D-0016-4C25-97E3-8649411C03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hallenges II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 user requirements languages- integration of symbolic programming and clarification dialogues (NL research with SE/HC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straction trade offs- general or domain specific EUD environm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caping from the expert knowledge bottleneck- learning or intellig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quisition env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olutionary computing and EUD- users set parameters for generated sol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cio-technical solutions- design for user motivation and rew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F81B-CD62-451A-A914-5DD5DC16C66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framework and research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framework in a critical review of existing EUD tools and theo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uct an industrial survey to identify successful commercial applications of EUD tools and techniq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37E3-4887-43D8-B5B8-189EFB0C075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osition In Framework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553080" cy="46591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148360" y="4292640"/>
            <a:ext cx="2089080" cy="1581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l 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059280" y="4076280"/>
            <a:ext cx="2017440" cy="360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FF6F-3B0E-400F-8AE4-122888657BA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pproach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0440" y="1447920"/>
            <a:ext cx="82231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iterature survey across the spectrum of disciplines associated with End-User Development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36000" y="2852640"/>
            <a:ext cx="1584000" cy="7923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5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5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51280" y="2852640"/>
            <a:ext cx="1584360" cy="7923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g. Bioinfor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3284640"/>
            <a:ext cx="1584360" cy="7920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5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Artific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5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Intellige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08720" y="2421000"/>
            <a:ext cx="1584360" cy="7920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5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5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27640" y="3933720"/>
            <a:ext cx="1584360" cy="7923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5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5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Syste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4076640"/>
            <a:ext cx="1584360" cy="7923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5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Psychology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5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of programm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2514600"/>
            <a:ext cx="1584360" cy="9144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5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HCI  &am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5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ognitiv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5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Scie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5445000"/>
            <a:ext cx="8208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ically evaluate research and industrial state of the art, create a review pap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4076640"/>
            <a:ext cx="1584000" cy="7923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5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S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1C4C-4835-46F2-BB81-6B0830A8A5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ramework Dimensions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140360" y="1844640"/>
          <a:ext cx="449892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844640"/>
                    <a:ext cx="449892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468360" y="2708280"/>
            <a:ext cx="27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2347920"/>
            <a:ext cx="223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773360"/>
            <a:ext cx="33112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ature of the represent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d in the programming ta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tween computer and end-us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92360" y="2924280"/>
            <a:ext cx="2232000" cy="115236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5084640"/>
            <a:ext cx="3311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126828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45CC-56B8-4E1C-A8EC-9C267A1285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ramework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140360" y="1844640"/>
          <a:ext cx="449892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844640"/>
                    <a:ext cx="449892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468360" y="2565360"/>
            <a:ext cx="27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2205000"/>
            <a:ext cx="223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773360"/>
            <a:ext cx="33112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ature of the represent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d in the programming ta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tween computer and end-us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3141720"/>
            <a:ext cx="3311640" cy="8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breadth of EUD problems 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vironment can suppor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5084640"/>
            <a:ext cx="3311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32000" y="3860640"/>
            <a:ext cx="3311640" cy="4320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126828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28B9-92F7-444E-A11D-107D32237F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ramework 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140360" y="1844640"/>
          <a:ext cx="449892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844640"/>
                    <a:ext cx="449892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468360" y="2565360"/>
            <a:ext cx="27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2205000"/>
            <a:ext cx="223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773360"/>
            <a:ext cx="33112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ature of the represent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d in the programming ta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tween computer and end-us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3141720"/>
            <a:ext cx="3311640" cy="8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breadth of EUD problems 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vironment can suppor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5084640"/>
            <a:ext cx="3311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4508640"/>
            <a:ext cx="3456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 Initi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degree to which the user 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quired to directly specify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419640" y="4723920"/>
            <a:ext cx="2160360" cy="36036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126828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ED34-E323-44C4-AB85-AAD16F972D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presentation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58920" y="167652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edium for exchange of information between user and machi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atural or designed language- text, icons, graphic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n-linguistic representations- graphics, interactive microwolrds, TUIs, physical artefacts, augmented real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nguistic  representations= abstract syntax + lexicon, text, symbolic, iconic, natural langu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dality of communication, audio, speech, visual, haptic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ain and representation interact. e.g. Mathematics Research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47640" y="1197000"/>
            <a:ext cx="597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Abstract Vs Concre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E527-D1B3-4777-B272-7573F15D33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cope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coverage of an EUD to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eneral purp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ring-complete, any task in any domain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chitecture in the sense of Fischer’s DO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ular environment with programmabil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cific Task - Doma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rizontal domains- e.g. finance, training, CAL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tical domains- e.g. ecommerce, bioinformatics, medic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ation systems tasks, support for tasks in the real wor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mension interaction inevitably occurs. Notably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General Purpo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Abstra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19280" y="1197000"/>
            <a:ext cx="59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Task or Domain Specific Vs General Purpo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E2D1-C785-4A14-BDF1-71B4F22A5B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733920" y="1371600"/>
            <a:ext cx="1600200" cy="762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81280" y="2666880"/>
            <a:ext cx="1752840" cy="8384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33720" y="4038480"/>
            <a:ext cx="1676160" cy="762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191120"/>
            <a:ext cx="1676520" cy="7617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33720" y="5410080"/>
            <a:ext cx="1600200" cy="6858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77200" y="304920"/>
            <a:ext cx="4018320" cy="581400"/>
          </a:xfrm>
          <a:prstGeom prst="rect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cope and dom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07200" y="3211560"/>
            <a:ext cx="1285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&amp;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66320" y="2743200"/>
            <a:ext cx="14533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2209680"/>
            <a:ext cx="0" cy="3812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276360" y="3505320"/>
            <a:ext cx="1143000" cy="533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3505320"/>
            <a:ext cx="990720" cy="533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4800600"/>
            <a:ext cx="0" cy="4572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3505320"/>
            <a:ext cx="533520" cy="3808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324120" y="3505320"/>
            <a:ext cx="838440" cy="6094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BF34-1741-4D38-A860-934A82021E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4T09:18:30Z</dcterms:created>
  <dc:creator>Darren Lee</dc:creator>
  <dc:description/>
  <dc:language>en-US</dc:language>
  <cp:lastModifiedBy>sutcliffe</cp:lastModifiedBy>
  <dcterms:modified xsi:type="dcterms:W3CDTF">2002-09-24T14:50:45Z</dcterms:modified>
  <cp:revision>43</cp:revision>
  <dc:subject/>
  <dc:title>A Comparative Framework for End User Develop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16031889</vt:r8>
  </property>
  <property fmtid="{D5CDD505-2E9C-101B-9397-08002B2CF9AE}" pid="3" name="_AuthorEmail">
    <vt:lpwstr>darren.lee@umist.ac.uk</vt:lpwstr>
  </property>
  <property fmtid="{D5CDD505-2E9C-101B-9397-08002B2CF9AE}" pid="4" name="_AuthorEmailDisplayName">
    <vt:lpwstr>Darren Lee</vt:lpwstr>
  </property>
  <property fmtid="{D5CDD505-2E9C-101B-9397-08002B2CF9AE}" pid="5" name="_EmailSubject">
    <vt:lpwstr>EUD.net Presentation</vt:lpwstr>
  </property>
</Properties>
</file>