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562464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68800" y="509400"/>
            <a:ext cx="3396960" cy="25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325520" y="3230280"/>
            <a:ext cx="7275600" cy="3057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562464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ECFF2-1BD4-462A-98EE-153E4C5B96C7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68800" y="509760"/>
            <a:ext cx="3396960" cy="25477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325520" y="3230280"/>
            <a:ext cx="727560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expressing the same results in different expert languages and not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42962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5331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576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42962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576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9168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8336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9168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8336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5331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6781680" cy="6324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629400"/>
            <a:ext cx="9144000" cy="243000"/>
          </a:xfrm>
          <a:prstGeom prst="rect">
            <a:avLst/>
          </a:prstGeom>
          <a:solidFill>
            <a:srgbClr val="ee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0"/>
            <a:ext cx="8305920" cy="380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6629400"/>
            <a:ext cx="746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ri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Francesca Costabile 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sa, September 23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dib2" descr=""/>
          <p:cNvPicPr/>
          <p:nvPr/>
        </p:nvPicPr>
        <p:blipFill>
          <a:blip r:embed="rId3"/>
          <a:stretch/>
        </p:blipFill>
        <p:spPr>
          <a:xfrm>
            <a:off x="0" y="0"/>
            <a:ext cx="838080" cy="361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b2b2b2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b2b2b2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48320" y="0"/>
            <a:ext cx="1522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0"/>
            <a:ext cx="434340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0"/>
            <a:ext cx="8305920" cy="380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dib2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361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73280" y="1063800"/>
            <a:ext cx="77724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sz="4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Supporting Domain-Expert Us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3960" y="2705040"/>
            <a:ext cx="8636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69120" y="615384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isa, 23-24 Septembe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814640" y="3519000"/>
            <a:ext cx="37177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aria Francesca Costabil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partimento di Informatica,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versità di Bari, Ita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abile@di.uniba.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uniba" descr=""/>
          <p:cNvPicPr/>
          <p:nvPr/>
        </p:nvPicPr>
        <p:blipFill>
          <a:blip r:embed="rId1"/>
          <a:stretch/>
        </p:blipFill>
        <p:spPr>
          <a:xfrm>
            <a:off x="3298680" y="3718080"/>
            <a:ext cx="8524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User diversity within a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t depends not only on user skill, culture, knowledge, but also on specific abilities (physical/cognitve), tasks and contex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sing the system changes the users, and as they change they will use the system in new way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Nielsen, Usability Engine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w uses of the system make the environment evolve and force to adapt the system to the evolved user an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990720" y="1752480"/>
            <a:ext cx="7238880" cy="4038840"/>
            <a:chOff x="990720" y="1752480"/>
            <a:chExt cx="7238880" cy="4038840"/>
          </a:xfrm>
        </p:grpSpPr>
        <p:sp>
          <p:nvSpPr>
            <p:cNvPr id="138" name=""/>
            <p:cNvSpPr/>
            <p:nvPr/>
          </p:nvSpPr>
          <p:spPr>
            <a:xfrm>
              <a:off x="990720" y="2514600"/>
              <a:ext cx="2971800" cy="2514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90920" y="3276720"/>
              <a:ext cx="1218960" cy="12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7800" y="2514600"/>
              <a:ext cx="2971800" cy="2514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10080" y="3200400"/>
              <a:ext cx="121932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19520" y="1752480"/>
              <a:ext cx="3886200" cy="685800"/>
            </a:xfrm>
            <a:custGeom>
              <a:avLst/>
              <a:gdLst>
                <a:gd name="textAreaLeft" fmla="*/ 680040 w 3886200"/>
                <a:gd name="textAreaRight" fmla="*/ 2817720 w 388620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818800" y="5029200"/>
              <a:ext cx="3429000" cy="762120"/>
            </a:xfrm>
            <a:custGeom>
              <a:avLst/>
              <a:gdLst>
                <a:gd name="textAreaLeft" fmla="*/ 600120 w 3429000"/>
                <a:gd name="textAreaRight" fmla="*/ 2486160 w 342900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9880" y="2971800"/>
              <a:ext cx="1828800" cy="304920"/>
            </a:xfrm>
            <a:custGeom>
              <a:avLst/>
              <a:gdLst>
                <a:gd name="textAreaLeft" fmla="*/ 320040 w 1828800"/>
                <a:gd name="textAreaRight" fmla="*/ 1325880 w 182880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733920" y="4266360"/>
              <a:ext cx="1752480" cy="304920"/>
            </a:xfrm>
            <a:custGeom>
              <a:avLst/>
              <a:gdLst>
                <a:gd name="textAreaLeft" fmla="*/ 306720 w 1752480"/>
                <a:gd name="textAreaRight" fmla="*/ 1270800 w 175248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14800" y="2133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oo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35812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Loop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29718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71600" y="297180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Organizational 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43200" y="3429000"/>
              <a:ext cx="99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User view of the t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35812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438280" y="59436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dapted from [Bourguin &amp; al.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User tailo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ser diversity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user tailo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coupling between pictorial and computational representations of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CL theory of visual sentences and model of visual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PCL interaction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82760" y="3213000"/>
            <a:ext cx="2260440" cy="102888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6160" y="3022560"/>
            <a:ext cx="1270080" cy="1435320"/>
          </a:xfrm>
          <a:prstGeom prst="rect">
            <a:avLst/>
          </a:prstGeom>
          <a:solidFill>
            <a:srgbClr val="66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30400" y="327672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035840" y="3238560"/>
            <a:ext cx="9907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3871800" y="2847960"/>
            <a:ext cx="1409760" cy="1752480"/>
            <a:chOff x="3871800" y="2847960"/>
            <a:chExt cx="1409760" cy="1752480"/>
          </a:xfrm>
        </p:grpSpPr>
        <p:sp>
          <p:nvSpPr>
            <p:cNvPr id="162" name=""/>
            <p:cNvSpPr/>
            <p:nvPr/>
          </p:nvSpPr>
          <p:spPr>
            <a:xfrm>
              <a:off x="3871800" y="2847960"/>
              <a:ext cx="1409760" cy="1752480"/>
            </a:xfrm>
            <a:prstGeom prst="flowChartPredefinedProcess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53520" y="3433680"/>
              <a:ext cx="12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3200" spc="-1" strike="noStrike">
                  <a:solidFill>
                    <a:srgbClr val="ffffff"/>
                  </a:solidFill>
                  <a:latin typeface="Times New Roman"/>
                </a:rPr>
                <a:t>scre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H="1">
            <a:off x="0" y="2082960"/>
            <a:ext cx="719280" cy="3289320"/>
          </a:xfrm>
          <a:prstGeom prst="leftArrowCallout">
            <a:avLst>
              <a:gd name="adj1" fmla="val 114337"/>
              <a:gd name="adj2" fmla="val 114327"/>
              <a:gd name="adj3" fmla="val 16667"/>
              <a:gd name="adj4" fmla="val 66673"/>
            </a:avLst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8069400" y="2094840"/>
            <a:ext cx="718920" cy="3289320"/>
          </a:xfrm>
          <a:prstGeom prst="leftArrowCallout">
            <a:avLst>
              <a:gd name="adj1" fmla="val 114395"/>
              <a:gd name="adj2" fmla="val 114384"/>
              <a:gd name="adj3" fmla="val 16667"/>
              <a:gd name="adj4" fmla="val 66673"/>
            </a:avLst>
          </a:prstGeom>
          <a:solidFill>
            <a:srgbClr val="66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 rot="5400000">
            <a:off x="-1365480" y="3543480"/>
            <a:ext cx="3174840" cy="39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0">
                  <a:solidFill>
                    <a:srgbClr val="000000"/>
                  </a:solidFill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reasoning</a:t>
            </a:r>
            <a:endParaRPr b="0" lang="en-US" sz="2800" spc="1" strike="noStrike">
              <a:ln cap="sq" w="0">
                <a:solidFill>
                  <a:srgbClr val="000000"/>
                </a:solidFill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 rot="5400000">
            <a:off x="6952680" y="3530520"/>
            <a:ext cx="3175200" cy="39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0">
                  <a:solidFill>
                    <a:srgbClr val="000000"/>
                  </a:solidFill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computing</a:t>
            </a:r>
            <a:endParaRPr b="0" lang="en-US" sz="2800" spc="1" strike="noStrike">
              <a:ln cap="sq" w="0">
                <a:solidFill>
                  <a:srgbClr val="000000"/>
                </a:solidFill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PCL interaction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482760" y="3213000"/>
            <a:ext cx="2260440" cy="102888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96160" y="3022560"/>
            <a:ext cx="1270080" cy="1435320"/>
          </a:xfrm>
          <a:prstGeom prst="rect">
            <a:avLst/>
          </a:prstGeom>
          <a:solidFill>
            <a:srgbClr val="66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30400" y="327672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035840" y="3238560"/>
            <a:ext cx="9907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3871800" y="2847960"/>
            <a:ext cx="1409760" cy="1752480"/>
            <a:chOff x="3871800" y="2847960"/>
            <a:chExt cx="1409760" cy="1752480"/>
          </a:xfrm>
        </p:grpSpPr>
        <p:sp>
          <p:nvSpPr>
            <p:cNvPr id="174" name=""/>
            <p:cNvSpPr/>
            <p:nvPr/>
          </p:nvSpPr>
          <p:spPr>
            <a:xfrm>
              <a:off x="3871800" y="2847960"/>
              <a:ext cx="1409760" cy="1752480"/>
            </a:xfrm>
            <a:prstGeom prst="flowChartPredefinedProcess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53520" y="3433680"/>
              <a:ext cx="12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3200" spc="-1" strike="noStrike">
                  <a:solidFill>
                    <a:srgbClr val="ffffff"/>
                  </a:solidFill>
                  <a:latin typeface="Times New Roman"/>
                </a:rPr>
                <a:t>scre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H="1">
            <a:off x="0" y="2082960"/>
            <a:ext cx="719280" cy="3289320"/>
          </a:xfrm>
          <a:prstGeom prst="leftArrowCallout">
            <a:avLst>
              <a:gd name="adj1" fmla="val 114337"/>
              <a:gd name="adj2" fmla="val 114327"/>
              <a:gd name="adj3" fmla="val 16667"/>
              <a:gd name="adj4" fmla="val 66673"/>
            </a:avLst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8069400" y="2094840"/>
            <a:ext cx="718920" cy="3289320"/>
          </a:xfrm>
          <a:prstGeom prst="leftArrowCallout">
            <a:avLst>
              <a:gd name="adj1" fmla="val 114395"/>
              <a:gd name="adj2" fmla="val 114384"/>
              <a:gd name="adj3" fmla="val 16667"/>
              <a:gd name="adj4" fmla="val 66673"/>
            </a:avLst>
          </a:prstGeom>
          <a:solidFill>
            <a:srgbClr val="66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 rot="5400000">
            <a:off x="-1365480" y="3543480"/>
            <a:ext cx="3174840" cy="39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0">
                  <a:solidFill>
                    <a:srgbClr val="000000"/>
                  </a:solidFill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reasoning</a:t>
            </a:r>
            <a:endParaRPr b="0" lang="en-US" sz="2800" spc="1" strike="noStrike">
              <a:ln cap="sq" w="0">
                <a:solidFill>
                  <a:srgbClr val="000000"/>
                </a:solidFill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 rot="5400000">
            <a:off x="6952680" y="3530520"/>
            <a:ext cx="3175200" cy="39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0">
                  <a:solidFill>
                    <a:srgbClr val="000000"/>
                  </a:solidFill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computing</a:t>
            </a:r>
            <a:endParaRPr b="0" lang="en-US" sz="2800" spc="1" strike="noStrike">
              <a:ln cap="sq" w="0">
                <a:solidFill>
                  <a:srgbClr val="000000"/>
                </a:solidFill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79640" y="4495680"/>
            <a:ext cx="2539800" cy="635040"/>
          </a:xfrm>
          <a:prstGeom prst="rightArrow">
            <a:avLst>
              <a:gd name="adj1" fmla="val 50000"/>
              <a:gd name="adj2" fmla="val 99986"/>
            </a:avLst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46520" y="459432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ter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499000" y="4521240"/>
            <a:ext cx="2540160" cy="63504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75720" y="459432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ter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PCL interaction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482760" y="3213000"/>
            <a:ext cx="2260440" cy="102888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96160" y="3022560"/>
            <a:ext cx="1270080" cy="1435320"/>
          </a:xfrm>
          <a:prstGeom prst="rect">
            <a:avLst/>
          </a:prstGeom>
          <a:solidFill>
            <a:srgbClr val="66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30400" y="327672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035840" y="3238560"/>
            <a:ext cx="9907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3871800" y="2847960"/>
            <a:ext cx="1409760" cy="1752480"/>
            <a:chOff x="3871800" y="2847960"/>
            <a:chExt cx="1409760" cy="1752480"/>
          </a:xfrm>
        </p:grpSpPr>
        <p:sp>
          <p:nvSpPr>
            <p:cNvPr id="190" name=""/>
            <p:cNvSpPr/>
            <p:nvPr/>
          </p:nvSpPr>
          <p:spPr>
            <a:xfrm>
              <a:off x="3871800" y="2847960"/>
              <a:ext cx="1409760" cy="1752480"/>
            </a:xfrm>
            <a:prstGeom prst="flowChartPredefinedProcess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53520" y="3433680"/>
              <a:ext cx="12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3200" spc="-1" strike="noStrike">
                  <a:solidFill>
                    <a:srgbClr val="ffffff"/>
                  </a:solidFill>
                  <a:latin typeface="Times New Roman"/>
                </a:rPr>
                <a:t>scre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H="1">
            <a:off x="0" y="2082960"/>
            <a:ext cx="719280" cy="3289320"/>
          </a:xfrm>
          <a:prstGeom prst="leftArrowCallout">
            <a:avLst>
              <a:gd name="adj1" fmla="val 114337"/>
              <a:gd name="adj2" fmla="val 114327"/>
              <a:gd name="adj3" fmla="val 16667"/>
              <a:gd name="adj4" fmla="val 66673"/>
            </a:avLst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69400" y="2094840"/>
            <a:ext cx="718920" cy="3289320"/>
          </a:xfrm>
          <a:prstGeom prst="leftArrowCallout">
            <a:avLst>
              <a:gd name="adj1" fmla="val 114395"/>
              <a:gd name="adj2" fmla="val 114384"/>
              <a:gd name="adj3" fmla="val 16667"/>
              <a:gd name="adj4" fmla="val 66673"/>
            </a:avLst>
          </a:prstGeom>
          <a:solidFill>
            <a:srgbClr val="66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 rot="5400000">
            <a:off x="-1365480" y="3543480"/>
            <a:ext cx="3174840" cy="39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0">
                  <a:solidFill>
                    <a:srgbClr val="000000"/>
                  </a:solidFill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reasoning</a:t>
            </a:r>
            <a:endParaRPr b="0" lang="en-US" sz="2800" spc="1" strike="noStrike">
              <a:ln cap="sq" w="0">
                <a:solidFill>
                  <a:srgbClr val="000000"/>
                </a:solidFill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 rot="5400000">
            <a:off x="6952680" y="3530520"/>
            <a:ext cx="3175200" cy="39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0">
                  <a:solidFill>
                    <a:srgbClr val="000000"/>
                  </a:solidFill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computing</a:t>
            </a:r>
            <a:endParaRPr b="0" lang="en-US" sz="2800" spc="1" strike="noStrike">
              <a:ln cap="sq" w="0">
                <a:solidFill>
                  <a:srgbClr val="000000"/>
                </a:solidFill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79640" y="4495680"/>
            <a:ext cx="2539800" cy="635040"/>
          </a:xfrm>
          <a:prstGeom prst="rightArrow">
            <a:avLst>
              <a:gd name="adj1" fmla="val 50000"/>
              <a:gd name="adj2" fmla="val 99986"/>
            </a:avLst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46520" y="459432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ter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499000" y="4521240"/>
            <a:ext cx="2540160" cy="63504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75720" y="459432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ter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054080" y="5041800"/>
            <a:ext cx="2540160" cy="63504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3200" y="510228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49760" y="5041800"/>
            <a:ext cx="2540160" cy="63504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39360" y="511488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characteristic struc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characteristic structure (cs) is a set of pixels relevant to the interaction proces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16720" y="4165560"/>
            <a:ext cx="1384560" cy="1384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932040" y="4365720"/>
            <a:ext cx="1738080" cy="1136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192560" y="4616280"/>
            <a:ext cx="21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attributed symbols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0" i="1" lang="it-IT" sz="24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an be identified on an imag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 the scr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computer interprets every gesture with respect to the imag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n the screen using a description </a:t>
            </a:r>
            <a:r>
              <a:rPr b="0" i="1" lang="it-IT" sz="24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f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s a set of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ttributed symbol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each describing the computational meaning of a </a:t>
            </a:r>
            <a:r>
              <a:rPr b="0" i="1" lang="it-IT" sz="24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Bullet (b11, 279, 224, 18, blue, comp-action=‘link to a page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uple of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" y="5003640"/>
            <a:ext cx="519120" cy="4874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visual sent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elations betwee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haracteristic structur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ttributed symbol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re specified by 2 fun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nt: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ahoma"/>
              </a:rPr>
              <a:t>i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(interpretation func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s the set of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n imag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mat: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ahoma"/>
              </a:rPr>
              <a:t>i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(materialization func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isual sentenc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vs) is a tri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&lt; i, d, &lt;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ma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&gt; 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isual language V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s a set of v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mat &amp; i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concept is materialised on the screen through a mat function that associates the attributed symbol describing the concept to a specific 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same concept can be materialised in another cs through a different mat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 &amp; mat allow user tail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o we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-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main-expert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haracteristics of systems for domain-expert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ftware Shaping Workshops: environments for supporting domain-expert users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Example in earth science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 Environmental Ag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er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 interpretation of satellite images to obtain medium and long term environmental foreca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ze the forecast results into reports and thematic maps for different communities of client experts (planner, decision maker, 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wo categories of exper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ri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photo-interpreter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cler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haring similar notations but having different tasks to achie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Image4c" descr=""/>
          <p:cNvPicPr/>
          <p:nvPr/>
        </p:nvPicPr>
        <p:blipFill>
          <a:blip r:embed="rId1"/>
          <a:stretch/>
        </p:blipFill>
        <p:spPr>
          <a:xfrm>
            <a:off x="1116000" y="2100240"/>
            <a:ext cx="2016000" cy="3405240"/>
          </a:xfrm>
          <a:prstGeom prst="rect">
            <a:avLst/>
          </a:prstGeom>
          <a:ln w="0">
            <a:noFill/>
          </a:ln>
        </p:spPr>
      </p:pic>
      <p:pic>
        <p:nvPicPr>
          <p:cNvPr id="219" name="Image5c" descr=""/>
          <p:cNvPicPr/>
          <p:nvPr/>
        </p:nvPicPr>
        <p:blipFill>
          <a:blip r:embed="rId2"/>
          <a:stretch/>
        </p:blipFill>
        <p:spPr>
          <a:xfrm>
            <a:off x="5881680" y="2085840"/>
            <a:ext cx="2079720" cy="3337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int &amp; mat for the photo-interpret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376440" y="3629160"/>
            <a:ext cx="2346480" cy="884520"/>
            <a:chOff x="3376440" y="3629160"/>
            <a:chExt cx="2346480" cy="884520"/>
          </a:xfrm>
        </p:grpSpPr>
        <p:sp>
          <p:nvSpPr>
            <p:cNvPr id="222" name=""/>
            <p:cNvSpPr/>
            <p:nvPr/>
          </p:nvSpPr>
          <p:spPr>
            <a:xfrm>
              <a:off x="3376440" y="3746520"/>
              <a:ext cx="736920" cy="355680"/>
            </a:xfrm>
            <a:prstGeom prst="rightArrow">
              <a:avLst>
                <a:gd name="adj1" fmla="val 50000"/>
                <a:gd name="adj2" fmla="val 51797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86360" y="3755880"/>
              <a:ext cx="736560" cy="355680"/>
            </a:xfrm>
            <a:prstGeom prst="rightArrow">
              <a:avLst>
                <a:gd name="adj1" fmla="val 50000"/>
                <a:gd name="adj2" fmla="val 51771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17840" y="3629160"/>
              <a:ext cx="53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90840" y="4003560"/>
              <a:ext cx="689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i="1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51440" y="4003560"/>
              <a:ext cx="75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mat</a:t>
              </a:r>
              <a:r>
                <a:rPr b="0" i="1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int &amp; mat for the cler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276200" y="2211480"/>
            <a:ext cx="6577200" cy="3443040"/>
            <a:chOff x="1276200" y="2211480"/>
            <a:chExt cx="6577200" cy="3443040"/>
          </a:xfrm>
        </p:grpSpPr>
        <p:pic>
          <p:nvPicPr>
            <p:cNvPr id="229" name="Image8c" descr=""/>
            <p:cNvPicPr/>
            <p:nvPr/>
          </p:nvPicPr>
          <p:blipFill>
            <a:blip r:embed="rId1"/>
            <a:stretch/>
          </p:blipFill>
          <p:spPr>
            <a:xfrm>
              <a:off x="5837400" y="2211480"/>
              <a:ext cx="2016000" cy="340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"/>
            <p:cNvGrpSpPr/>
            <p:nvPr/>
          </p:nvGrpSpPr>
          <p:grpSpPr>
            <a:xfrm>
              <a:off x="1276200" y="2236680"/>
              <a:ext cx="2019240" cy="3417840"/>
              <a:chOff x="1276200" y="2236680"/>
              <a:chExt cx="2019240" cy="34178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1276200" y="2236680"/>
                <a:ext cx="2019240" cy="3417840"/>
                <a:chOff x="1276200" y="2236680"/>
                <a:chExt cx="2019240" cy="3417840"/>
              </a:xfrm>
            </p:grpSpPr>
            <p:pic>
              <p:nvPicPr>
                <p:cNvPr id="232" name="Image7c" descr=""/>
                <p:cNvPicPr/>
                <p:nvPr/>
              </p:nvPicPr>
              <p:blipFill>
                <a:blip r:embed="rId2"/>
                <a:srcRect l="0" t="0" r="0" b="87282"/>
                <a:stretch/>
              </p:blipFill>
              <p:spPr>
                <a:xfrm>
                  <a:off x="1276200" y="2236680"/>
                  <a:ext cx="2016000" cy="43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Image4c" descr=""/>
                <p:cNvPicPr/>
                <p:nvPr/>
              </p:nvPicPr>
              <p:blipFill>
                <a:blip r:embed="rId3"/>
                <a:srcRect l="0" t="12033" r="0" b="0"/>
                <a:stretch/>
              </p:blipFill>
              <p:spPr>
                <a:xfrm>
                  <a:off x="1279080" y="2658960"/>
                  <a:ext cx="2016360" cy="2995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34" name="Image8c" descr=""/>
              <p:cNvPicPr/>
              <p:nvPr/>
            </p:nvPicPr>
            <p:blipFill>
              <a:blip r:embed="rId4"/>
              <a:srcRect l="25115" t="24619" r="15745" b="72404"/>
              <a:stretch/>
            </p:blipFill>
            <p:spPr>
              <a:xfrm>
                <a:off x="1784520" y="3090960"/>
                <a:ext cx="1191960" cy="101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" name=""/>
            <p:cNvGrpSpPr/>
            <p:nvPr/>
          </p:nvGrpSpPr>
          <p:grpSpPr>
            <a:xfrm>
              <a:off x="3376440" y="3629160"/>
              <a:ext cx="2346480" cy="884520"/>
              <a:chOff x="3376440" y="3629160"/>
              <a:chExt cx="2346480" cy="884520"/>
            </a:xfrm>
          </p:grpSpPr>
          <p:sp>
            <p:nvSpPr>
              <p:cNvPr id="236" name=""/>
              <p:cNvSpPr/>
              <p:nvPr/>
            </p:nvSpPr>
            <p:spPr>
              <a:xfrm>
                <a:off x="3376440" y="3746520"/>
                <a:ext cx="736920" cy="355680"/>
              </a:xfrm>
              <a:prstGeom prst="rightArrow">
                <a:avLst>
                  <a:gd name="adj1" fmla="val 50000"/>
                  <a:gd name="adj2" fmla="val 51797"/>
                </a:avLst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86360" y="3755880"/>
                <a:ext cx="736560" cy="355680"/>
              </a:xfrm>
              <a:prstGeom prst="rightArrow">
                <a:avLst>
                  <a:gd name="adj1" fmla="val 50000"/>
                  <a:gd name="adj2" fmla="val 51771"/>
                </a:avLst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7840" y="3629160"/>
                <a:ext cx="53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800" spc="-1" strike="noStrike">
                    <a:solidFill>
                      <a:srgbClr val="ff33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390840" y="4003560"/>
                <a:ext cx="689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int</a:t>
                </a:r>
                <a:r>
                  <a:rPr b="0" i="1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51440" y="4003560"/>
                <a:ext cx="75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mat</a:t>
                </a:r>
                <a:r>
                  <a:rPr b="0" i="1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How to support domain-expert us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ign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vironmen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ich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main-exper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nteract in their visual notations a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ith tools familiar to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Software Shaping Worksho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ftware environments as workshops in which users find and use virtual tools resembling their notations and habits and necessary to accomplish  their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nalogy to real workshops, such as blacksmith or joiner worksh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re user categories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SW hierarc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3809880" y="2666880"/>
            <a:ext cx="2138760" cy="1752840"/>
            <a:chOff x="3809880" y="2666880"/>
            <a:chExt cx="2138760" cy="1752840"/>
          </a:xfrm>
        </p:grpSpPr>
        <p:sp>
          <p:nvSpPr>
            <p:cNvPr id="246" name=""/>
            <p:cNvSpPr/>
            <p:nvPr/>
          </p:nvSpPr>
          <p:spPr>
            <a:xfrm>
              <a:off x="3809880" y="3352680"/>
              <a:ext cx="1524240" cy="106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19720" y="26668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3429000"/>
              <a:ext cx="16002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ystem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Glac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25360" y="274320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819520" y="4557600"/>
            <a:ext cx="3504960" cy="1843200"/>
            <a:chOff x="2819520" y="4557600"/>
            <a:chExt cx="3504960" cy="1843200"/>
          </a:xfrm>
        </p:grpSpPr>
        <p:sp>
          <p:nvSpPr>
            <p:cNvPr id="251" name=""/>
            <p:cNvSpPr/>
            <p:nvPr/>
          </p:nvSpPr>
          <p:spPr>
            <a:xfrm>
              <a:off x="5029200" y="5334120"/>
              <a:ext cx="129528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19520" y="5334120"/>
              <a:ext cx="129528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568600">
              <a:off x="5067000" y="4610160"/>
              <a:ext cx="685800" cy="6094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16031400">
              <a:off x="3161880" y="4610160"/>
              <a:ext cx="685800" cy="60948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5520" y="5410080"/>
              <a:ext cx="12189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pplication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moni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87280" y="47242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95480" y="5410080"/>
              <a:ext cx="121932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pplication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glac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962520" y="1447920"/>
            <a:ext cx="1371600" cy="1066680"/>
            <a:chOff x="3962520" y="1447920"/>
            <a:chExt cx="1371600" cy="1066680"/>
          </a:xfrm>
        </p:grpSpPr>
        <p:sp>
          <p:nvSpPr>
            <p:cNvPr id="259" name=""/>
            <p:cNvSpPr/>
            <p:nvPr/>
          </p:nvSpPr>
          <p:spPr>
            <a:xfrm>
              <a:off x="3962520" y="1447920"/>
              <a:ext cx="129528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62520" y="1523880"/>
              <a:ext cx="13716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ystem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SwEngin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524960" y="2423880"/>
            <a:ext cx="6247440" cy="1995840"/>
            <a:chOff x="1524960" y="2423880"/>
            <a:chExt cx="6247440" cy="1995840"/>
          </a:xfrm>
        </p:grpSpPr>
        <p:sp>
          <p:nvSpPr>
            <p:cNvPr id="262" name=""/>
            <p:cNvSpPr/>
            <p:nvPr/>
          </p:nvSpPr>
          <p:spPr>
            <a:xfrm>
              <a:off x="1752480" y="3352680"/>
              <a:ext cx="1524240" cy="106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67280" y="3352680"/>
              <a:ext cx="1524240" cy="106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568600">
              <a:off x="5752800" y="2476440"/>
              <a:ext cx="685800" cy="6094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rot="16031400">
              <a:off x="2628000" y="2476080"/>
              <a:ext cx="685800" cy="60984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52480" y="3429000"/>
              <a:ext cx="16002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ystem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Air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67280" y="3429000"/>
              <a:ext cx="16002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ystem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Veg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77120" y="26668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4960" y="26668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26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41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44080" y="4495680"/>
            <a:ext cx="7014600" cy="1069560"/>
            <a:chOff x="1144080" y="4495680"/>
            <a:chExt cx="7014600" cy="1069560"/>
          </a:xfrm>
        </p:grpSpPr>
        <p:sp>
          <p:nvSpPr>
            <p:cNvPr id="273" name=""/>
            <p:cNvSpPr/>
            <p:nvPr/>
          </p:nvSpPr>
          <p:spPr>
            <a:xfrm>
              <a:off x="6935400" y="46483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44956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771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44080" y="46483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86000" y="44956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A 3-level Visual Workshop Hierarc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Image4c" descr=""/>
          <p:cNvPicPr/>
          <p:nvPr/>
        </p:nvPicPr>
        <p:blipFill>
          <a:blip r:embed="rId1"/>
          <a:stretch/>
        </p:blipFill>
        <p:spPr>
          <a:xfrm>
            <a:off x="652320" y="2100240"/>
            <a:ext cx="2016360" cy="3405240"/>
          </a:xfrm>
          <a:prstGeom prst="rect">
            <a:avLst/>
          </a:prstGeom>
          <a:ln w="0">
            <a:noFill/>
          </a:ln>
        </p:spPr>
      </p:pic>
      <p:pic>
        <p:nvPicPr>
          <p:cNvPr id="281" name="Image5c" descr=""/>
          <p:cNvPicPr/>
          <p:nvPr/>
        </p:nvPicPr>
        <p:blipFill>
          <a:blip r:embed="rId2"/>
          <a:stretch/>
        </p:blipFill>
        <p:spPr>
          <a:xfrm>
            <a:off x="3446640" y="2085840"/>
            <a:ext cx="2079360" cy="3337200"/>
          </a:xfrm>
          <a:prstGeom prst="rect">
            <a:avLst/>
          </a:prstGeom>
          <a:ln w="0">
            <a:noFill/>
          </a:ln>
        </p:spPr>
      </p:pic>
      <p:pic>
        <p:nvPicPr>
          <p:cNvPr id="282" name="Image6c" descr=""/>
          <p:cNvPicPr/>
          <p:nvPr/>
        </p:nvPicPr>
        <p:blipFill>
          <a:blip r:embed="rId3"/>
          <a:stretch/>
        </p:blipFill>
        <p:spPr>
          <a:xfrm>
            <a:off x="6261120" y="2092320"/>
            <a:ext cx="2070000" cy="32860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photo-interpreter environ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371520" y="5635800"/>
            <a:ext cx="827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hoto-interpreter obtains the spectral signature of the ‘ablation area’ using tools and notations familiar to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73800" y="3772080"/>
            <a:ext cx="736560" cy="355320"/>
          </a:xfrm>
          <a:prstGeom prst="rightArrow">
            <a:avLst>
              <a:gd name="adj1" fmla="val 50000"/>
              <a:gd name="adj2" fmla="val 51824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55800" y="3746520"/>
            <a:ext cx="736560" cy="355680"/>
          </a:xfrm>
          <a:prstGeom prst="rightArrow">
            <a:avLst>
              <a:gd name="adj1" fmla="val 50000"/>
              <a:gd name="adj2" fmla="val 51771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clerk environ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622440" y="5727600"/>
            <a:ext cx="74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erk obtains the glaciological parameters using the button ‘ablation area’ using tools and notations familiar to h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44480" y="1952640"/>
            <a:ext cx="7537680" cy="3443400"/>
            <a:chOff x="744480" y="1952640"/>
            <a:chExt cx="7537680" cy="3443400"/>
          </a:xfrm>
        </p:grpSpPr>
        <p:pic>
          <p:nvPicPr>
            <p:cNvPr id="290" name="Image9c" descr=""/>
            <p:cNvPicPr/>
            <p:nvPr/>
          </p:nvPicPr>
          <p:blipFill>
            <a:blip r:embed="rId1"/>
            <a:stretch/>
          </p:blipFill>
          <p:spPr>
            <a:xfrm>
              <a:off x="6265800" y="1990800"/>
              <a:ext cx="2016360" cy="34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473800" y="3586320"/>
              <a:ext cx="736560" cy="355320"/>
            </a:xfrm>
            <a:prstGeom prst="rightArrow">
              <a:avLst>
                <a:gd name="adj1" fmla="val 50000"/>
                <a:gd name="adj2" fmla="val 51824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44480" y="1952640"/>
              <a:ext cx="4734000" cy="3443040"/>
              <a:chOff x="744480" y="1952640"/>
              <a:chExt cx="4734000" cy="3443040"/>
            </a:xfrm>
          </p:grpSpPr>
          <p:pic>
            <p:nvPicPr>
              <p:cNvPr id="293" name="Image8c" descr=""/>
              <p:cNvPicPr/>
              <p:nvPr/>
            </p:nvPicPr>
            <p:blipFill>
              <a:blip r:embed="rId2"/>
              <a:stretch/>
            </p:blipFill>
            <p:spPr>
              <a:xfrm>
                <a:off x="3462120" y="1952640"/>
                <a:ext cx="2016360" cy="340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4" name=""/>
              <p:cNvGrpSpPr/>
              <p:nvPr/>
            </p:nvGrpSpPr>
            <p:grpSpPr>
              <a:xfrm>
                <a:off x="744480" y="1977840"/>
                <a:ext cx="2019240" cy="3417840"/>
                <a:chOff x="744480" y="1977840"/>
                <a:chExt cx="2019240" cy="3417840"/>
              </a:xfrm>
            </p:grpSpPr>
            <p:pic>
              <p:nvPicPr>
                <p:cNvPr id="295" name="Image7c" descr=""/>
                <p:cNvPicPr/>
                <p:nvPr/>
              </p:nvPicPr>
              <p:blipFill>
                <a:blip r:embed="rId3"/>
                <a:srcRect l="0" t="0" r="0" b="87282"/>
                <a:stretch/>
              </p:blipFill>
              <p:spPr>
                <a:xfrm>
                  <a:off x="744480" y="1977840"/>
                  <a:ext cx="2016000" cy="43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Image4c" descr=""/>
                <p:cNvPicPr/>
                <p:nvPr/>
              </p:nvPicPr>
              <p:blipFill>
                <a:blip r:embed="rId4"/>
                <a:srcRect l="0" t="12033" r="0" b="0"/>
                <a:stretch/>
              </p:blipFill>
              <p:spPr>
                <a:xfrm>
                  <a:off x="747360" y="2400120"/>
                  <a:ext cx="2016360" cy="2995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7" name=""/>
              <p:cNvSpPr/>
              <p:nvPr/>
            </p:nvSpPr>
            <p:spPr>
              <a:xfrm>
                <a:off x="2746080" y="3522600"/>
                <a:ext cx="736920" cy="355680"/>
              </a:xfrm>
              <a:prstGeom prst="rightArrow">
                <a:avLst>
                  <a:gd name="adj1" fmla="val 50000"/>
                  <a:gd name="adj2" fmla="val 51797"/>
                </a:avLst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8" name="Image8c" descr=""/>
              <p:cNvPicPr/>
              <p:nvPr/>
            </p:nvPicPr>
            <p:blipFill>
              <a:blip r:embed="rId5"/>
              <a:srcRect l="25115" t="24619" r="15745" b="72404"/>
              <a:stretch/>
            </p:blipFill>
            <p:spPr>
              <a:xfrm>
                <a:off x="1257120" y="2825640"/>
                <a:ext cx="1192320" cy="101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Shaping Workshops are computer environments aimed at supporting the activities of domain-expert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vel features of our approach ar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it is collaborative in that end-users, as domain experts, assume a responsibility in the design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the SSWs are able to associate different pictorial representations to a same computational representation, and vice versa, thus permitting end-user tailoring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d-users can perform their tasks interacting with the SSWs through interaction visual languages, which resemble their traditional notations and tools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ystem is evolutive and allows the domain-expert user to generate another SSW with new functionaliti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experimenting this apprach in various domains, using the software tool  BAN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08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44520" y="522360"/>
            <a:ext cx="408492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aria Francesca Costabile*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ntonio Piccinno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p. Informatic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versità di Bari, Ita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aniela Fogli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iero Mussio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Elettronica per l'Automaz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niversità di Bresci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tal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iuseppe Fresta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I "A. Faedo"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R, Pisa, Ital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*Pictorial Computing Laborator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versity of Rome “La Sapienza” Ita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uniba" descr=""/>
          <p:cNvPicPr/>
          <p:nvPr/>
        </p:nvPicPr>
        <p:blipFill>
          <a:blip r:embed="rId1"/>
          <a:stretch/>
        </p:blipFill>
        <p:spPr>
          <a:xfrm>
            <a:off x="3203640" y="76356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3" name="sigillo" descr=""/>
          <p:cNvPicPr/>
          <p:nvPr/>
        </p:nvPicPr>
        <p:blipFill>
          <a:blip r:embed="rId2"/>
          <a:stretch/>
        </p:blipFill>
        <p:spPr>
          <a:xfrm>
            <a:off x="3235320" y="2425680"/>
            <a:ext cx="836640" cy="827280"/>
          </a:xfrm>
          <a:prstGeom prst="rect">
            <a:avLst/>
          </a:prstGeom>
          <a:ln w="0">
            <a:noFill/>
          </a:ln>
        </p:spPr>
      </p:pic>
      <p:pic>
        <p:nvPicPr>
          <p:cNvPr id="104" name="isti" descr=""/>
          <p:cNvPicPr/>
          <p:nvPr/>
        </p:nvPicPr>
        <p:blipFill>
          <a:blip r:embed="rId3"/>
          <a:stretch/>
        </p:blipFill>
        <p:spPr>
          <a:xfrm>
            <a:off x="3419640" y="4340160"/>
            <a:ext cx="1091880" cy="566640"/>
          </a:xfrm>
          <a:prstGeom prst="rect">
            <a:avLst/>
          </a:prstGeom>
          <a:ln w="0">
            <a:noFill/>
          </a:ln>
        </p:spPr>
      </p:pic>
      <p:pic>
        <p:nvPicPr>
          <p:cNvPr id="105" name="Cnrlogo36" descr=""/>
          <p:cNvPicPr/>
          <p:nvPr/>
        </p:nvPicPr>
        <p:blipFill>
          <a:blip r:embed="rId4"/>
          <a:stretch/>
        </p:blipFill>
        <p:spPr>
          <a:xfrm>
            <a:off x="2811600" y="4365720"/>
            <a:ext cx="617400" cy="51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38520" y="434880"/>
            <a:ext cx="5821200" cy="143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874960" y="5364000"/>
            <a:ext cx="1598760" cy="11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57600" y="2141640"/>
            <a:ext cx="5821200" cy="143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89280" y="3832200"/>
            <a:ext cx="5821200" cy="143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Pictorial Computing Laborat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CL started in 1993 at the University of Rome “La Sapienz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rector: Stefano Levial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in researchers: M.F. Costabile, Piero Mussio, P. Bott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mary theme: Analysis and use of images in H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mal theory of Visual Languages to model Visual Intera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EE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po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n Visual Languages, now Symposia on Human-Centric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Journal on Visual Languages and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dvanced Visual Interfaces (AVI) Conferences, AVI’04 in B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3920" y="625320"/>
            <a:ext cx="15984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End-us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user of an application program. Typically, the term means that the person is not a computer programmer. A person who uses a computer as part of their daily life or daily work, but is not interested in computers per se.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Allen Cypher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Watch What I Do: Programming by Demonstration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nd-User Computing is “..the adoption and use of information technology by people outside the information system department, to develop software applications in support of organizational task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Brancheau and Brown, “The Management of End-User Computing: </a:t>
            </a:r>
            <a:br>
              <a:rPr sz="1800"/>
            </a:b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Status and Directions”, ACM Computing Surveys, 25 (4), 199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nd-users are experts in a specific domain, who use computer systems to develop software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Domain-expert us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main-expert users: experts in a specific domain, not necessarily experts in computer science, who use computer environments to perform their daily tas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y are responsible for the tasks accomplished through the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y must understand the consequences of the system activity and must be in control of the interactive compu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main exampl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dic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chanical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arth Sci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communicational ga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rs and designers adopt different reasoning strateg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euristic vs. algorithm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amples, analogies vs. deductive abstrac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creteness vs. abst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rs are forced to express their problems in “computeres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j0078782" descr=""/>
          <p:cNvPicPr/>
          <p:nvPr/>
        </p:nvPicPr>
        <p:blipFill>
          <a:blip r:embed="rId1"/>
          <a:stretch/>
        </p:blipFill>
        <p:spPr>
          <a:xfrm>
            <a:off x="5351400" y="4276800"/>
            <a:ext cx="2352600" cy="1873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76200" y="5097600"/>
            <a:ext cx="37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Interactive systems  are difficult to learn and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Bridging the ga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gnizing users as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per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!! in their field, not in 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gnizing that experts develop languages and notations to reason on problems and communicate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igning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ystem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hich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bstract CS concepts concrete to user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nd allow users to follow their learning and reasoning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j0078809" descr=""/>
          <p:cNvPicPr/>
          <p:nvPr/>
        </p:nvPicPr>
        <p:blipFill>
          <a:blip r:embed="rId1"/>
          <a:stretch/>
        </p:blipFill>
        <p:spPr>
          <a:xfrm>
            <a:off x="5742000" y="293760"/>
            <a:ext cx="2538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designer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916440" y="2301840"/>
            <a:ext cx="609480" cy="57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33440" y="4413240"/>
            <a:ext cx="609840" cy="57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41920" y="4427640"/>
            <a:ext cx="609480" cy="57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4240" y="178128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ff"/>
                </a:solidFill>
                <a:latin typeface="Times New Roman"/>
              </a:rPr>
              <a:t>Software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3040" y="518472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ff"/>
                </a:solidFill>
                <a:latin typeface="Times New Roman"/>
              </a:rPr>
              <a:t>Domain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8000" y="517032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ff"/>
                </a:solidFill>
                <a:latin typeface="Times New Roman"/>
              </a:rPr>
              <a:t>HCI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697120" y="2819520"/>
            <a:ext cx="1295280" cy="164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6" idx="6"/>
            <a:endCxn id="127" idx="2"/>
          </p:cNvCxnSpPr>
          <p:nvPr/>
        </p:nvCxnSpPr>
        <p:spPr>
          <a:xfrm>
            <a:off x="2843280" y="4701960"/>
            <a:ext cx="2799360" cy="14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31" idx="0"/>
            <a:endCxn id="131" idx="0"/>
          </p:cNvCxnSpPr>
          <p:nvPr/>
        </p:nvCxnSpPr>
        <p:spPr>
          <a:xfrm flipV="1">
            <a:off x="2697120" y="2819160"/>
            <a:ext cx="1296000" cy="1645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25" idx="5"/>
            <a:endCxn id="127" idx="1"/>
          </p:cNvCxnSpPr>
          <p:nvPr/>
        </p:nvCxnSpPr>
        <p:spPr>
          <a:xfrm>
            <a:off x="4437000" y="2795760"/>
            <a:ext cx="1294560" cy="1716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4:03:18Z</dcterms:created>
  <dc:creator>Anna&amp;Alo</dc:creator>
  <dc:description/>
  <dc:language>en-US</dc:language>
  <cp:lastModifiedBy>Maria Francesca Costabile</cp:lastModifiedBy>
  <cp:lastPrinted>2001-09-04T10:07:09Z</cp:lastPrinted>
  <dcterms:modified xsi:type="dcterms:W3CDTF">2002-09-23T07:48:07Z</dcterms:modified>
  <cp:revision>810</cp:revision>
  <dc:subject/>
  <dc:title>Una metodologia orientata all’utente per il progetto di sistemi interattivi visuali</dc:title>
</cp:coreProperties>
</file>