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791208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30360" y="3837960"/>
            <a:ext cx="791208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4680" y="145080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0360" y="383796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84680" y="383796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254736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05520" y="1450800"/>
            <a:ext cx="254736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80680" y="1450800"/>
            <a:ext cx="254736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30360" y="3837960"/>
            <a:ext cx="254736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05520" y="3837960"/>
            <a:ext cx="254736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80680" y="3837960"/>
            <a:ext cx="254736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30360" y="1450800"/>
            <a:ext cx="79120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791208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386100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4680" y="1450800"/>
            <a:ext cx="386100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128160"/>
            <a:ext cx="792504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4680" y="1450800"/>
            <a:ext cx="386100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360" y="383796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386100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4680" y="145080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4680" y="383796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4680" y="1450800"/>
            <a:ext cx="386100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0360" y="3837960"/>
            <a:ext cx="791208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30360" y="1450800"/>
            <a:ext cx="791208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216280" y="6622920"/>
            <a:ext cx="112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a02600"/>
                </a:solidFill>
                <a:latin typeface="Arial"/>
              </a:rPr>
              <a:t>page </a:t>
            </a:r>
            <a:fld id="{512DD7E5-FA34-4DD7-9E60-95C7211006F1}" type="slidenum">
              <a:rPr b="1" lang="fr-FR" sz="1000" spc="-1" strike="noStrike">
                <a:solidFill>
                  <a:srgbClr val="a026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69080" y="6095880"/>
            <a:ext cx="101520" cy="101880"/>
          </a:xfrm>
          <a:prstGeom prst="ellipse">
            <a:avLst/>
          </a:prstGeom>
          <a:solidFill>
            <a:srgbClr val="a02600"/>
          </a:solidFill>
          <a:ln w="2556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48480" y="6191280"/>
            <a:ext cx="88920" cy="1015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46960" y="6318360"/>
            <a:ext cx="75960" cy="759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58040" y="6419880"/>
            <a:ext cx="6336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19880" y="6534000"/>
            <a:ext cx="63360" cy="511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37360" y="6159600"/>
            <a:ext cx="101520" cy="101520"/>
          </a:xfrm>
          <a:prstGeom prst="ellipse">
            <a:avLst/>
          </a:prstGeom>
          <a:solidFill>
            <a:srgbClr val="a02600"/>
          </a:solidFill>
          <a:ln w="2556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219800" y="6318360"/>
            <a:ext cx="88920" cy="1015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346880" y="6458040"/>
            <a:ext cx="88920" cy="759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461360" y="6572160"/>
            <a:ext cx="63360" cy="763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562880" y="6686640"/>
            <a:ext cx="6336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6845400" y="5829120"/>
            <a:ext cx="609480" cy="29196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 flipV="1">
            <a:off x="6679800" y="5549760"/>
            <a:ext cx="469800" cy="60984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908680" y="5689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5894640" y="582948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BAG34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5909760" y="59817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889240" y="612144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LUXI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553080" y="6032520"/>
            <a:ext cx="254160" cy="10152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flipV="1">
            <a:off x="7188120" y="6006600"/>
            <a:ext cx="495360" cy="20340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7763040" y="5753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749360" y="5905440"/>
            <a:ext cx="65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AFR14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764120" y="6058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3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7751160" y="621036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BS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8073720" y="6210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8207640" y="6210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3124080" y="1104840"/>
            <a:ext cx="101880" cy="101520"/>
          </a:xfrm>
          <a:prstGeom prst="ellipse">
            <a:avLst/>
          </a:prstGeom>
          <a:solidFill>
            <a:srgbClr val="a02600"/>
          </a:solidFill>
          <a:ln w="2556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3206880" y="996840"/>
            <a:ext cx="88920" cy="889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3244680" y="870120"/>
            <a:ext cx="76320" cy="885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3257640" y="755640"/>
            <a:ext cx="7596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3270240" y="641520"/>
            <a:ext cx="5076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 flipH="1">
            <a:off x="2921040" y="1155600"/>
            <a:ext cx="241200" cy="40644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2251080" y="698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2243880" y="8380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SAB9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2252160" y="990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1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239200" y="11304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BS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2708280" y="1130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 flipH="1" flipV="1">
            <a:off x="2844360" y="1002960"/>
            <a:ext cx="304920" cy="12708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66240" y="927000"/>
            <a:ext cx="101520" cy="101880"/>
          </a:xfrm>
          <a:prstGeom prst="ellipse">
            <a:avLst/>
          </a:prstGeom>
          <a:solidFill>
            <a:srgbClr val="a02600"/>
          </a:solidFill>
          <a:ln w="2556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032680" y="1022400"/>
            <a:ext cx="101520" cy="889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931160" y="1136520"/>
            <a:ext cx="88920" cy="889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54840" y="1251000"/>
            <a:ext cx="6372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16680" y="1352520"/>
            <a:ext cx="5112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242200" y="660240"/>
            <a:ext cx="609840" cy="29232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93240" y="520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90360" y="66024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SVA9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93960" y="812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8480" y="95256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50240" y="851040"/>
            <a:ext cx="241200" cy="10152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20840" y="5041800"/>
            <a:ext cx="101520" cy="101880"/>
          </a:xfrm>
          <a:prstGeom prst="ellipse">
            <a:avLst/>
          </a:prstGeom>
          <a:solidFill>
            <a:srgbClr val="a02600"/>
          </a:solidFill>
          <a:ln w="2556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0680" y="5175360"/>
            <a:ext cx="101520" cy="889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67000" y="5302080"/>
            <a:ext cx="75960" cy="763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0360" y="5416560"/>
            <a:ext cx="63360" cy="763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68520" y="5543640"/>
            <a:ext cx="6336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04480" y="4381560"/>
            <a:ext cx="266760" cy="69840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3400" y="4838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400" y="497844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AIH9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4120" y="5130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1160" y="52704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BS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143000" y="5092560"/>
            <a:ext cx="216000" cy="2088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3320" y="5715000"/>
            <a:ext cx="101520" cy="101520"/>
          </a:xfrm>
          <a:prstGeom prst="ellipse">
            <a:avLst/>
          </a:prstGeom>
          <a:solidFill>
            <a:srgbClr val="a02600"/>
          </a:solidFill>
          <a:ln w="2556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90880" y="5848200"/>
            <a:ext cx="101520" cy="10188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40120" y="5987880"/>
            <a:ext cx="75960" cy="763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1200" y="6114960"/>
            <a:ext cx="76320" cy="6372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0440" y="6229440"/>
            <a:ext cx="63360" cy="63360"/>
          </a:xfrm>
          <a:prstGeom prst="rect">
            <a:avLst/>
          </a:prstGeom>
          <a:solidFill>
            <a:srgbClr val="a02600"/>
          </a:solidFill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124080" y="5334120"/>
            <a:ext cx="177840" cy="43164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13280" y="5308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12200" y="5448240"/>
            <a:ext cx="70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BAW33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14000" y="5600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3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3200" y="5740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a02600"/>
                </a:solidFill>
                <a:latin typeface="Arial"/>
              </a:rPr>
              <a:t>R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7680" y="5651640"/>
            <a:ext cx="241200" cy="101520"/>
          </a:xfrm>
          <a:prstGeom prst="line">
            <a:avLst/>
          </a:prstGeom>
          <a:ln w="12600">
            <a:solidFill>
              <a:srgbClr val="a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Comic Sans MS"/>
              </a:rPr>
              <a:t>Of programming GUIs,</a:t>
            </a:r>
            <a:br>
              <a:rPr sz="3600"/>
            </a:br>
            <a:r>
              <a:rPr b="0" lang="en-GB" sz="3600" spc="-1" strike="noStrike">
                <a:solidFill>
                  <a:srgbClr val="fafd00"/>
                </a:solidFill>
                <a:latin typeface="Comic Sans MS"/>
              </a:rPr>
              <a:t>robots and</a:t>
            </a:r>
            <a:br>
              <a:rPr sz="3600"/>
            </a:br>
            <a:r>
              <a:rPr b="0" lang="en-GB" sz="3600" spc="-1" strike="noStrike">
                <a:solidFill>
                  <a:srgbClr val="fafd00"/>
                </a:solidFill>
                <a:latin typeface="Comic Sans MS"/>
              </a:rPr>
              <a:t>aircraft pilots 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791320" y="5257440"/>
            <a:ext cx="30477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Stéphane Chat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2324160" cy="67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5257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Yannick Jes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5943600"/>
            <a:ext cx="281952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Experiment: programming a robot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791208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French TV, robot contest among univers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1999 rule: pick more balls than the 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7688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Goal: help the ENAC team to win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791208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Reprogram the robot between match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The team: electronicians, aerospace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Visual programming of robot behavi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3616200" cy="2713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22161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The method: participatory design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791208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Scenarios, workshops,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2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2800" indent="-262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First workshop: « give us a sample program 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Users in front of a white boa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No constraint in expre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2800" indent="-262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Result: unable to express a program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« it first turns, then goes this way towards the bri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except that if there ’s an adversary pod, then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Oh, and if it spots an angle for shooting, then… 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9100"/>
                </a:solidFill>
                <a:latin typeface="Verdana"/>
              </a:rPr>
              <a:t>No programming tool, no program 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Programming is not so natural...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1450440"/>
            <a:ext cx="8513640" cy="46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Ability to cope with facets of a program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Re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But no global vision when there are several fac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Current tools and languages support one fac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So what do we d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Research a theory of actio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erge existing models in a tool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373760" y="586728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ef9100"/>
                </a:solidFill>
                <a:latin typeface="Verdana"/>
              </a:rPr>
              <a:t>Do What I Mean!   </a:t>
            </a:r>
            <a:r>
              <a:rPr b="0" i="1" lang="fr-FR" sz="2400" spc="-1" strike="noStrike">
                <a:solidFill>
                  <a:srgbClr val="ef9100"/>
                </a:solidFill>
                <a:latin typeface="Verdana"/>
              </a:rPr>
              <a:t>but</a:t>
            </a:r>
            <a:r>
              <a:rPr b="1" lang="fr-FR" sz="2400" spc="-1" strike="noStrike">
                <a:solidFill>
                  <a:srgbClr val="ef9100"/>
                </a:solidFill>
                <a:latin typeface="Verdana"/>
              </a:rPr>
              <a:t>   what do I me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925040" cy="4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Comic Sans MS"/>
              </a:rPr>
              <a:t>Conclusion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Programming ≠ task of program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Programming’ is pervasive in ATC for instan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rograming FMS or simulated aircraf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ending ‘clearances’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haring ‘solutions’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Cognitive lim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equence, conditions, react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We need better ‘tools’ for thinking about 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ogic-like languag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Visual representat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Epilogue: the ENAC robot...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0360" y="1450440"/>
            <a:ext cx="8285040" cy="51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Was finally programmed with a hybrid ad-hoc t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2D trajecto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ini-programs’ associated to points on the trajec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Was 16th in 2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Wheels were skidding and positionning was impreci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Was 2nd in 2001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Comic Sans MS"/>
              </a:rPr>
              <a:t>Who are our End Users ?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057040"/>
            <a:ext cx="4343400" cy="24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En Route Air traffic controll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7200" indent="-27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GUI development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4920" indent="-22140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programm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4920" indent="-22140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teraction design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4920" indent="-22140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graphic design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4920" indent="-22140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Human Factors speciali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360" y="1917720"/>
            <a:ext cx="3879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92080" y="128520"/>
            <a:ext cx="73677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Comic Sans MS"/>
              </a:rPr>
              <a:t>From programmers’ activity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942000" cy="434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oftware Engineer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Existing tools to support GUI design and programm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V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ebu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terative desig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et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essons learnt building tools ( Whizz’ed, Zinc, Ivy, IntuiKit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79720" cy="2909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0" y="5932440"/>
            <a:ext cx="62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Et si nous analysions enfin la tâche des programmeur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What about analyzing programmers’activity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Verdana"/>
              </a:rPr>
              <a:t>Accot, Chatty, Jestin, Sire, IHM’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Comic Sans MS"/>
              </a:rPr>
              <a:t>… </a:t>
            </a:r>
            <a:r>
              <a:rPr b="1" lang="fr-FR" sz="3600" spc="-1" strike="noStrike">
                <a:solidFill>
                  <a:srgbClr val="fafd00"/>
                </a:solidFill>
                <a:latin typeface="Comic Sans MS"/>
              </a:rPr>
              <a:t>to ‘programming’ per se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0000" y="1450800"/>
            <a:ext cx="387972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How to describe the behaviour of interactive objects 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How to share this description 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870200"/>
            <a:ext cx="3879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Programming an aircraft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360" y="1450440"/>
            <a:ext cx="7912080" cy="517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Flight Management System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eries of waypoi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+ speed mod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+ fuel consump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+ can sometimes be overriden by us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Flying = programming the F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Worse than programming an Emacs mod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Searching for a « natural FMS 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Same holds for driving ATC training simula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ess critic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More demanding (1 pseudo-pilot = 15 aircraf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376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Clearances, phraseology, data-link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0000" y="1450440"/>
            <a:ext cx="851364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Clearance = program that the pilot should foll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« Air France 001, maintain level 350 then after PIXEL take direct to JSY 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Phraseology = predefined language construc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Avoids lexical and syntactic ambigu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And also avoids semantic ambigu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imited set of action patte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Data-link : towards a computer-based phrase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Aspiration to richer language: ‘complex clearances’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What language? Sequential like voice, graphical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512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f9100"/>
                </a:solidFill>
                <a:latin typeface="Verdana"/>
              </a:rPr>
              <a:t>From phraseology toward programm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Common understanding of a sequence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396252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« Can you pass the Air France behind the Alitalia? 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« I will give a heading of 180° to the Air France 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« Er… OK...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« Can I send the Lufthansa across level 290? 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« OK, just wait that the Speedbird and the KLM are separated 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8039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000c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92504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‘</a:t>
            </a:r>
            <a:r>
              <a:rPr b="0" lang="fr-FR" sz="3600" spc="-1" strike="noStrike">
                <a:solidFill>
                  <a:srgbClr val="fafd00"/>
                </a:solidFill>
                <a:latin typeface="Comic Sans MS"/>
              </a:rPr>
              <a:t>Solution’-based communication</a:t>
            </a:r>
            <a:endParaRPr b="1" lang="en-US" sz="36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360" y="1450800"/>
            <a:ext cx="7912080" cy="457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relies on recognition of action patt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but sometimes recognition fai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and sometimes there is no known pattern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need of shared information on solutio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Set of named procedur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Formalised language (phraseology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Visual languag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21:34:07Z</dcterms:created>
  <dc:creator>Stephane Chatty</dc:creator>
  <dc:description/>
  <dc:language>en-US</dc:language>
  <cp:lastModifiedBy>Yannick J</cp:lastModifiedBy>
  <cp:lastPrinted>2000-10-22T21:37:30Z</cp:lastPrinted>
  <dcterms:modified xsi:type="dcterms:W3CDTF">2002-09-23T11:02:40Z</dcterms:modified>
  <cp:revision>86</cp:revision>
  <dc:subject/>
  <dc:title>From DigiStrips to DigiPrinter: an electronic strip board for Airsys ATM workstations </dc:title>
</cp:coreProperties>
</file>