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FF903-CC86-45F1-89E3-9BEF93E0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FFAB-2081-4152-B250-FBD7690C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E52D-945D-4672-9846-610EFEF5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70971-31CF-4FEE-A004-9805D1B4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6B05E-AD41-4B52-9706-94086C7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FDDEE-7817-4B95-BEFE-42624A1B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20F65-FDD3-466C-93EC-16D4E780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C7CD-9896-4279-8443-DEFC64B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18DC7-8779-4426-BDD4-B16ED89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8600-0CAC-45AB-BEFF-3684D7A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7E8FB-0D5C-4E20-BC85-9C5DDC2D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4884-5257-4E62-BDFF-97527F33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D-Net Workshop, Pisa, September 2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2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6400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F30-8CDD-4A43-A1F1-E74FE1BC9E12}" type="slidenum">
              <a:rPr b="0" lang="it-IT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106668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0FD7-A463-4074-88D4-C5009846E9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3409920"/>
            <a:ext cx="2590920" cy="2206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End-User Development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Empowering people to flexibly employ advanced information and communication technolog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5334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23-24 Septembe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isa (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formation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17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1 Survey of member research projects, tools, and PhD studies - Responsible partner: FhG/FIT - Man-power: 3.4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2 Proceedings workshop organised in conjunction with a main conference- Responsible partner: UMIST- Man-power: 3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.3 Network web site - Responsible partner: CNR - Man-power: 5 person/mon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17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4.1 Evaluation report; including annotated recommendations for improvements  - Responsible partner: UNIBA - Man-power: 10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95312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nagement and admin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00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.1 Progress and administrative reports - Responsible partner: CNR - Man-power: 6,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.2 Minutes of the executive committee meetings - - Responsible partner: CNR - Man-power: 5 person/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munication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2361960"/>
            <a:ext cx="872640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eb server (http://giove.cnuce.cnr.it/eud-net.ht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CSW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the network management committee to discuss management issu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the network management committee and industrial partners to discuss issues related to the network management and industrial impac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for all the network members to discuss network related issue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e open to the worldwide community to discuss issues related to end-user develop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is worksh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ackground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scussion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 expe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tential EU-US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ext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help the European Commission to prepare a research agenda in the end-user development field for the next framewor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increase contacts among highly-qualified research centres, both academic and industrial, in order to speed-up the production of innovative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moting end-user development principles and practices through a mix of activities, including workshops and participation in international ev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ew CAMELEON Project - Pisa - September 17 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itial consorti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1817640"/>
            <a:ext cx="62481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search 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99172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aptive, adaptable and innovative interaction techniqu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AUNHOFER-FIT, ISTI-C.N.R., Univ. Ba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ilips, University of Paris Sud, University of Bari, Telecom Italia Lab, CENA, Sieme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isual modelling and multimedia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TI-C.N.R., University of Bari, UMIS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ilips, University of Tolouse, University of Paderborn, Think3, Telecom Italia Lab, CENA, University of Cambrid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operative end user programmin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AUNHOFER-FIT, UMIS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niversity of Oslo, Norway;  Blekinge Institute, Sweden; University Paris-Su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otential Application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obil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D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ir Traffic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m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lanned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Two EUD-Net workshops, which are a forum for the discussion of innovative research directions and also include a training element of the development of new research proposal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Meetings of subset of network members in conjunction with a large existing conference relevant for the topics of the network (for example CHI, HCI, Interact, ICSE, ESEC, …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A programme of short-term exchanges and visits aimed at fostering new research cooperation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Constructing and updating every four months a roadmap for trends in end-user developm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Surveys of Ph.D. studies in the member nod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Writing of joint pape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明朝"/>
              </a:rPr>
              <a:t>Integration of prototypes developed in different sites in related pro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liverable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1890720"/>
            <a:ext cx="5638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search coord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10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1 Roadmap of the field  - Responsible partner: FhG/FIT- Man-power: 4.1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2 Identification of promising action lines for the EC future programme - Responsible partner: CNR- Man-power: 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.3 Two EUD-Net workshop reports - Responsible partner: UNIBA- Man-power: 4 person/mon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dustrial co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1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.1 Action plan for industrial area - Responsible partner: UMIST- Man-power: 5 person/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.2 Industrial forum report- Responsible partner: CNR - Man-power: 5 person/mo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6:58:51Z</dcterms:created>
  <dc:creator/>
  <dc:description/>
  <dc:language>en-US</dc:language>
  <cp:lastModifiedBy>Fabio Paternò</cp:lastModifiedBy>
  <dcterms:modified xsi:type="dcterms:W3CDTF">2002-09-23T08:06:12Z</dcterms:modified>
  <cp:revision>91</cp:revision>
  <dc:subject/>
  <dc:title>Task model-based design of multiplatform web applications</dc:title>
</cp:coreProperties>
</file>