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2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6AFE-BBED-405E-ADAE-EA49AABB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11120"/>
            <a:ext cx="56325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23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020840"/>
            <a:ext cx="723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CA82-B834-4F86-9D58-973DE919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11120"/>
            <a:ext cx="56325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8760" y="175212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02084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8760" y="402084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9BA-0F5F-461F-B07F-A85EF89A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11120"/>
            <a:ext cx="56325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6960" y="175212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4600" y="175212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02084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6960" y="402084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4600" y="402084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79A-EFB1-40B9-80F1-C181FB6D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11120"/>
            <a:ext cx="56325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7521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11120"/>
            <a:ext cx="56325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11120"/>
            <a:ext cx="56325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3532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752120"/>
            <a:ext cx="3532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11120"/>
            <a:ext cx="56325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411120"/>
            <a:ext cx="563256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11120"/>
            <a:ext cx="56325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752120"/>
            <a:ext cx="3532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402084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11120"/>
            <a:ext cx="56325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17521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D271-0648-4749-8B66-6A0120F5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11120"/>
            <a:ext cx="56325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3532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75212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402084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11120"/>
            <a:ext cx="56325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75212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4020840"/>
            <a:ext cx="723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11120"/>
            <a:ext cx="56325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23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4020840"/>
            <a:ext cx="723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11120"/>
            <a:ext cx="56325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75212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402084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402084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11120"/>
            <a:ext cx="56325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75212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75212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402084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402084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402084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11120"/>
            <a:ext cx="56325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1D0-B2D6-4D11-B2B8-FC295722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11120"/>
            <a:ext cx="56325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3532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8760" y="1752120"/>
            <a:ext cx="3532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6D99-15A4-43B7-9793-38863FEC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11120"/>
            <a:ext cx="56325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0F8-8333-4DB5-8D7C-B7045E2B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11120"/>
            <a:ext cx="563256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853-D2DD-4F64-B0CE-A341387A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11120"/>
            <a:ext cx="56325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8760" y="1752120"/>
            <a:ext cx="3532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02084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0DF-627E-421D-B402-2EB4EC0B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11120"/>
            <a:ext cx="56325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3532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8760" y="175212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8760" y="402084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EC0-21BE-4806-9305-A1BB18D4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11120"/>
            <a:ext cx="56325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8760" y="175212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020840"/>
            <a:ext cx="7238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8DD-19B3-4051-82CA-F2381E7D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11120"/>
            <a:ext cx="56325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7521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1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9DFD-A98E-45D9-90CC-C7F4BBD4B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65520" y="2437560"/>
            <a:ext cx="44733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152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25600" y="3886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er: Sylvie Leo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27840" y="6324480"/>
            <a:ext cx="11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larendon"/>
              </a:rPr>
              <a:t>think</a:t>
            </a:r>
            <a:r>
              <a:rPr b="1" lang="en-US" sz="2400" spc="-1" strike="noStrike">
                <a:solidFill>
                  <a:srgbClr val="ff7d19"/>
                </a:solidFill>
                <a:latin typeface="Clarendo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yonresearch.com/" TargetMode="External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hink3.com/news/GetPR.asp?ID=68" TargetMode="External"/><Relationship Id="rId3" Type="http://schemas.openxmlformats.org/officeDocument/2006/relationships/image" Target="../media/image11.png"/><Relationship Id="rId4" Type="http://schemas.openxmlformats.org/officeDocument/2006/relationships/hyperlink" Target="http://www.asponline.com/awards.html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4760" y="2772720"/>
            <a:ext cx="65530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hink3 </a:t>
            </a:r>
            <a:br>
              <a:rPr sz="4000"/>
            </a:b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CORPORATE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42670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inzia Iac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ed Research Assi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14600" y="2787120"/>
            <a:ext cx="4114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BACK UP SL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563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6600"/>
                </a:solidFill>
                <a:latin typeface="Arial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133720" y="22856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000000"/>
                </a:solidFill>
                <a:latin typeface="Arial"/>
              </a:rPr>
              <a:t>Experienced and renowned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000000"/>
                </a:solidFill>
                <a:latin typeface="Arial"/>
              </a:rPr>
              <a:t>People decided to join i.e. not ac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563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O Joe Cost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rly President and CEO of Ca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w company from $50 M to a $1 B market leader 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ed Top Performing CEO by Chief Executive Magaz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s Survey of more than 6,500 Corporate L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ce-logo-black" descr=""/>
          <p:cNvPicPr/>
          <p:nvPr/>
        </p:nvPicPr>
        <p:blipFill>
          <a:blip r:embed="rId2"/>
          <a:stretch/>
        </p:blipFill>
        <p:spPr>
          <a:xfrm>
            <a:off x="2209680" y="4479840"/>
            <a:ext cx="1657440" cy="854280"/>
          </a:xfrm>
          <a:prstGeom prst="rect">
            <a:avLst/>
          </a:prstGeom>
          <a:ln w="0">
            <a:noFill/>
          </a:ln>
        </p:spPr>
      </p:pic>
      <p:pic>
        <p:nvPicPr>
          <p:cNvPr id="125" name="cadence" descr=""/>
          <p:cNvPicPr/>
          <p:nvPr/>
        </p:nvPicPr>
        <p:blipFill>
          <a:blip r:embed="rId3"/>
          <a:stretch/>
        </p:blipFill>
        <p:spPr>
          <a:xfrm>
            <a:off x="5257800" y="4589640"/>
            <a:ext cx="2438280" cy="63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563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7391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tt Ru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P Worldwide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r PTC SVP Sales Ame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lo Carpanel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P European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r PTC VP Sales 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omas Jens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P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r PTC SVP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oneer Computer Aided Style (CAS)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ain Massab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P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oneer of CAD/CAM/CA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her of first Surface Modeling commercial application (Systr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362320" y="2286000"/>
            <a:ext cx="6291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wo releases per y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tty new functional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 called 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-end"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ctional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1644480"/>
            <a:ext cx="5753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600" spc="-1" strike="noStrike">
                <a:solidFill>
                  <a:srgbClr val="51dc00"/>
                </a:solidFill>
                <a:latin typeface="Arial"/>
              </a:rPr>
              <a:t>R&amp;D </a:t>
            </a:r>
            <a:r>
              <a:rPr b="1" lang="en-US" sz="3600" spc="-1" strike="noStrike">
                <a:solidFill>
                  <a:srgbClr val="51dc00"/>
                </a:solidFill>
                <a:latin typeface="Arial"/>
              </a:rPr>
              <a:t>effectiveness</a:t>
            </a:r>
            <a:r>
              <a:rPr b="1" lang="fr-FR" sz="3600" spc="-1" strike="noStrike">
                <a:solidFill>
                  <a:srgbClr val="51dc00"/>
                </a:solidFill>
                <a:latin typeface="Arial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55920" y="4968720"/>
            <a:ext cx="6269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ther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quick R&amp;D ! </a:t>
            </a:r>
            <a:r>
              <a:rPr b="1" lang="fr-FR" sz="3600" spc="-1" strike="noStrike">
                <a:solidFill>
                  <a:srgbClr val="51dc00"/>
                </a:solidFill>
                <a:latin typeface="Arial"/>
              </a:rPr>
              <a:t>WHY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362320" y="2286000"/>
            <a:ext cx="65404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BS" sz="2600" spc="-1" strike="noStrike">
                <a:solidFill>
                  <a:srgbClr val="000000"/>
                </a:solidFill>
                <a:latin typeface="Arial"/>
              </a:rPr>
              <a:t>More and more component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BS" sz="2600" spc="-1" strike="noStrike">
                <a:solidFill>
                  <a:srgbClr val="000000"/>
                </a:solidFill>
                <a:latin typeface="Arial"/>
              </a:rPr>
              <a:t> bas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BS" sz="2600" spc="-1" strike="noStrike">
                <a:solidFill>
                  <a:srgbClr val="000000"/>
                </a:solidFill>
                <a:latin typeface="Arial"/>
              </a:rPr>
              <a:t>Rather good architec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BS" sz="2600" spc="-1" strike="noStrike">
                <a:solidFill>
                  <a:srgbClr val="51dc00"/>
                </a:solidFill>
                <a:latin typeface="Arial"/>
              </a:rPr>
              <a:t>Full control of the whole co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BS" sz="2600" spc="-1" strike="noStrike">
                <a:solidFill>
                  <a:srgbClr val="000000"/>
                </a:solidFill>
                <a:latin typeface="Arial"/>
              </a:rPr>
              <a:t>SE tools (regression tests, C&amp;P, EDB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BS" sz="2600" spc="-1" strike="noStrike">
                <a:solidFill>
                  <a:srgbClr val="000000"/>
                </a:solidFill>
                <a:latin typeface="Arial"/>
              </a:rPr>
              <a:t>Large Web use &amp; information sha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1644480"/>
            <a:ext cx="4114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51dc00"/>
                </a:solidFill>
                <a:latin typeface="Arial"/>
              </a:rPr>
              <a:t>Technical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07200" y="5676840"/>
            <a:ext cx="373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so good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side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057400" y="2286000"/>
            <a:ext cx="666756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BS" sz="2600" spc="-1" strike="noStrike">
                <a:solidFill>
                  <a:srgbClr val="000000"/>
                </a:solidFill>
                <a:latin typeface="Arial"/>
              </a:rPr>
              <a:t>Human sized team(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BS" sz="2600" spc="-1" strike="noStrike">
                <a:solidFill>
                  <a:srgbClr val="000000"/>
                </a:solidFill>
                <a:latin typeface="Arial"/>
              </a:rPr>
              <a:t>Rather skill people (see </a:t>
            </a:r>
            <a:r>
              <a:rPr b="1" i="1" lang="en-BS" sz="2600" spc="-1" strike="noStrike">
                <a:solidFill>
                  <a:srgbClr val="000000"/>
                </a:solidFill>
                <a:latin typeface="Arial"/>
              </a:rPr>
              <a:t>Leadership</a:t>
            </a:r>
            <a:r>
              <a:rPr b="1" lang="en-B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BS" sz="2600" spc="-1" strike="noStrike">
                <a:solidFill>
                  <a:srgbClr val="000000"/>
                </a:solidFill>
                <a:latin typeface="Arial"/>
              </a:rPr>
              <a:t>People decided to join i.e. not acquire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BS" sz="2600" spc="-1" strike="noStrike">
                <a:solidFill>
                  <a:srgbClr val="000000"/>
                </a:solidFill>
                <a:latin typeface="Arial"/>
              </a:rPr>
              <a:t>Freedom for creativity </a:t>
            </a:r>
            <a:br>
              <a:rPr sz="2600"/>
            </a:br>
            <a:r>
              <a:rPr b="1" lang="en-B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BS" sz="2600" spc="-1" strike="noStrike">
                <a:solidFill>
                  <a:srgbClr val="000000"/>
                </a:solidFill>
                <a:latin typeface="Arial"/>
              </a:rPr>
              <a:t>         i.e. project ownersh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BS" sz="2600" spc="-1" strike="noStrike">
                <a:solidFill>
                  <a:srgbClr val="000000"/>
                </a:solidFill>
                <a:latin typeface="Arial"/>
              </a:rPr>
              <a:t>Folks work where they feel go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1644480"/>
            <a:ext cx="3606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51dc00"/>
                </a:solidFill>
                <a:latin typeface="Arial"/>
              </a:rPr>
              <a:t>Human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563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hink3 is now in a position where they’re financially stable (meeting or exceeding their numbers), and they have a product which is enterprise-ready,” said Cyon Research Vice President Evan Yares. “So this [G.D win] is just one of the first wins for think3 that you’ll hear about in the next few month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71920" y="3184560"/>
            <a:ext cx="2000160" cy="488880"/>
            <a:chOff x="3571920" y="3184560"/>
            <a:chExt cx="2000160" cy="488880"/>
          </a:xfrm>
        </p:grpSpPr>
        <p:sp>
          <p:nvSpPr>
            <p:cNvPr id="139" name=""/>
            <p:cNvSpPr/>
            <p:nvPr/>
          </p:nvSpPr>
          <p:spPr>
            <a:xfrm>
              <a:off x="3571920" y="31845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3571920" y="3184560"/>
              <a:ext cx="2000160" cy="488880"/>
              <a:chOff x="3571920" y="3184560"/>
              <a:chExt cx="2000160" cy="488880"/>
            </a:xfrm>
          </p:grpSpPr>
          <p:sp>
            <p:nvSpPr>
              <p:cNvPr id="141" name=""/>
              <p:cNvSpPr/>
              <p:nvPr/>
            </p:nvSpPr>
            <p:spPr>
              <a:xfrm>
                <a:off x="3571920" y="3184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71920" y="3184560"/>
                <a:ext cx="2000160" cy="48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ff9866"/>
                    </a:solidFill>
                    <a:uFillTx/>
                    <a:latin typeface="Verdana"/>
                    <a:hlinkClick r:id="rId2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3" name="cyon-150x29" descr=""/>
          <p:cNvPicPr/>
          <p:nvPr/>
        </p:nvPicPr>
        <p:blipFill>
          <a:blip r:embed="rId3"/>
          <a:stretch/>
        </p:blipFill>
        <p:spPr>
          <a:xfrm>
            <a:off x="3200400" y="4572000"/>
            <a:ext cx="3505320" cy="67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563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-Chip Inves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143000" y="2895480"/>
            <a:ext cx="6854760" cy="3211560"/>
            <a:chOff x="1143000" y="2895480"/>
            <a:chExt cx="6854760" cy="3211560"/>
          </a:xfrm>
        </p:grpSpPr>
        <p:pic>
          <p:nvPicPr>
            <p:cNvPr id="86" name="logo_crosslink" descr=""/>
            <p:cNvPicPr/>
            <p:nvPr/>
          </p:nvPicPr>
          <p:blipFill>
            <a:blip r:embed="rId2"/>
            <a:stretch/>
          </p:blipFill>
          <p:spPr>
            <a:xfrm>
              <a:off x="4419720" y="4191120"/>
              <a:ext cx="357804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logo_intel" descr=""/>
            <p:cNvPicPr/>
            <p:nvPr/>
          </p:nvPicPr>
          <p:blipFill>
            <a:blip r:embed="rId3"/>
            <a:stretch/>
          </p:blipFill>
          <p:spPr>
            <a:xfrm>
              <a:off x="2971800" y="3244680"/>
              <a:ext cx="2362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logo_nvp" descr=""/>
            <p:cNvPicPr/>
            <p:nvPr/>
          </p:nvPicPr>
          <p:blipFill>
            <a:blip r:embed="rId4"/>
            <a:stretch/>
          </p:blipFill>
          <p:spPr>
            <a:xfrm>
              <a:off x="6400800" y="2895480"/>
              <a:ext cx="118908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logo_usvp" descr=""/>
            <p:cNvPicPr/>
            <p:nvPr/>
          </p:nvPicPr>
          <p:blipFill>
            <a:blip r:embed="rId5"/>
            <a:stretch/>
          </p:blipFill>
          <p:spPr>
            <a:xfrm>
              <a:off x="1143000" y="3962520"/>
              <a:ext cx="249228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logo_jafco" descr=""/>
            <p:cNvPicPr/>
            <p:nvPr/>
          </p:nvPicPr>
          <p:blipFill>
            <a:blip r:embed="rId6"/>
            <a:stretch/>
          </p:blipFill>
          <p:spPr>
            <a:xfrm>
              <a:off x="5380200" y="5181480"/>
              <a:ext cx="2617560" cy="9255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1" name=""/>
          <p:cNvGraphicFramePr/>
          <p:nvPr/>
        </p:nvGraphicFramePr>
        <p:xfrm>
          <a:off x="2514600" y="1752480"/>
          <a:ext cx="3733920" cy="94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1752480"/>
                    <a:ext cx="37339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5851440" y="13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7 Pillars for Su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Opport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D05219_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3660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563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Market Opportun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D/PDM = $ 9 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source Daratech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15% of MCAD is done in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: lack of clear vision from MCAD vendors to provide a clear cost-effective transition from 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players running away from core compe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ric Technolog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ving focus to enterprise PD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des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osing focus altogeth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563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 Design for Everyone Every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n customer’s business every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Subscription Fee (AS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vation everywhere: products/solutions, customer interactions/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barriers to ad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-of-use, fastest learning curve in the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2D &amp;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563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ed vision – attracted blue-chip customers and inv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clear, convincing ROI – a must have (not nice to have) for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d winning products and suppor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n subscription busin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0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% growth Q1FY02 compared to Q1FY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AwardEditorsChoice2001" descr="Cadence 2001 Editor's Choice Awar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914400"/>
            <a:ext cx="1257120" cy="663480"/>
          </a:xfrm>
          <a:prstGeom prst="rect">
            <a:avLst/>
          </a:prstGeom>
          <a:ln w="0">
            <a:noFill/>
          </a:ln>
        </p:spPr>
      </p:pic>
      <p:pic>
        <p:nvPicPr>
          <p:cNvPr id="104" name="Award2001" descr="The Year's Ten Best Web Support Site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467480" y="609480"/>
            <a:ext cx="10033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d19"/>
                </a:solidFill>
                <a:latin typeface="Arial"/>
              </a:rPr>
              <a:t>5,000 Customers including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logo_adidas" descr=""/>
          <p:cNvPicPr/>
          <p:nvPr/>
        </p:nvPicPr>
        <p:blipFill>
          <a:blip r:embed="rId2"/>
          <a:stretch/>
        </p:blipFill>
        <p:spPr>
          <a:xfrm>
            <a:off x="6248520" y="4038480"/>
            <a:ext cx="2209680" cy="617760"/>
          </a:xfrm>
          <a:prstGeom prst="rect">
            <a:avLst/>
          </a:prstGeom>
          <a:ln w="0">
            <a:noFill/>
          </a:ln>
        </p:spPr>
      </p:pic>
      <p:pic>
        <p:nvPicPr>
          <p:cNvPr id="107" name="logo_alessi" descr=""/>
          <p:cNvPicPr/>
          <p:nvPr/>
        </p:nvPicPr>
        <p:blipFill>
          <a:blip r:embed="rId3"/>
          <a:stretch/>
        </p:blipFill>
        <p:spPr>
          <a:xfrm>
            <a:off x="914400" y="3733920"/>
            <a:ext cx="1714680" cy="468360"/>
          </a:xfrm>
          <a:prstGeom prst="rect">
            <a:avLst/>
          </a:prstGeom>
          <a:ln w="0">
            <a:noFill/>
          </a:ln>
        </p:spPr>
      </p:pic>
      <p:pic>
        <p:nvPicPr>
          <p:cNvPr id="108" name="logo_dinan" descr=""/>
          <p:cNvPicPr/>
          <p:nvPr/>
        </p:nvPicPr>
        <p:blipFill>
          <a:blip r:embed="rId4"/>
          <a:stretch/>
        </p:blipFill>
        <p:spPr>
          <a:xfrm>
            <a:off x="6705720" y="1371600"/>
            <a:ext cx="857160" cy="971640"/>
          </a:xfrm>
          <a:prstGeom prst="rect">
            <a:avLst/>
          </a:prstGeom>
          <a:ln w="0">
            <a:noFill/>
          </a:ln>
        </p:spPr>
      </p:pic>
      <p:pic>
        <p:nvPicPr>
          <p:cNvPr id="109" name="logo_pininfarina" descr=""/>
          <p:cNvPicPr/>
          <p:nvPr/>
        </p:nvPicPr>
        <p:blipFill>
          <a:blip r:embed="rId5"/>
          <a:stretch/>
        </p:blipFill>
        <p:spPr>
          <a:xfrm>
            <a:off x="3429000" y="2971800"/>
            <a:ext cx="2209680" cy="501480"/>
          </a:xfrm>
          <a:prstGeom prst="rect">
            <a:avLst/>
          </a:prstGeom>
          <a:ln w="0">
            <a:noFill/>
          </a:ln>
        </p:spPr>
      </p:pic>
      <p:pic>
        <p:nvPicPr>
          <p:cNvPr id="110" name="caelum" descr=""/>
          <p:cNvPicPr/>
          <p:nvPr/>
        </p:nvPicPr>
        <p:blipFill>
          <a:blip r:embed="rId6"/>
          <a:stretch/>
        </p:blipFill>
        <p:spPr>
          <a:xfrm>
            <a:off x="1981080" y="5181480"/>
            <a:ext cx="5776920" cy="594000"/>
          </a:xfrm>
          <a:prstGeom prst="rect">
            <a:avLst/>
          </a:prstGeom>
          <a:ln w="0">
            <a:noFill/>
          </a:ln>
        </p:spPr>
      </p:pic>
      <p:pic>
        <p:nvPicPr>
          <p:cNvPr id="111" name="logo_luxottica" descr=""/>
          <p:cNvPicPr/>
          <p:nvPr/>
        </p:nvPicPr>
        <p:blipFill>
          <a:blip r:embed="rId7"/>
          <a:stretch/>
        </p:blipFill>
        <p:spPr>
          <a:xfrm>
            <a:off x="3813120" y="2362320"/>
            <a:ext cx="1978200" cy="446040"/>
          </a:xfrm>
          <a:prstGeom prst="rect">
            <a:avLst/>
          </a:prstGeom>
          <a:ln w="0">
            <a:noFill/>
          </a:ln>
        </p:spPr>
      </p:pic>
      <p:pic>
        <p:nvPicPr>
          <p:cNvPr id="112" name="IDEALOGO" descr=""/>
          <p:cNvPicPr/>
          <p:nvPr/>
        </p:nvPicPr>
        <p:blipFill>
          <a:blip r:embed="rId8"/>
          <a:stretch/>
        </p:blipFill>
        <p:spPr>
          <a:xfrm>
            <a:off x="3048120" y="3733920"/>
            <a:ext cx="2842920" cy="996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1523880" y="2438280"/>
            <a:ext cx="1771920" cy="571680"/>
          </a:xfrm>
          <a:prstGeom prst="rect">
            <a:avLst/>
          </a:prstGeom>
          <a:ln w="0">
            <a:noFill/>
          </a:ln>
        </p:spPr>
      </p:pic>
      <p:pic>
        <p:nvPicPr>
          <p:cNvPr id="114" name="logo" descr=""/>
          <p:cNvPicPr/>
          <p:nvPr/>
        </p:nvPicPr>
        <p:blipFill>
          <a:blip r:embed="rId10"/>
          <a:stretch/>
        </p:blipFill>
        <p:spPr>
          <a:xfrm>
            <a:off x="1752480" y="1523880"/>
            <a:ext cx="4218120" cy="754200"/>
          </a:xfrm>
          <a:prstGeom prst="rect">
            <a:avLst/>
          </a:prstGeom>
          <a:ln w="0">
            <a:noFill/>
          </a:ln>
        </p:spPr>
      </p:pic>
      <p:pic>
        <p:nvPicPr>
          <p:cNvPr id="115" name="logoGD" descr=""/>
          <p:cNvPicPr/>
          <p:nvPr/>
        </p:nvPicPr>
        <p:blipFill>
          <a:blip r:embed="rId11"/>
          <a:stretch/>
        </p:blipFill>
        <p:spPr>
          <a:xfrm>
            <a:off x="6172200" y="2657520"/>
            <a:ext cx="2057400" cy="1076400"/>
          </a:xfrm>
          <a:prstGeom prst="rect">
            <a:avLst/>
          </a:prstGeom>
          <a:ln w="0">
            <a:noFill/>
          </a:ln>
        </p:spPr>
      </p:pic>
      <p:pic>
        <p:nvPicPr>
          <p:cNvPr id="116" name="giardina" descr=""/>
          <p:cNvPicPr/>
          <p:nvPr/>
        </p:nvPicPr>
        <p:blipFill>
          <a:blip r:embed="rId12"/>
          <a:stretch/>
        </p:blipFill>
        <p:spPr>
          <a:xfrm>
            <a:off x="762120" y="4343400"/>
            <a:ext cx="1269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563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mechanical design and product data management solu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DESIGN 8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TEAM 8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19:11:23Z</dcterms:created>
  <dc:creator>srudy</dc:creator>
  <dc:description/>
  <dc:language>en-US</dc:language>
  <cp:lastModifiedBy>Fabio Paternò</cp:lastModifiedBy>
  <dcterms:modified xsi:type="dcterms:W3CDTF">2002-09-23T12:55:51Z</dcterms:modified>
  <cp:revision>38</cp:revision>
  <dc:subject/>
  <dc:title>Corporate Overview</dc:title>
</cp:coreProperties>
</file>