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AD85-7A05-4EA7-B672-6EDC2B865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396720" y="409680"/>
            <a:ext cx="3278520" cy="24588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44600" y="3032280"/>
            <a:ext cx="5773680" cy="589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 ist der Prozess?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er durch die IT überhaupt abgedeck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e weit ist er durch die IT abgedeck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er mit anderen Prozessen integri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die Integration funktional hinreiche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Datenkonsistenz gewährleist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893" name=""/>
          <p:cNvSpPr/>
          <p:nvPr/>
        </p:nvSpPr>
        <p:spPr>
          <a:xfrm>
            <a:off x="1383480" y="4859280"/>
            <a:ext cx="24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ho are we and what can we contribu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C9F5-A322-43F6-B461-7E854A42A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2ADB-3576-4003-A9A1-B621B66EE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AC32-2CEC-4ED3-9569-94446B98C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D905-0203-4379-8FB9-0130B9F68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0E7E-02FB-4F6E-8A20-4EE6FF0CB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DA44-A664-4BD2-85EE-29F25C5CC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033D-A971-48A7-B349-9B5156734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C9F7-7DEE-46E8-B344-42E39600B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3338-7C11-461F-BDB8-E751998C2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A3A1-21F0-4BF5-8D9E-7D40D9A67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F5C3-C7C1-4730-8D8F-B3A9BD2C2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4CA4-A4C2-4730-B527-300D61F4A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1523880" cy="5562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152388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3880" y="457200"/>
            <a:ext cx="762012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0A21-61EE-47BF-9413-51A99BE93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320" y="6415200"/>
            <a:ext cx="1371600" cy="21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5943600" y="76320"/>
            <a:ext cx="2971800" cy="3571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152388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57200"/>
            <a:ext cx="762012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295280"/>
            <a:ext cx="7620120" cy="5562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95280"/>
            <a:ext cx="1523880" cy="5562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320" y="6415200"/>
            <a:ext cx="1371600" cy="214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943600" y="76320"/>
            <a:ext cx="2971800" cy="35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67616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7000" y="138960"/>
            <a:ext cx="17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20020922   v02   K. Hettl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slide7.xml"/><Relationship Id="rId16" Type="http://schemas.openxmlformats.org/officeDocument/2006/relationships/slide" Target="slide2.xml"/><Relationship Id="rId17" Type="http://schemas.openxmlformats.org/officeDocument/2006/relationships/slide" Target="slide3.xml"/><Relationship Id="rId1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67616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mens Business Services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prise Application Integration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telligent way of integrat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application island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5400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D-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09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2287080" y="2209680"/>
            <a:ext cx="47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190480" y="4419720"/>
            <a:ext cx="2998440" cy="125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Karl F. Hett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S D SOL SI SW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l.Hettling@siemen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9 89 636 453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181480" y="4952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4773-B594-4AC2-B4AC-C53AE6C290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Clr>
                <a:srgbClr val="ff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Enterprise Application Integration (EA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buClr>
                <a:srgbClr val="ff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iemens Busines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601"/>
              </a:spcBef>
              <a:buClr>
                <a:srgbClr val="ff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I Projects and End-Us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3FE2-58C2-40B8-96D4-3EA7B8965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's th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5080" y="137160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pplication Spaghet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511280"/>
            <a:ext cx="1752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52480" y="1905120"/>
            <a:ext cx="7200720" cy="4422600"/>
            <a:chOff x="1752480" y="1905120"/>
            <a:chExt cx="7200720" cy="4422600"/>
          </a:xfrm>
        </p:grpSpPr>
        <p:sp>
          <p:nvSpPr>
            <p:cNvPr id="112" name=""/>
            <p:cNvSpPr/>
            <p:nvPr/>
          </p:nvSpPr>
          <p:spPr>
            <a:xfrm>
              <a:off x="3382920" y="3743640"/>
              <a:ext cx="8910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ULSAR 1 / 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1960" y="4302360"/>
              <a:ext cx="6793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IKASS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38320" y="4552920"/>
              <a:ext cx="4003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U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82640" y="5191920"/>
              <a:ext cx="673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U/PK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3720" y="5041800"/>
              <a:ext cx="394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85840" y="2919600"/>
              <a:ext cx="54216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ango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ffi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32840" y="4723560"/>
              <a:ext cx="5205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D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1680" y="2437200"/>
              <a:ext cx="394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36640" y="2756880"/>
              <a:ext cx="781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UN/PROF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6160" y="3062520"/>
              <a:ext cx="4827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D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46240" y="5244840"/>
              <a:ext cx="761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YPER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6520" y="2818080"/>
              <a:ext cx="6030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KUH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92240" y="3724200"/>
              <a:ext cx="5709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ME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97520" y="3996720"/>
              <a:ext cx="4946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K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54720" y="4220640"/>
              <a:ext cx="4964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SSY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28640" y="3874320"/>
              <a:ext cx="432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M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31520" y="2559600"/>
              <a:ext cx="5846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C-KL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21680" y="2184120"/>
              <a:ext cx="4705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U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49680" y="4577760"/>
              <a:ext cx="8330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PISTEL S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59920" y="5438160"/>
              <a:ext cx="54108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KULANZ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1680" y="3078000"/>
              <a:ext cx="5907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59920" y="2023200"/>
              <a:ext cx="464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KULI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1720" y="3896640"/>
              <a:ext cx="199800" cy="390240"/>
            </a:xfrm>
            <a:custGeom>
              <a:avLst/>
              <a:gdLst/>
              <a:ahLst/>
              <a:rect l="l" t="t" r="r" b="b"/>
              <a:pathLst>
                <a:path w="157" h="338">
                  <a:moveTo>
                    <a:pt x="0" y="0"/>
                  </a:moveTo>
                  <a:lnTo>
                    <a:pt x="0" y="168"/>
                  </a:lnTo>
                  <a:lnTo>
                    <a:pt x="78" y="168"/>
                  </a:lnTo>
                  <a:lnTo>
                    <a:pt x="156" y="168"/>
                  </a:lnTo>
                  <a:lnTo>
                    <a:pt x="156" y="3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5800" y="4082760"/>
              <a:ext cx="131760" cy="6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720" y="4390200"/>
              <a:ext cx="687600" cy="635040"/>
            </a:xfrm>
            <a:custGeom>
              <a:avLst/>
              <a:gdLst/>
              <a:ahLst/>
              <a:rect l="l" t="t" r="r" b="b"/>
              <a:pathLst>
                <a:path w="538" h="550">
                  <a:moveTo>
                    <a:pt x="0" y="0"/>
                  </a:moveTo>
                  <a:lnTo>
                    <a:pt x="0" y="160"/>
                  </a:lnTo>
                  <a:lnTo>
                    <a:pt x="269" y="160"/>
                  </a:lnTo>
                  <a:lnTo>
                    <a:pt x="537" y="160"/>
                  </a:lnTo>
                  <a:lnTo>
                    <a:pt x="537" y="5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64480" y="4660920"/>
              <a:ext cx="1258920" cy="82080"/>
            </a:xfrm>
            <a:custGeom>
              <a:avLst/>
              <a:gdLst/>
              <a:ahLst/>
              <a:rect l="l" t="t" r="r" b="b"/>
              <a:pathLst>
                <a:path w="985" h="72">
                  <a:moveTo>
                    <a:pt x="0" y="71"/>
                  </a:moveTo>
                  <a:lnTo>
                    <a:pt x="559" y="71"/>
                  </a:lnTo>
                  <a:lnTo>
                    <a:pt x="559" y="35"/>
                  </a:lnTo>
                  <a:lnTo>
                    <a:pt x="559" y="0"/>
                  </a:lnTo>
                  <a:lnTo>
                    <a:pt x="9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18520" y="2631600"/>
              <a:ext cx="2298960" cy="1098000"/>
            </a:xfrm>
            <a:custGeom>
              <a:avLst/>
              <a:gdLst/>
              <a:ahLst/>
              <a:rect l="l" t="t" r="r" b="b"/>
              <a:pathLst>
                <a:path w="1800" h="950">
                  <a:moveTo>
                    <a:pt x="1799" y="0"/>
                  </a:moveTo>
                  <a:lnTo>
                    <a:pt x="0" y="0"/>
                  </a:lnTo>
                  <a:lnTo>
                    <a:pt x="0" y="9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1520" y="4866840"/>
              <a:ext cx="5648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P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32760" y="4284360"/>
              <a:ext cx="880920" cy="892080"/>
            </a:xfrm>
            <a:custGeom>
              <a:avLst/>
              <a:gdLst/>
              <a:ahLst/>
              <a:rect l="l" t="t" r="r" b="b"/>
              <a:pathLst>
                <a:path w="690" h="773">
                  <a:moveTo>
                    <a:pt x="689" y="0"/>
                  </a:moveTo>
                  <a:lnTo>
                    <a:pt x="0" y="0"/>
                  </a:lnTo>
                  <a:lnTo>
                    <a:pt x="0" y="7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68200" y="3194640"/>
              <a:ext cx="699120" cy="360"/>
            </a:xfrm>
            <a:custGeom>
              <a:avLst/>
              <a:gdLst/>
              <a:ahLst/>
              <a:rect l="l" t="t" r="r" b="b"/>
              <a:pathLst>
                <a:path w="548" h="1">
                  <a:moveTo>
                    <a:pt x="547" y="0"/>
                  </a:moveTo>
                  <a:lnTo>
                    <a:pt x="28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92120" y="3289320"/>
              <a:ext cx="3206880" cy="465480"/>
            </a:xfrm>
            <a:custGeom>
              <a:avLst/>
              <a:gdLst/>
              <a:ahLst/>
              <a:rect l="l" t="t" r="r" b="b"/>
              <a:pathLst>
                <a:path w="2511" h="403">
                  <a:moveTo>
                    <a:pt x="2510" y="0"/>
                  </a:moveTo>
                  <a:lnTo>
                    <a:pt x="1796" y="0"/>
                  </a:lnTo>
                  <a:lnTo>
                    <a:pt x="1796" y="201"/>
                  </a:lnTo>
                  <a:lnTo>
                    <a:pt x="1796" y="402"/>
                  </a:lnTo>
                  <a:lnTo>
                    <a:pt x="0" y="4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86720" y="3801960"/>
              <a:ext cx="2386080" cy="1440"/>
            </a:xfrm>
            <a:custGeom>
              <a:avLst/>
              <a:gdLst/>
              <a:ahLst/>
              <a:rect l="l" t="t" r="r" b="b"/>
              <a:pathLst>
                <a:path w="1869" h="1">
                  <a:moveTo>
                    <a:pt x="0" y="0"/>
                  </a:moveTo>
                  <a:lnTo>
                    <a:pt x="920" y="0"/>
                  </a:lnTo>
                  <a:lnTo>
                    <a:pt x="186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05600" y="5574240"/>
              <a:ext cx="888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AUPTBUCH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0440" y="4324680"/>
              <a:ext cx="1371600" cy="291600"/>
            </a:xfrm>
            <a:custGeom>
              <a:avLst/>
              <a:gdLst/>
              <a:ahLst/>
              <a:rect l="l" t="t" r="r" b="b"/>
              <a:pathLst>
                <a:path w="1074" h="253">
                  <a:moveTo>
                    <a:pt x="0" y="0"/>
                  </a:moveTo>
                  <a:lnTo>
                    <a:pt x="837" y="0"/>
                  </a:lnTo>
                  <a:lnTo>
                    <a:pt x="837" y="126"/>
                  </a:lnTo>
                  <a:lnTo>
                    <a:pt x="837" y="252"/>
                  </a:lnTo>
                  <a:lnTo>
                    <a:pt x="1073" y="2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09440" y="3193560"/>
              <a:ext cx="60300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G-VI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FI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2360" y="2280240"/>
              <a:ext cx="5709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G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6120" y="3097440"/>
              <a:ext cx="292320" cy="626400"/>
            </a:xfrm>
            <a:custGeom>
              <a:avLst/>
              <a:gdLst/>
              <a:ahLst/>
              <a:rect l="l" t="t" r="r" b="b"/>
              <a:pathLst>
                <a:path w="229" h="543">
                  <a:moveTo>
                    <a:pt x="228" y="0"/>
                  </a:moveTo>
                  <a:lnTo>
                    <a:pt x="228" y="158"/>
                  </a:lnTo>
                  <a:lnTo>
                    <a:pt x="114" y="158"/>
                  </a:lnTo>
                  <a:lnTo>
                    <a:pt x="0" y="158"/>
                  </a:lnTo>
                  <a:lnTo>
                    <a:pt x="0" y="5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213800" y="308772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885640" y="4263480"/>
              <a:ext cx="868680" cy="1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761520" y="3975480"/>
              <a:ext cx="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73040" y="3987000"/>
              <a:ext cx="23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554520" y="2826360"/>
              <a:ext cx="563040" cy="237240"/>
              <a:chOff x="6554520" y="2826360"/>
              <a:chExt cx="563040" cy="237240"/>
            </a:xfrm>
          </p:grpSpPr>
          <p:sp>
            <p:nvSpPr>
              <p:cNvPr id="154" name=""/>
              <p:cNvSpPr/>
              <p:nvPr/>
            </p:nvSpPr>
            <p:spPr>
              <a:xfrm>
                <a:off x="6560640" y="2826360"/>
                <a:ext cx="556920" cy="230400"/>
              </a:xfrm>
              <a:custGeom>
                <a:avLst/>
                <a:gdLst/>
                <a:ahLst/>
                <a:rect l="l" t="t" r="r" b="b"/>
                <a:pathLst>
                  <a:path w="437" h="199">
                    <a:moveTo>
                      <a:pt x="436" y="0"/>
                    </a:moveTo>
                    <a:lnTo>
                      <a:pt x="340" y="0"/>
                    </a:lnTo>
                    <a:lnTo>
                      <a:pt x="340" y="99"/>
                    </a:lnTo>
                    <a:lnTo>
                      <a:pt x="340" y="198"/>
                    </a:lnTo>
                    <a:lnTo>
                      <a:pt x="0" y="1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54520" y="3051000"/>
                <a:ext cx="7200" cy="1260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5" y="10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H="1">
              <a:off x="7038360" y="2469240"/>
              <a:ext cx="207000" cy="269640"/>
            </a:xfrm>
            <a:custGeom>
              <a:avLst/>
              <a:gdLst/>
              <a:ahLst/>
              <a:rect l="l" t="t" r="r" b="b"/>
              <a:pathLst>
                <a:path w="162" h="233">
                  <a:moveTo>
                    <a:pt x="161" y="0"/>
                  </a:moveTo>
                  <a:lnTo>
                    <a:pt x="161" y="51"/>
                  </a:lnTo>
                  <a:lnTo>
                    <a:pt x="80" y="51"/>
                  </a:lnTo>
                  <a:lnTo>
                    <a:pt x="0" y="51"/>
                  </a:lnTo>
                  <a:lnTo>
                    <a:pt x="0" y="2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74240" y="2737440"/>
              <a:ext cx="10080" cy="25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3" y="1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8560" y="5464080"/>
              <a:ext cx="330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K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92880" y="2887560"/>
              <a:ext cx="657720" cy="204120"/>
            </a:xfrm>
            <a:custGeom>
              <a:avLst/>
              <a:gdLst/>
              <a:ahLst/>
              <a:rect l="l" t="t" r="r" b="b"/>
              <a:pathLst>
                <a:path w="515" h="177">
                  <a:moveTo>
                    <a:pt x="0" y="0"/>
                  </a:moveTo>
                  <a:lnTo>
                    <a:pt x="250" y="0"/>
                  </a:lnTo>
                  <a:lnTo>
                    <a:pt x="250" y="84"/>
                  </a:lnTo>
                  <a:lnTo>
                    <a:pt x="250" y="176"/>
                  </a:lnTo>
                  <a:lnTo>
                    <a:pt x="514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63640" y="3130560"/>
              <a:ext cx="8895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ULSAR2/V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13040" y="3326760"/>
              <a:ext cx="761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VV / MV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7840" y="3389400"/>
              <a:ext cx="844560" cy="394560"/>
            </a:xfrm>
            <a:custGeom>
              <a:avLst/>
              <a:gdLst/>
              <a:ahLst/>
              <a:rect l="l" t="t" r="r" b="b"/>
              <a:pathLst>
                <a:path w="662" h="342">
                  <a:moveTo>
                    <a:pt x="0" y="0"/>
                  </a:moveTo>
                  <a:lnTo>
                    <a:pt x="371" y="1"/>
                  </a:lnTo>
                  <a:lnTo>
                    <a:pt x="371" y="177"/>
                  </a:lnTo>
                  <a:lnTo>
                    <a:pt x="370" y="339"/>
                  </a:lnTo>
                  <a:lnTo>
                    <a:pt x="661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46720" y="2922480"/>
              <a:ext cx="609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GB/RV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12520" y="3613320"/>
              <a:ext cx="880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GB/MOMA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52680" y="3749400"/>
              <a:ext cx="103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9520" y="1971720"/>
              <a:ext cx="729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SEN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82160" y="2654280"/>
              <a:ext cx="717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UEP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91880" y="5240520"/>
              <a:ext cx="4356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" y="0"/>
                  </a:moveTo>
                  <a:lnTo>
                    <a:pt x="33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52680" y="5564520"/>
              <a:ext cx="3996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16640" y="5869080"/>
              <a:ext cx="103428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KON-DIENS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22040" y="4360680"/>
              <a:ext cx="4946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A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30680" y="4130280"/>
              <a:ext cx="5832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SU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04720" y="4890240"/>
              <a:ext cx="2126160" cy="281880"/>
            </a:xfrm>
            <a:custGeom>
              <a:avLst/>
              <a:gdLst/>
              <a:ahLst/>
              <a:rect l="l" t="t" r="r" b="b"/>
              <a:pathLst>
                <a:path w="1665" h="244">
                  <a:moveTo>
                    <a:pt x="0" y="0"/>
                  </a:moveTo>
                  <a:lnTo>
                    <a:pt x="1664" y="0"/>
                  </a:lnTo>
                  <a:lnTo>
                    <a:pt x="1664" y="2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1240" y="4212000"/>
              <a:ext cx="1427040" cy="204120"/>
            </a:xfrm>
            <a:custGeom>
              <a:avLst/>
              <a:gdLst/>
              <a:ahLst/>
              <a:rect l="l" t="t" r="r" b="b"/>
              <a:pathLst>
                <a:path w="1117" h="177">
                  <a:moveTo>
                    <a:pt x="0" y="0"/>
                  </a:moveTo>
                  <a:lnTo>
                    <a:pt x="265" y="0"/>
                  </a:lnTo>
                  <a:lnTo>
                    <a:pt x="265" y="176"/>
                  </a:lnTo>
                  <a:lnTo>
                    <a:pt x="1116" y="1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22040" y="4815360"/>
              <a:ext cx="4885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B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73240" y="5702040"/>
              <a:ext cx="6228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BER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50280" y="3241800"/>
              <a:ext cx="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47520" y="3895200"/>
              <a:ext cx="1104120" cy="1566000"/>
            </a:xfrm>
            <a:custGeom>
              <a:avLst/>
              <a:gdLst/>
              <a:ahLst/>
              <a:rect l="l" t="t" r="r" b="b"/>
              <a:pathLst>
                <a:path w="865" h="1355">
                  <a:moveTo>
                    <a:pt x="0" y="0"/>
                  </a:moveTo>
                  <a:lnTo>
                    <a:pt x="0" y="1354"/>
                  </a:lnTo>
                  <a:lnTo>
                    <a:pt x="864" y="13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84760" y="5942520"/>
              <a:ext cx="609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P/AM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48040" y="5127840"/>
              <a:ext cx="432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AV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50800" y="4837680"/>
              <a:ext cx="740520" cy="275040"/>
            </a:xfrm>
            <a:custGeom>
              <a:avLst/>
              <a:gdLst/>
              <a:ahLst/>
              <a:rect l="l" t="t" r="r" b="b"/>
              <a:pathLst>
                <a:path w="580" h="238">
                  <a:moveTo>
                    <a:pt x="0" y="0"/>
                  </a:moveTo>
                  <a:lnTo>
                    <a:pt x="579" y="0"/>
                  </a:lnTo>
                  <a:lnTo>
                    <a:pt x="579" y="2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15320" y="2423520"/>
              <a:ext cx="6289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V/ED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03960" y="2588760"/>
              <a:ext cx="0" cy="112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7280" y="2178720"/>
              <a:ext cx="213120" cy="320760"/>
            </a:xfrm>
            <a:custGeom>
              <a:avLst/>
              <a:gdLst/>
              <a:ahLst/>
              <a:rect l="l" t="t" r="r" b="b"/>
              <a:pathLst>
                <a:path w="167" h="278">
                  <a:moveTo>
                    <a:pt x="0" y="277"/>
                  </a:moveTo>
                  <a:lnTo>
                    <a:pt x="166" y="277"/>
                  </a:lnTo>
                  <a:lnTo>
                    <a:pt x="1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70080" y="1905120"/>
              <a:ext cx="104652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xternal invoic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ipi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19280" y="3097440"/>
              <a:ext cx="2976120" cy="234720"/>
            </a:xfrm>
            <a:custGeom>
              <a:avLst/>
              <a:gdLst/>
              <a:ahLst/>
              <a:rect l="l" t="t" r="r" b="b"/>
              <a:pathLst>
                <a:path w="2330" h="203">
                  <a:moveTo>
                    <a:pt x="2329" y="202"/>
                  </a:move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12600" y="3182400"/>
              <a:ext cx="1882800" cy="66240"/>
            </a:xfrm>
            <a:custGeom>
              <a:avLst/>
              <a:gdLst/>
              <a:ahLst/>
              <a:rect l="l" t="t" r="r" b="b"/>
              <a:pathLst>
                <a:path w="1474" h="58">
                  <a:moveTo>
                    <a:pt x="0" y="0"/>
                  </a:moveTo>
                  <a:lnTo>
                    <a:pt x="0" y="57"/>
                  </a:lnTo>
                  <a:lnTo>
                    <a:pt x="1473" y="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67120" y="3003120"/>
              <a:ext cx="1464480" cy="102600"/>
            </a:xfrm>
            <a:custGeom>
              <a:avLst/>
              <a:gdLst/>
              <a:ahLst/>
              <a:rect l="l" t="t" r="r" b="b"/>
              <a:pathLst>
                <a:path w="1147" h="89">
                  <a:moveTo>
                    <a:pt x="0" y="88"/>
                  </a:moveTo>
                  <a:lnTo>
                    <a:pt x="909" y="88"/>
                  </a:lnTo>
                  <a:lnTo>
                    <a:pt x="909" y="0"/>
                  </a:lnTo>
                  <a:lnTo>
                    <a:pt x="114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01120" y="2016360"/>
              <a:ext cx="6656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KP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5720" y="3016800"/>
              <a:ext cx="581040" cy="74880"/>
            </a:xfrm>
            <a:custGeom>
              <a:avLst/>
              <a:gdLst/>
              <a:ahLst/>
              <a:rect l="l" t="t" r="r" b="b"/>
              <a:pathLst>
                <a:path w="455" h="66">
                  <a:moveTo>
                    <a:pt x="454" y="65"/>
                  </a:moveTo>
                  <a:lnTo>
                    <a:pt x="231" y="65"/>
                  </a:lnTo>
                  <a:lnTo>
                    <a:pt x="23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99440" y="2719440"/>
              <a:ext cx="910800" cy="461160"/>
            </a:xfrm>
            <a:custGeom>
              <a:avLst/>
              <a:gdLst/>
              <a:ahLst/>
              <a:rect l="l" t="t" r="r" b="b"/>
              <a:pathLst>
                <a:path w="714" h="400">
                  <a:moveTo>
                    <a:pt x="0" y="0"/>
                  </a:moveTo>
                  <a:lnTo>
                    <a:pt x="0" y="196"/>
                  </a:lnTo>
                  <a:lnTo>
                    <a:pt x="713" y="196"/>
                  </a:lnTo>
                  <a:lnTo>
                    <a:pt x="713" y="3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44160" y="3558960"/>
              <a:ext cx="1798560" cy="167760"/>
            </a:xfrm>
            <a:custGeom>
              <a:avLst/>
              <a:gdLst/>
              <a:ahLst/>
              <a:rect l="l" t="t" r="r" b="b"/>
              <a:pathLst>
                <a:path w="1409" h="145">
                  <a:moveTo>
                    <a:pt x="1408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70840" y="3441960"/>
              <a:ext cx="1422000" cy="630720"/>
            </a:xfrm>
            <a:custGeom>
              <a:avLst/>
              <a:gdLst/>
              <a:ahLst/>
              <a:rect l="l" t="t" r="r" b="b"/>
              <a:pathLst>
                <a:path w="1114" h="547">
                  <a:moveTo>
                    <a:pt x="0" y="546"/>
                  </a:moveTo>
                  <a:lnTo>
                    <a:pt x="14" y="546"/>
                  </a:lnTo>
                  <a:lnTo>
                    <a:pt x="1113" y="546"/>
                  </a:lnTo>
                  <a:lnTo>
                    <a:pt x="111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89600" y="3835440"/>
              <a:ext cx="2924280" cy="88560"/>
            </a:xfrm>
            <a:custGeom>
              <a:avLst/>
              <a:gdLst/>
              <a:ahLst/>
              <a:rect l="l" t="t" r="r" b="b"/>
              <a:pathLst>
                <a:path w="2290" h="77">
                  <a:moveTo>
                    <a:pt x="2289" y="76"/>
                  </a:moveTo>
                  <a:lnTo>
                    <a:pt x="1187" y="76"/>
                  </a:lnTo>
                  <a:lnTo>
                    <a:pt x="118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60120" y="5614560"/>
              <a:ext cx="671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RABU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88800" y="4738680"/>
              <a:ext cx="1080" cy="93240"/>
            </a:xfrm>
            <a:custGeom>
              <a:avLst/>
              <a:gdLst/>
              <a:ahLst/>
              <a:rect l="l" t="t" r="r" b="b"/>
              <a:pathLst>
                <a:path w="1" h="80">
                  <a:moveTo>
                    <a:pt x="0" y="0"/>
                  </a:moveTo>
                  <a:lnTo>
                    <a:pt x="0" y="7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2480" y="5998320"/>
              <a:ext cx="29736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VI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3520" y="5372640"/>
              <a:ext cx="89712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terial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(LAUBS...)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02960" y="5779800"/>
              <a:ext cx="54684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ntrolling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(KABA...)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07920" y="5339160"/>
              <a:ext cx="725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rvice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ool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e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2200" y="5604840"/>
              <a:ext cx="75528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R 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(IKARUS...)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12160" y="5546160"/>
              <a:ext cx="84708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roject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(PHOENIX...)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98240" y="5803560"/>
              <a:ext cx="473040" cy="106920"/>
            </a:xfrm>
            <a:custGeom>
              <a:avLst/>
              <a:gdLst/>
              <a:ahLst/>
              <a:rect l="l" t="t" r="r" b="b"/>
              <a:pathLst>
                <a:path w="371" h="93">
                  <a:moveTo>
                    <a:pt x="0" y="0"/>
                  </a:moveTo>
                  <a:lnTo>
                    <a:pt x="0" y="92"/>
                  </a:lnTo>
                  <a:lnTo>
                    <a:pt x="370" y="9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04480" y="2898720"/>
              <a:ext cx="2055960" cy="2404440"/>
            </a:xfrm>
            <a:custGeom>
              <a:avLst/>
              <a:gdLst/>
              <a:ahLst/>
              <a:rect l="l" t="t" r="r" b="b"/>
              <a:pathLst>
                <a:path w="1610" h="2081">
                  <a:moveTo>
                    <a:pt x="0" y="2080"/>
                  </a:moveTo>
                  <a:lnTo>
                    <a:pt x="2" y="0"/>
                  </a:lnTo>
                  <a:lnTo>
                    <a:pt x="160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22040" y="2861280"/>
              <a:ext cx="4885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EB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21680" y="2651400"/>
              <a:ext cx="5785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B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85880" y="4854240"/>
              <a:ext cx="9673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PISTEL s. BU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31440" y="5499360"/>
              <a:ext cx="432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WV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57280" y="4622040"/>
              <a:ext cx="205560" cy="633600"/>
            </a:xfrm>
            <a:custGeom>
              <a:avLst/>
              <a:gdLst/>
              <a:ahLst/>
              <a:rect l="l" t="t" r="r" b="b"/>
              <a:pathLst>
                <a:path w="161" h="548">
                  <a:moveTo>
                    <a:pt x="0" y="0"/>
                  </a:moveTo>
                  <a:lnTo>
                    <a:pt x="113" y="0"/>
                  </a:lnTo>
                  <a:lnTo>
                    <a:pt x="113" y="547"/>
                  </a:lnTo>
                  <a:lnTo>
                    <a:pt x="160" y="5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20960" y="4588560"/>
              <a:ext cx="86508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BERIA Bsl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82360" y="3393360"/>
              <a:ext cx="122760" cy="1488240"/>
            </a:xfrm>
            <a:custGeom>
              <a:avLst/>
              <a:gdLst/>
              <a:ahLst/>
              <a:rect l="l" t="t" r="r" b="b"/>
              <a:pathLst>
                <a:path w="97" h="1289">
                  <a:moveTo>
                    <a:pt x="88" y="0"/>
                  </a:moveTo>
                  <a:lnTo>
                    <a:pt x="0" y="0"/>
                  </a:lnTo>
                  <a:lnTo>
                    <a:pt x="0" y="1288"/>
                  </a:lnTo>
                  <a:lnTo>
                    <a:pt x="96" y="12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96080" y="2199600"/>
              <a:ext cx="1106640" cy="293040"/>
            </a:xfrm>
            <a:custGeom>
              <a:avLst/>
              <a:gdLst/>
              <a:ahLst/>
              <a:rect l="l" t="t" r="r" b="b"/>
              <a:pathLst>
                <a:path w="867" h="254">
                  <a:moveTo>
                    <a:pt x="0" y="0"/>
                  </a:moveTo>
                  <a:lnTo>
                    <a:pt x="483" y="1"/>
                  </a:lnTo>
                  <a:lnTo>
                    <a:pt x="483" y="253"/>
                  </a:lnTo>
                  <a:lnTo>
                    <a:pt x="866" y="2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15760" y="5535000"/>
              <a:ext cx="776880" cy="60840"/>
            </a:xfrm>
            <a:custGeom>
              <a:avLst/>
              <a:gdLst/>
              <a:ahLst/>
              <a:rect l="l" t="t" r="r" b="b"/>
              <a:pathLst>
                <a:path w="609" h="53">
                  <a:moveTo>
                    <a:pt x="0" y="0"/>
                  </a:moveTo>
                  <a:lnTo>
                    <a:pt x="320" y="0"/>
                  </a:lnTo>
                  <a:lnTo>
                    <a:pt x="320" y="52"/>
                  </a:lnTo>
                  <a:lnTo>
                    <a:pt x="608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48720" y="5096160"/>
              <a:ext cx="929880" cy="325080"/>
            </a:xfrm>
            <a:custGeom>
              <a:avLst/>
              <a:gdLst/>
              <a:ahLst/>
              <a:rect l="l" t="t" r="r" b="b"/>
              <a:pathLst>
                <a:path w="728" h="282">
                  <a:moveTo>
                    <a:pt x="0" y="281"/>
                  </a:moveTo>
                  <a:lnTo>
                    <a:pt x="0" y="0"/>
                  </a:lnTo>
                  <a:lnTo>
                    <a:pt x="7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41160" y="506556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" y="0"/>
                  </a:moveTo>
                  <a:lnTo>
                    <a:pt x="33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98280" y="5574240"/>
              <a:ext cx="6289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V/ED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22120" y="56757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3040" y="5675760"/>
              <a:ext cx="845640" cy="102600"/>
            </a:xfrm>
            <a:custGeom>
              <a:avLst/>
              <a:gdLst/>
              <a:ahLst/>
              <a:rect l="l" t="t" r="r" b="b"/>
              <a:pathLst>
                <a:path w="663" h="90">
                  <a:moveTo>
                    <a:pt x="0" y="87"/>
                  </a:moveTo>
                  <a:lnTo>
                    <a:pt x="408" y="89"/>
                  </a:lnTo>
                  <a:lnTo>
                    <a:pt x="408" y="0"/>
                  </a:lnTo>
                  <a:lnTo>
                    <a:pt x="66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52680" y="564228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" y="0"/>
                  </a:moveTo>
                  <a:lnTo>
                    <a:pt x="31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55080" y="4394160"/>
              <a:ext cx="637560" cy="1238040"/>
            </a:xfrm>
            <a:custGeom>
              <a:avLst/>
              <a:gdLst/>
              <a:ahLst/>
              <a:rect l="l" t="t" r="r" b="b"/>
              <a:pathLst>
                <a:path w="500" h="1072">
                  <a:moveTo>
                    <a:pt x="499" y="1071"/>
                  </a:moveTo>
                  <a:lnTo>
                    <a:pt x="0" y="106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5480" y="562680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63080" y="4745520"/>
              <a:ext cx="932400" cy="811800"/>
            </a:xfrm>
            <a:custGeom>
              <a:avLst/>
              <a:gdLst/>
              <a:ahLst/>
              <a:rect l="l" t="t" r="r" b="b"/>
              <a:pathLst>
                <a:path w="730" h="702">
                  <a:moveTo>
                    <a:pt x="0" y="701"/>
                  </a:moveTo>
                  <a:lnTo>
                    <a:pt x="0" y="41"/>
                  </a:lnTo>
                  <a:lnTo>
                    <a:pt x="729" y="41"/>
                  </a:lnTo>
                  <a:lnTo>
                    <a:pt x="7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49920" y="5524200"/>
              <a:ext cx="263520" cy="33120"/>
            </a:xfrm>
            <a:custGeom>
              <a:avLst/>
              <a:gdLst/>
              <a:ahLst/>
              <a:rect l="l" t="t" r="r" b="b"/>
              <a:pathLst>
                <a:path w="207" h="29">
                  <a:moveTo>
                    <a:pt x="0" y="28"/>
                  </a:moveTo>
                  <a:lnTo>
                    <a:pt x="0" y="0"/>
                  </a:lnTo>
                  <a:lnTo>
                    <a:pt x="20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72400" y="549756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7960" y="5271120"/>
              <a:ext cx="441720" cy="155520"/>
            </a:xfrm>
            <a:custGeom>
              <a:avLst/>
              <a:gdLst/>
              <a:ahLst/>
              <a:rect l="l" t="t" r="r" b="b"/>
              <a:pathLst>
                <a:path w="346" h="134">
                  <a:moveTo>
                    <a:pt x="0" y="133"/>
                  </a:move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38320" y="5118120"/>
              <a:ext cx="1340280" cy="57960"/>
            </a:xfrm>
            <a:custGeom>
              <a:avLst/>
              <a:gdLst/>
              <a:ahLst/>
              <a:rect l="l" t="t" r="r" b="b"/>
              <a:pathLst>
                <a:path w="1050" h="51">
                  <a:moveTo>
                    <a:pt x="0" y="50"/>
                  </a:moveTo>
                  <a:lnTo>
                    <a:pt x="0" y="0"/>
                  </a:lnTo>
                  <a:lnTo>
                    <a:pt x="10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88480" y="4702680"/>
              <a:ext cx="1698120" cy="1206000"/>
            </a:xfrm>
            <a:custGeom>
              <a:avLst/>
              <a:gdLst/>
              <a:ahLst/>
              <a:rect l="l" t="t" r="r" b="b"/>
              <a:pathLst>
                <a:path w="1330" h="1044">
                  <a:moveTo>
                    <a:pt x="1281" y="0"/>
                  </a:moveTo>
                  <a:lnTo>
                    <a:pt x="1329" y="0"/>
                  </a:lnTo>
                  <a:lnTo>
                    <a:pt x="1329" y="1043"/>
                  </a:lnTo>
                  <a:lnTo>
                    <a:pt x="0" y="10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08840" y="4679280"/>
              <a:ext cx="43560" cy="525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40520" y="4733280"/>
              <a:ext cx="2645640" cy="1069920"/>
            </a:xfrm>
            <a:custGeom>
              <a:avLst/>
              <a:gdLst/>
              <a:ahLst/>
              <a:rect l="l" t="t" r="r" b="b"/>
              <a:pathLst>
                <a:path w="2072" h="926">
                  <a:moveTo>
                    <a:pt x="0" y="925"/>
                  </a:moveTo>
                  <a:lnTo>
                    <a:pt x="2071" y="923"/>
                  </a:lnTo>
                  <a:lnTo>
                    <a:pt x="207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65720" y="5750640"/>
              <a:ext cx="1293840" cy="299880"/>
            </a:xfrm>
            <a:custGeom>
              <a:avLst/>
              <a:gdLst/>
              <a:ahLst/>
              <a:rect l="l" t="t" r="r" b="b"/>
              <a:pathLst>
                <a:path w="1013" h="260">
                  <a:moveTo>
                    <a:pt x="1012" y="0"/>
                  </a:moveTo>
                  <a:lnTo>
                    <a:pt x="1012" y="259"/>
                  </a:lnTo>
                  <a:lnTo>
                    <a:pt x="0" y="2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000" y="602316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95720" y="5853600"/>
              <a:ext cx="1080" cy="7488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80840" y="5749200"/>
              <a:ext cx="1080" cy="11124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6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07880" y="5225400"/>
              <a:ext cx="593640" cy="725400"/>
            </a:xfrm>
            <a:custGeom>
              <a:avLst/>
              <a:gdLst/>
              <a:ahLst/>
              <a:rect l="l" t="t" r="r" b="b"/>
              <a:pathLst>
                <a:path w="465" h="628">
                  <a:moveTo>
                    <a:pt x="464" y="627"/>
                  </a:moveTo>
                  <a:lnTo>
                    <a:pt x="386" y="627"/>
                  </a:lnTo>
                  <a:lnTo>
                    <a:pt x="38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87720" y="519876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1" y="0"/>
                  </a:moveTo>
                  <a:lnTo>
                    <a:pt x="0" y="25"/>
                  </a:lnTo>
                  <a:lnTo>
                    <a:pt x="33" y="46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89160" y="531720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1" y="0"/>
                  </a:moveTo>
                  <a:lnTo>
                    <a:pt x="0" y="25"/>
                  </a:lnTo>
                  <a:lnTo>
                    <a:pt x="33" y="46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40520" y="4880520"/>
              <a:ext cx="302400" cy="873000"/>
            </a:xfrm>
            <a:custGeom>
              <a:avLst/>
              <a:gdLst/>
              <a:ahLst/>
              <a:rect l="l" t="t" r="r" b="b"/>
              <a:pathLst>
                <a:path w="237" h="755">
                  <a:moveTo>
                    <a:pt x="0" y="753"/>
                  </a:moveTo>
                  <a:lnTo>
                    <a:pt x="236" y="754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56840" y="5015520"/>
              <a:ext cx="66996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IS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AKON- DIENSTE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86080" y="3147480"/>
              <a:ext cx="968760" cy="593280"/>
            </a:xfrm>
            <a:custGeom>
              <a:avLst/>
              <a:gdLst/>
              <a:ahLst/>
              <a:rect l="l" t="t" r="r" b="b"/>
              <a:pathLst>
                <a:path w="759" h="513">
                  <a:moveTo>
                    <a:pt x="0" y="0"/>
                  </a:moveTo>
                  <a:lnTo>
                    <a:pt x="597" y="0"/>
                  </a:lnTo>
                  <a:lnTo>
                    <a:pt x="597" y="512"/>
                  </a:lnTo>
                  <a:lnTo>
                    <a:pt x="758" y="5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16640" y="3522600"/>
              <a:ext cx="5205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D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04720" y="4934880"/>
              <a:ext cx="160200" cy="63720"/>
            </a:xfrm>
            <a:custGeom>
              <a:avLst/>
              <a:gdLst/>
              <a:ahLst/>
              <a:rect l="l" t="t" r="r" b="b"/>
              <a:pathLst>
                <a:path w="126" h="56">
                  <a:moveTo>
                    <a:pt x="0" y="0"/>
                  </a:moveTo>
                  <a:lnTo>
                    <a:pt x="125" y="0"/>
                  </a:lnTo>
                  <a:lnTo>
                    <a:pt x="125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07000" y="543096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55080" y="5483880"/>
              <a:ext cx="4248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720" y="5513040"/>
              <a:ext cx="174240" cy="1080"/>
            </a:xfrm>
            <a:custGeom>
              <a:avLst/>
              <a:gdLst/>
              <a:ahLst/>
              <a:rect l="l" t="t" r="r" b="b"/>
              <a:pathLst>
                <a:path w="137" h="1">
                  <a:moveTo>
                    <a:pt x="0" y="0"/>
                  </a:moveTo>
                  <a:lnTo>
                    <a:pt x="1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0040" y="5704920"/>
              <a:ext cx="561960" cy="2520"/>
            </a:xfrm>
            <a:custGeom>
              <a:avLst/>
              <a:gdLst/>
              <a:ahLst/>
              <a:rect l="l" t="t" r="r" b="b"/>
              <a:pathLst>
                <a:path w="440" h="2">
                  <a:moveTo>
                    <a:pt x="439" y="0"/>
                  </a:move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05360" y="5372640"/>
              <a:ext cx="846720" cy="186120"/>
            </a:xfrm>
            <a:custGeom>
              <a:avLst/>
              <a:gdLst/>
              <a:ahLst/>
              <a:rect l="l" t="t" r="r" b="b"/>
              <a:pathLst>
                <a:path w="664" h="162">
                  <a:moveTo>
                    <a:pt x="663" y="26"/>
                  </a:moveTo>
                  <a:lnTo>
                    <a:pt x="663" y="0"/>
                  </a:lnTo>
                  <a:lnTo>
                    <a:pt x="0" y="0"/>
                  </a:lnTo>
                  <a:lnTo>
                    <a:pt x="0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43600" y="5771520"/>
              <a:ext cx="1513440" cy="360"/>
            </a:xfrm>
            <a:custGeom>
              <a:avLst/>
              <a:gdLst/>
              <a:ahLst/>
              <a:rect l="l" t="t" r="r" b="b"/>
              <a:pathLst>
                <a:path w="1185" h="1">
                  <a:moveTo>
                    <a:pt x="1184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5440" y="5082120"/>
              <a:ext cx="1893960" cy="737640"/>
            </a:xfrm>
            <a:custGeom>
              <a:avLst/>
              <a:gdLst/>
              <a:ahLst/>
              <a:rect l="l" t="t" r="r" b="b"/>
              <a:pathLst>
                <a:path w="1483" h="639">
                  <a:moveTo>
                    <a:pt x="0" y="0"/>
                  </a:moveTo>
                  <a:lnTo>
                    <a:pt x="603" y="0"/>
                  </a:lnTo>
                  <a:lnTo>
                    <a:pt x="603" y="638"/>
                  </a:lnTo>
                  <a:lnTo>
                    <a:pt x="1482" y="6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19600" y="578952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69320" y="4676400"/>
              <a:ext cx="2186280" cy="1119960"/>
            </a:xfrm>
            <a:custGeom>
              <a:avLst/>
              <a:gdLst/>
              <a:ahLst/>
              <a:rect l="l" t="t" r="r" b="b"/>
              <a:pathLst>
                <a:path w="1712" h="969">
                  <a:moveTo>
                    <a:pt x="0" y="1"/>
                  </a:moveTo>
                  <a:lnTo>
                    <a:pt x="765" y="0"/>
                  </a:lnTo>
                  <a:lnTo>
                    <a:pt x="765" y="968"/>
                  </a:lnTo>
                  <a:lnTo>
                    <a:pt x="1711" y="9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18160" y="576468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56520" y="558828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23440" y="5888160"/>
              <a:ext cx="2278080" cy="1440"/>
            </a:xfrm>
            <a:custGeom>
              <a:avLst/>
              <a:gdLst/>
              <a:ahLst/>
              <a:rect l="l" t="t" r="r" b="b"/>
              <a:pathLst>
                <a:path w="1784" h="1">
                  <a:moveTo>
                    <a:pt x="1783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5240" y="5621400"/>
              <a:ext cx="232200" cy="62280"/>
            </a:xfrm>
            <a:custGeom>
              <a:avLst/>
              <a:gdLst/>
              <a:ahLst/>
              <a:rect l="l" t="t" r="r" b="b"/>
              <a:pathLst>
                <a:path w="182" h="54">
                  <a:moveTo>
                    <a:pt x="0" y="0"/>
                  </a:moveTo>
                  <a:lnTo>
                    <a:pt x="181" y="0"/>
                  </a:lnTo>
                  <a:lnTo>
                    <a:pt x="181" y="5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58480" y="5805000"/>
              <a:ext cx="133200" cy="244440"/>
            </a:xfrm>
            <a:custGeom>
              <a:avLst/>
              <a:gdLst/>
              <a:ahLst/>
              <a:rect l="l" t="t" r="r" b="b"/>
              <a:pathLst>
                <a:path w="104" h="211">
                  <a:moveTo>
                    <a:pt x="103" y="0"/>
                  </a:moveTo>
                  <a:lnTo>
                    <a:pt x="103" y="210"/>
                  </a:lnTo>
                  <a:lnTo>
                    <a:pt x="0" y="2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5960" y="6017400"/>
              <a:ext cx="42480" cy="554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8480" y="4644360"/>
              <a:ext cx="6031080" cy="1523160"/>
            </a:xfrm>
            <a:custGeom>
              <a:avLst/>
              <a:gdLst/>
              <a:ahLst/>
              <a:rect l="l" t="t" r="r" b="b"/>
              <a:pathLst>
                <a:path w="4723" h="1318">
                  <a:moveTo>
                    <a:pt x="4643" y="0"/>
                  </a:moveTo>
                  <a:lnTo>
                    <a:pt x="4722" y="0"/>
                  </a:lnTo>
                  <a:lnTo>
                    <a:pt x="4722" y="1317"/>
                  </a:lnTo>
                  <a:lnTo>
                    <a:pt x="0" y="13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06320" y="455544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68000" y="5656320"/>
              <a:ext cx="469080" cy="108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4080" y="586044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4880" y="3906360"/>
              <a:ext cx="1172160" cy="1841400"/>
            </a:xfrm>
            <a:custGeom>
              <a:avLst/>
              <a:gdLst/>
              <a:ahLst/>
              <a:rect l="l" t="t" r="r" b="b"/>
              <a:pathLst>
                <a:path w="918" h="1594">
                  <a:moveTo>
                    <a:pt x="917" y="1593"/>
                  </a:moveTo>
                  <a:lnTo>
                    <a:pt x="0" y="159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87520" y="2841480"/>
              <a:ext cx="2604240" cy="257040"/>
            </a:xfrm>
            <a:custGeom>
              <a:avLst/>
              <a:gdLst/>
              <a:ahLst/>
              <a:rect l="l" t="t" r="r" b="b"/>
              <a:pathLst>
                <a:path w="2040" h="223">
                  <a:moveTo>
                    <a:pt x="0" y="221"/>
                  </a:moveTo>
                  <a:lnTo>
                    <a:pt x="739" y="222"/>
                  </a:lnTo>
                  <a:lnTo>
                    <a:pt x="739" y="0"/>
                  </a:lnTo>
                  <a:lnTo>
                    <a:pt x="2039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88920" y="2933280"/>
              <a:ext cx="668880" cy="210960"/>
            </a:xfrm>
            <a:custGeom>
              <a:avLst/>
              <a:gdLst/>
              <a:ahLst/>
              <a:rect l="l" t="t" r="r" b="b"/>
              <a:pathLst>
                <a:path w="524" h="183">
                  <a:moveTo>
                    <a:pt x="0" y="0"/>
                  </a:moveTo>
                  <a:lnTo>
                    <a:pt x="224" y="0"/>
                  </a:lnTo>
                  <a:lnTo>
                    <a:pt x="224" y="182"/>
                  </a:lnTo>
                  <a:lnTo>
                    <a:pt x="523" y="1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47640" y="3112560"/>
              <a:ext cx="1489680" cy="404280"/>
            </a:xfrm>
            <a:custGeom>
              <a:avLst/>
              <a:gdLst/>
              <a:ahLst/>
              <a:rect l="l" t="t" r="r" b="b"/>
              <a:pathLst>
                <a:path w="1167" h="349">
                  <a:moveTo>
                    <a:pt x="0" y="0"/>
                  </a:moveTo>
                  <a:lnTo>
                    <a:pt x="0" y="348"/>
                  </a:lnTo>
                  <a:lnTo>
                    <a:pt x="1166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11840" y="5344920"/>
              <a:ext cx="455400" cy="355680"/>
            </a:xfrm>
            <a:custGeom>
              <a:avLst/>
              <a:gdLst/>
              <a:ahLst/>
              <a:rect l="l" t="t" r="r" b="b"/>
              <a:pathLst>
                <a:path w="357" h="308">
                  <a:moveTo>
                    <a:pt x="0" y="0"/>
                  </a:moveTo>
                  <a:lnTo>
                    <a:pt x="356" y="0"/>
                  </a:lnTo>
                  <a:lnTo>
                    <a:pt x="356" y="306"/>
                  </a:lnTo>
                  <a:lnTo>
                    <a:pt x="257" y="3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50040" y="3221280"/>
              <a:ext cx="4248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77000" y="2173320"/>
              <a:ext cx="4212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6280" y="31197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0040" y="3226680"/>
              <a:ext cx="5652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22560" y="3274200"/>
              <a:ext cx="55080" cy="399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56520" y="3361320"/>
              <a:ext cx="4140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85440" y="3364200"/>
              <a:ext cx="43560" cy="52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65720" y="4615200"/>
              <a:ext cx="4248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68040" y="485280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39000" y="496260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79280" y="5283720"/>
              <a:ext cx="5400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50400" y="5878440"/>
              <a:ext cx="4140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19480" y="574380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79080" y="5518440"/>
              <a:ext cx="5652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63400" y="567576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42920" y="437472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39320" y="3898080"/>
              <a:ext cx="56160" cy="414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33"/>
                  </a:moveTo>
                  <a:lnTo>
                    <a:pt x="23" y="0"/>
                  </a:lnTo>
                  <a:lnTo>
                    <a:pt x="43" y="35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2720" y="4249440"/>
              <a:ext cx="56520" cy="414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53560" y="3890880"/>
              <a:ext cx="5400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2"/>
                  </a:moveTo>
                  <a:lnTo>
                    <a:pt x="23" y="0"/>
                  </a:lnTo>
                  <a:lnTo>
                    <a:pt x="42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70520" y="372276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73400" y="3773160"/>
              <a:ext cx="41040" cy="525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77000" y="3806280"/>
              <a:ext cx="42480" cy="536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1" y="0"/>
                  </a:moveTo>
                  <a:lnTo>
                    <a:pt x="0" y="25"/>
                  </a:lnTo>
                  <a:lnTo>
                    <a:pt x="33" y="46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25320" y="375480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26400" y="3711960"/>
              <a:ext cx="41400" cy="525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74800" y="3688200"/>
              <a:ext cx="57600" cy="414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4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90800" y="3688200"/>
              <a:ext cx="56160" cy="414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3" y="2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46240" y="368388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16440" y="3686760"/>
              <a:ext cx="5364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82120" y="3097440"/>
              <a:ext cx="56520" cy="39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21360" y="3098880"/>
              <a:ext cx="56520" cy="414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87960" y="309600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59160" y="246204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86200" y="246924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72280" y="2579040"/>
              <a:ext cx="5652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52880" y="280836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52880" y="285840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66800" y="2987640"/>
              <a:ext cx="42480" cy="52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81720" y="28569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03600" y="4255200"/>
              <a:ext cx="3996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35160" y="4327560"/>
              <a:ext cx="607320" cy="529200"/>
            </a:xfrm>
            <a:custGeom>
              <a:avLst/>
              <a:gdLst/>
              <a:ahLst/>
              <a:rect l="l" t="t" r="r" b="b"/>
              <a:pathLst>
                <a:path w="476" h="458">
                  <a:moveTo>
                    <a:pt x="0" y="457"/>
                  </a:moveTo>
                  <a:lnTo>
                    <a:pt x="0" y="0"/>
                  </a:lnTo>
                  <a:lnTo>
                    <a:pt x="47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02520" y="430092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22320" y="4373280"/>
              <a:ext cx="55080" cy="385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4080" y="4373280"/>
              <a:ext cx="55080" cy="385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03520" y="514476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53560" y="514476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25400" y="522540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22560" y="5386320"/>
              <a:ext cx="55080" cy="417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9080" y="5893920"/>
              <a:ext cx="5652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36920" y="5722920"/>
              <a:ext cx="3996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49520" y="5725440"/>
              <a:ext cx="57240" cy="4032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32"/>
                  </a:moveTo>
                  <a:lnTo>
                    <a:pt x="24" y="0"/>
                  </a:lnTo>
                  <a:lnTo>
                    <a:pt x="44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37560" y="5093280"/>
              <a:ext cx="43560" cy="525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40720" y="4712400"/>
              <a:ext cx="4140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39640" y="4807080"/>
              <a:ext cx="41400" cy="5364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40640" y="4242600"/>
              <a:ext cx="39960" cy="5544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47840" y="4296960"/>
              <a:ext cx="39960" cy="529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19280" y="31125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19800" y="270144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43" y="2"/>
                  </a:moveTo>
                  <a:lnTo>
                    <a:pt x="20" y="33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3000" y="2798640"/>
              <a:ext cx="42480" cy="540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79280" y="314028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3" y="2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51120" y="316404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61520" y="3426840"/>
              <a:ext cx="5400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2"/>
                  </a:moveTo>
                  <a:lnTo>
                    <a:pt x="23" y="0"/>
                  </a:lnTo>
                  <a:lnTo>
                    <a:pt x="42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86080" y="3182400"/>
              <a:ext cx="41040" cy="540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89680" y="3208680"/>
              <a:ext cx="255960" cy="360"/>
            </a:xfrm>
            <a:custGeom>
              <a:avLst/>
              <a:gdLst/>
              <a:ahLst/>
              <a:rect l="l" t="t" r="r" b="b"/>
              <a:pathLst>
                <a:path w="200" h="1">
                  <a:moveTo>
                    <a:pt x="0" y="0"/>
                  </a:moveTo>
                  <a:lnTo>
                    <a:pt x="19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075120"/>
              <a:ext cx="41040" cy="529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40840" y="316404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22440" y="3718800"/>
              <a:ext cx="3996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9" y="0"/>
                  </a:moveTo>
                  <a:lnTo>
                    <a:pt x="0" y="25"/>
                  </a:lnTo>
                  <a:lnTo>
                    <a:pt x="31" y="45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92440" y="463176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61440" y="507528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6680" y="4729320"/>
              <a:ext cx="54000" cy="4140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2"/>
                  </a:moveTo>
                  <a:lnTo>
                    <a:pt x="23" y="0"/>
                  </a:lnTo>
                  <a:lnTo>
                    <a:pt x="42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58920" y="4723560"/>
              <a:ext cx="57240" cy="4032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0" y="32"/>
                  </a:moveTo>
                  <a:lnTo>
                    <a:pt x="24" y="0"/>
                  </a:lnTo>
                  <a:lnTo>
                    <a:pt x="44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62520" y="4801320"/>
              <a:ext cx="55080" cy="385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42" y="2"/>
                  </a:moveTo>
                  <a:lnTo>
                    <a:pt x="19" y="33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27160" y="5730120"/>
              <a:ext cx="55080" cy="399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53760" y="472752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0" y="33"/>
                  </a:moveTo>
                  <a:lnTo>
                    <a:pt x="23" y="0"/>
                  </a:lnTo>
                  <a:lnTo>
                    <a:pt x="42" y="35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69200" y="2715120"/>
              <a:ext cx="56160" cy="385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31"/>
                  </a:moveTo>
                  <a:lnTo>
                    <a:pt x="23" y="0"/>
                  </a:lnTo>
                  <a:lnTo>
                    <a:pt x="43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9120" y="2818080"/>
              <a:ext cx="0" cy="88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36800" y="3801960"/>
              <a:ext cx="6534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BAKU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0080" y="4249440"/>
              <a:ext cx="56160" cy="414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85440" y="3866040"/>
              <a:ext cx="1418040" cy="398880"/>
            </a:xfrm>
            <a:custGeom>
              <a:avLst/>
              <a:gdLst/>
              <a:ahLst/>
              <a:rect l="l" t="t" r="r" b="b"/>
              <a:pathLst>
                <a:path w="1111" h="345">
                  <a:moveTo>
                    <a:pt x="0" y="0"/>
                  </a:moveTo>
                  <a:lnTo>
                    <a:pt x="427" y="0"/>
                  </a:lnTo>
                  <a:lnTo>
                    <a:pt x="427" y="280"/>
                  </a:lnTo>
                  <a:lnTo>
                    <a:pt x="1110" y="280"/>
                  </a:lnTo>
                  <a:lnTo>
                    <a:pt x="111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63840" y="3688200"/>
              <a:ext cx="56520" cy="414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4840" y="4213800"/>
              <a:ext cx="7934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UKO-A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19720" y="4213800"/>
              <a:ext cx="717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ZKO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30960" y="4536000"/>
              <a:ext cx="562320" cy="32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ZPLA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814880" y="4285800"/>
              <a:ext cx="188280" cy="1080"/>
            </a:xfrm>
            <a:custGeom>
              <a:avLst/>
              <a:gdLst/>
              <a:ahLst/>
              <a:rect l="l" t="t" r="r" b="b"/>
              <a:pathLst>
                <a:path w="148" h="1">
                  <a:moveTo>
                    <a:pt x="0" y="0"/>
                  </a:moveTo>
                  <a:lnTo>
                    <a:pt x="14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66800" y="4256640"/>
              <a:ext cx="41040" cy="554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07760" y="461808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17840" y="4585680"/>
              <a:ext cx="201960" cy="360"/>
            </a:xfrm>
            <a:custGeom>
              <a:avLst/>
              <a:gdLst/>
              <a:ahLst/>
              <a:rect l="l" t="t" r="r" b="b"/>
              <a:pathLst>
                <a:path w="158" h="1">
                  <a:moveTo>
                    <a:pt x="0" y="0"/>
                  </a:moveTo>
                  <a:lnTo>
                    <a:pt x="15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79840" y="455688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72600" y="4367880"/>
              <a:ext cx="710280" cy="195840"/>
            </a:xfrm>
            <a:custGeom>
              <a:avLst/>
              <a:gdLst/>
              <a:ahLst/>
              <a:rect l="l" t="t" r="r" b="b"/>
              <a:pathLst>
                <a:path w="556" h="169">
                  <a:moveTo>
                    <a:pt x="555" y="0"/>
                  </a:moveTo>
                  <a:lnTo>
                    <a:pt x="555" y="57"/>
                  </a:lnTo>
                  <a:lnTo>
                    <a:pt x="0" y="57"/>
                  </a:lnTo>
                  <a:lnTo>
                    <a:pt x="0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51560" y="4363560"/>
              <a:ext cx="5364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2"/>
                  </a:moveTo>
                  <a:lnTo>
                    <a:pt x="23" y="0"/>
                  </a:lnTo>
                  <a:lnTo>
                    <a:pt x="42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49920" y="4517640"/>
              <a:ext cx="5508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47880" y="514476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3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16520" y="3900600"/>
              <a:ext cx="464400" cy="1285560"/>
            </a:xfrm>
            <a:custGeom>
              <a:avLst/>
              <a:gdLst/>
              <a:ahLst/>
              <a:rect l="l" t="t" r="r" b="b"/>
              <a:pathLst>
                <a:path w="364" h="1112">
                  <a:moveTo>
                    <a:pt x="363" y="1111"/>
                  </a:moveTo>
                  <a:lnTo>
                    <a:pt x="363" y="256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97040" y="5059800"/>
              <a:ext cx="6030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CHIV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25080" y="4886280"/>
              <a:ext cx="1355400" cy="244440"/>
            </a:xfrm>
            <a:custGeom>
              <a:avLst/>
              <a:gdLst/>
              <a:ahLst/>
              <a:rect l="l" t="t" r="r" b="b"/>
              <a:pathLst>
                <a:path w="1061" h="212">
                  <a:moveTo>
                    <a:pt x="0" y="0"/>
                  </a:moveTo>
                  <a:lnTo>
                    <a:pt x="0" y="54"/>
                  </a:lnTo>
                  <a:lnTo>
                    <a:pt x="996" y="54"/>
                  </a:lnTo>
                  <a:lnTo>
                    <a:pt x="996" y="211"/>
                  </a:lnTo>
                  <a:lnTo>
                    <a:pt x="1060" y="2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4040" y="5100120"/>
              <a:ext cx="43920" cy="52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81560" y="2053800"/>
              <a:ext cx="6350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25280" y="3898080"/>
              <a:ext cx="1794600" cy="869760"/>
            </a:xfrm>
            <a:custGeom>
              <a:avLst/>
              <a:gdLst/>
              <a:ahLst/>
              <a:rect l="l" t="t" r="r" b="b"/>
              <a:pathLst>
                <a:path w="1406" h="753">
                  <a:moveTo>
                    <a:pt x="0" y="0"/>
                  </a:moveTo>
                  <a:lnTo>
                    <a:pt x="0" y="752"/>
                  </a:lnTo>
                  <a:lnTo>
                    <a:pt x="1405" y="7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93960" y="3900600"/>
              <a:ext cx="5508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33"/>
                  </a:moveTo>
                  <a:lnTo>
                    <a:pt x="23" y="0"/>
                  </a:lnTo>
                  <a:lnTo>
                    <a:pt x="43" y="35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81720" y="473328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03160" y="5239080"/>
              <a:ext cx="9338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YPERION ZF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23320" y="5321160"/>
              <a:ext cx="864720" cy="1440"/>
            </a:xfrm>
            <a:custGeom>
              <a:avLst/>
              <a:gdLst/>
              <a:ahLst/>
              <a:rect l="l" t="t" r="r" b="b"/>
              <a:pathLst>
                <a:path w="677" h="1">
                  <a:moveTo>
                    <a:pt x="0" y="0"/>
                  </a:moveTo>
                  <a:lnTo>
                    <a:pt x="6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53120" y="5292000"/>
              <a:ext cx="4212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86280" y="5307120"/>
              <a:ext cx="741600" cy="1080"/>
            </a:xfrm>
            <a:custGeom>
              <a:avLst/>
              <a:gdLst/>
              <a:ahLst/>
              <a:rect l="l" t="t" r="r" b="b"/>
              <a:pathLst>
                <a:path w="581" h="1">
                  <a:moveTo>
                    <a:pt x="0" y="0"/>
                  </a:moveTo>
                  <a:lnTo>
                    <a:pt x="5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91880" y="5279400"/>
              <a:ext cx="4356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2" y="0"/>
                  </a:moveTo>
                  <a:lnTo>
                    <a:pt x="33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8800" y="2002320"/>
              <a:ext cx="62280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NI S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006440" y="3663000"/>
              <a:ext cx="399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84120" y="3688200"/>
              <a:ext cx="5364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1840" y="3671640"/>
              <a:ext cx="0" cy="2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1280" y="2156400"/>
              <a:ext cx="493200" cy="1581480"/>
            </a:xfrm>
            <a:custGeom>
              <a:avLst/>
              <a:gdLst/>
              <a:ahLst/>
              <a:rect l="l" t="t" r="r" b="b"/>
              <a:pathLst>
                <a:path w="387" h="1369">
                  <a:moveTo>
                    <a:pt x="0" y="0"/>
                  </a:moveTo>
                  <a:lnTo>
                    <a:pt x="2" y="392"/>
                  </a:lnTo>
                  <a:lnTo>
                    <a:pt x="386" y="392"/>
                  </a:lnTo>
                  <a:lnTo>
                    <a:pt x="386" y="13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09960" y="215640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0" y="33"/>
                  </a:moveTo>
                  <a:lnTo>
                    <a:pt x="23" y="0"/>
                  </a:lnTo>
                  <a:lnTo>
                    <a:pt x="42" y="35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08200" y="3688200"/>
              <a:ext cx="5508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20800" y="5360400"/>
              <a:ext cx="765360" cy="95760"/>
            </a:xfrm>
            <a:custGeom>
              <a:avLst/>
              <a:gdLst/>
              <a:ahLst/>
              <a:rect l="l" t="t" r="r" b="b"/>
              <a:pathLst>
                <a:path w="600" h="83">
                  <a:moveTo>
                    <a:pt x="0" y="1"/>
                  </a:moveTo>
                  <a:lnTo>
                    <a:pt x="599" y="0"/>
                  </a:lnTo>
                  <a:lnTo>
                    <a:pt x="599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10720" y="533232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77000" y="2234160"/>
              <a:ext cx="4212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25320" y="380484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89600" y="2935080"/>
              <a:ext cx="382680" cy="1706400"/>
            </a:xfrm>
            <a:custGeom>
              <a:avLst/>
              <a:gdLst/>
              <a:ahLst/>
              <a:rect l="l" t="t" r="r" b="b"/>
              <a:pathLst>
                <a:path w="300" h="1477">
                  <a:moveTo>
                    <a:pt x="0" y="0"/>
                  </a:moveTo>
                  <a:lnTo>
                    <a:pt x="299" y="0"/>
                  </a:lnTo>
                  <a:lnTo>
                    <a:pt x="299" y="1476"/>
                  </a:lnTo>
                  <a:lnTo>
                    <a:pt x="229" y="14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4560" y="2263680"/>
              <a:ext cx="1066680" cy="1567440"/>
            </a:xfrm>
            <a:custGeom>
              <a:avLst/>
              <a:gdLst/>
              <a:ahLst/>
              <a:rect l="l" t="t" r="r" b="b"/>
              <a:pathLst>
                <a:path w="835" h="1357">
                  <a:moveTo>
                    <a:pt x="0" y="1"/>
                  </a:moveTo>
                  <a:lnTo>
                    <a:pt x="413" y="0"/>
                  </a:lnTo>
                  <a:lnTo>
                    <a:pt x="413" y="1356"/>
                  </a:lnTo>
                  <a:lnTo>
                    <a:pt x="834" y="13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96080" y="2317680"/>
              <a:ext cx="1473480" cy="2019240"/>
            </a:xfrm>
            <a:custGeom>
              <a:avLst/>
              <a:gdLst/>
              <a:ahLst/>
              <a:rect l="l" t="t" r="r" b="b"/>
              <a:pathLst>
                <a:path w="1154" h="1747">
                  <a:moveTo>
                    <a:pt x="0" y="1"/>
                  </a:moveTo>
                  <a:lnTo>
                    <a:pt x="350" y="0"/>
                  </a:lnTo>
                  <a:lnTo>
                    <a:pt x="350" y="1746"/>
                  </a:lnTo>
                  <a:lnTo>
                    <a:pt x="1153" y="17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45440" y="4302360"/>
              <a:ext cx="41040" cy="525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73040" y="2292480"/>
              <a:ext cx="4248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04960" y="5924520"/>
              <a:ext cx="6440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ZF Tool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88160" y="5666040"/>
              <a:ext cx="204480" cy="334440"/>
            </a:xfrm>
            <a:custGeom>
              <a:avLst/>
              <a:gdLst/>
              <a:ahLst/>
              <a:rect l="l" t="t" r="r" b="b"/>
              <a:pathLst>
                <a:path w="160" h="290">
                  <a:moveTo>
                    <a:pt x="159" y="0"/>
                  </a:moveTo>
                  <a:lnTo>
                    <a:pt x="158" y="289"/>
                  </a:lnTo>
                  <a:lnTo>
                    <a:pt x="0" y="28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70520" y="597024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3840" y="5652000"/>
              <a:ext cx="56520" cy="399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86720" y="5849280"/>
              <a:ext cx="657720" cy="195840"/>
            </a:xfrm>
            <a:custGeom>
              <a:avLst/>
              <a:gdLst/>
              <a:ahLst/>
              <a:rect l="l" t="t" r="r" b="b"/>
              <a:pathLst>
                <a:path w="515" h="170">
                  <a:moveTo>
                    <a:pt x="514" y="2"/>
                  </a:moveTo>
                  <a:lnTo>
                    <a:pt x="257" y="0"/>
                  </a:lnTo>
                  <a:lnTo>
                    <a:pt x="257" y="169"/>
                  </a:lnTo>
                  <a:lnTo>
                    <a:pt x="0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18160" y="582012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0520" y="6017400"/>
              <a:ext cx="41400" cy="5400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0520" y="5998320"/>
              <a:ext cx="6091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DI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40520" y="5818680"/>
              <a:ext cx="2328120" cy="269280"/>
            </a:xfrm>
            <a:custGeom>
              <a:avLst/>
              <a:gdLst/>
              <a:ahLst/>
              <a:rect l="l" t="t" r="r" b="b"/>
              <a:pathLst>
                <a:path w="1824" h="234">
                  <a:moveTo>
                    <a:pt x="0" y="4"/>
                  </a:moveTo>
                  <a:lnTo>
                    <a:pt x="74" y="0"/>
                  </a:lnTo>
                  <a:lnTo>
                    <a:pt x="74" y="233"/>
                  </a:lnTo>
                  <a:lnTo>
                    <a:pt x="1823" y="2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11400" y="6076080"/>
              <a:ext cx="3647520" cy="44280"/>
            </a:xfrm>
            <a:custGeom>
              <a:avLst/>
              <a:gdLst/>
              <a:ahLst/>
              <a:rect l="l" t="t" r="r" b="b"/>
              <a:pathLst>
                <a:path w="2857" h="38">
                  <a:moveTo>
                    <a:pt x="0" y="0"/>
                  </a:moveTo>
                  <a:lnTo>
                    <a:pt x="0" y="37"/>
                  </a:lnTo>
                  <a:lnTo>
                    <a:pt x="2856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28360" y="5479560"/>
              <a:ext cx="2240280" cy="526320"/>
            </a:xfrm>
            <a:custGeom>
              <a:avLst/>
              <a:gdLst/>
              <a:ahLst/>
              <a:rect l="l" t="t" r="r" b="b"/>
              <a:pathLst>
                <a:path w="1755" h="456">
                  <a:moveTo>
                    <a:pt x="0" y="2"/>
                  </a:moveTo>
                  <a:lnTo>
                    <a:pt x="1135" y="0"/>
                  </a:lnTo>
                  <a:lnTo>
                    <a:pt x="1182" y="0"/>
                  </a:lnTo>
                  <a:lnTo>
                    <a:pt x="1182" y="414"/>
                  </a:lnTo>
                  <a:lnTo>
                    <a:pt x="1182" y="432"/>
                  </a:lnTo>
                  <a:lnTo>
                    <a:pt x="1182" y="453"/>
                  </a:lnTo>
                  <a:lnTo>
                    <a:pt x="1754" y="4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48840" y="5743800"/>
              <a:ext cx="918360" cy="311040"/>
            </a:xfrm>
            <a:custGeom>
              <a:avLst/>
              <a:gdLst/>
              <a:ahLst/>
              <a:rect l="l" t="t" r="r" b="b"/>
              <a:pathLst>
                <a:path w="720" h="270">
                  <a:moveTo>
                    <a:pt x="0" y="0"/>
                  </a:moveTo>
                  <a:lnTo>
                    <a:pt x="1" y="267"/>
                  </a:lnTo>
                  <a:lnTo>
                    <a:pt x="719" y="2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18600" y="5725440"/>
              <a:ext cx="55080" cy="3888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1800" y="545184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35480" y="579528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9" y="0"/>
                  </a:moveTo>
                  <a:lnTo>
                    <a:pt x="0" y="25"/>
                  </a:lnTo>
                  <a:lnTo>
                    <a:pt x="31" y="46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23640" y="6098040"/>
              <a:ext cx="42480" cy="529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1400" y="4890240"/>
              <a:ext cx="3499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I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8440" y="4915080"/>
              <a:ext cx="90000" cy="507240"/>
            </a:xfrm>
            <a:custGeom>
              <a:avLst/>
              <a:gdLst/>
              <a:ahLst/>
              <a:rect l="l" t="t" r="r" b="b"/>
              <a:pathLst>
                <a:path w="70" h="440">
                  <a:moveTo>
                    <a:pt x="0" y="439"/>
                  </a:moveTo>
                  <a:lnTo>
                    <a:pt x="0" y="0"/>
                  </a:lnTo>
                  <a:lnTo>
                    <a:pt x="6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7400" y="488628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03600" y="5946480"/>
              <a:ext cx="1369080" cy="40320"/>
            </a:xfrm>
            <a:custGeom>
              <a:avLst/>
              <a:gdLst/>
              <a:ahLst/>
              <a:rect l="l" t="t" r="r" b="b"/>
              <a:pathLst>
                <a:path w="1072" h="35">
                  <a:moveTo>
                    <a:pt x="0" y="2"/>
                  </a:moveTo>
                  <a:lnTo>
                    <a:pt x="1071" y="0"/>
                  </a:lnTo>
                  <a:lnTo>
                    <a:pt x="1071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7400" y="5921640"/>
              <a:ext cx="41040" cy="529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0" y="0"/>
                  </a:moveTo>
                  <a:lnTo>
                    <a:pt x="0" y="25"/>
                  </a:lnTo>
                  <a:lnTo>
                    <a:pt x="32" y="45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9920" y="4284360"/>
              <a:ext cx="55080" cy="3888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1"/>
                  </a:moveTo>
                  <a:lnTo>
                    <a:pt x="23" y="0"/>
                  </a:lnTo>
                  <a:lnTo>
                    <a:pt x="42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96040" y="5625720"/>
              <a:ext cx="42480" cy="525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7640" y="43135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92120" y="539100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62640" y="2576160"/>
              <a:ext cx="56160" cy="403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3" y="0"/>
                  </a:lnTo>
                  <a:lnTo>
                    <a:pt x="43" y="34"/>
                  </a:lnTo>
                  <a:lnTo>
                    <a:pt x="0" y="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56600" y="580896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93320" y="5968800"/>
              <a:ext cx="82800" cy="10116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61" y="0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64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34720" y="6038640"/>
              <a:ext cx="42480" cy="5364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0"/>
                  </a:moveTo>
                  <a:lnTo>
                    <a:pt x="33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56240" y="5428440"/>
              <a:ext cx="42624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KoP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161120" y="5519880"/>
              <a:ext cx="19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70840" y="5489640"/>
              <a:ext cx="42480" cy="525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85960" y="5191920"/>
              <a:ext cx="67932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TEMI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98240" y="5262840"/>
              <a:ext cx="480600" cy="569520"/>
            </a:xfrm>
            <a:custGeom>
              <a:avLst/>
              <a:gdLst/>
              <a:ahLst/>
              <a:rect l="l" t="t" r="r" b="b"/>
              <a:pathLst>
                <a:path w="377" h="494">
                  <a:moveTo>
                    <a:pt x="0" y="0"/>
                  </a:moveTo>
                  <a:lnTo>
                    <a:pt x="245" y="0"/>
                  </a:lnTo>
                  <a:lnTo>
                    <a:pt x="245" y="493"/>
                  </a:lnTo>
                  <a:lnTo>
                    <a:pt x="376" y="4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0400" y="5799240"/>
              <a:ext cx="38880" cy="540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2" y="0"/>
                  </a:moveTo>
                  <a:lnTo>
                    <a:pt x="30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2000" y="5647680"/>
              <a:ext cx="451800" cy="202680"/>
            </a:xfrm>
            <a:custGeom>
              <a:avLst/>
              <a:gdLst/>
              <a:ahLst/>
              <a:rect l="l" t="t" r="r" b="b"/>
              <a:pathLst>
                <a:path w="354" h="175">
                  <a:moveTo>
                    <a:pt x="0" y="174"/>
                  </a:moveTo>
                  <a:lnTo>
                    <a:pt x="200" y="174"/>
                  </a:lnTo>
                  <a:lnTo>
                    <a:pt x="200" y="1"/>
                  </a:lnTo>
                  <a:lnTo>
                    <a:pt x="3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41400" y="5619960"/>
              <a:ext cx="39960" cy="540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" y="0"/>
                  </a:moveTo>
                  <a:lnTo>
                    <a:pt x="31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67480" y="5981400"/>
              <a:ext cx="1007640" cy="123480"/>
            </a:xfrm>
            <a:custGeom>
              <a:avLst/>
              <a:gdLst/>
              <a:ahLst/>
              <a:rect l="l" t="t" r="r" b="b"/>
              <a:pathLst>
                <a:path w="789" h="107">
                  <a:moveTo>
                    <a:pt x="788" y="0"/>
                  </a:moveTo>
                  <a:lnTo>
                    <a:pt x="788" y="106"/>
                  </a:lnTo>
                  <a:lnTo>
                    <a:pt x="0" y="1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607320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30" y="0"/>
                  </a:moveTo>
                  <a:lnTo>
                    <a:pt x="0" y="25"/>
                  </a:lnTo>
                  <a:lnTo>
                    <a:pt x="32" y="46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44600" y="5803560"/>
              <a:ext cx="3258360" cy="340560"/>
            </a:xfrm>
            <a:custGeom>
              <a:avLst/>
              <a:gdLst/>
              <a:ahLst/>
              <a:rect l="l" t="t" r="r" b="b"/>
              <a:pathLst>
                <a:path w="2552" h="295">
                  <a:moveTo>
                    <a:pt x="0" y="0"/>
                  </a:moveTo>
                  <a:lnTo>
                    <a:pt x="0" y="294"/>
                  </a:lnTo>
                  <a:lnTo>
                    <a:pt x="2503" y="294"/>
                  </a:lnTo>
                  <a:lnTo>
                    <a:pt x="2503" y="174"/>
                  </a:lnTo>
                  <a:lnTo>
                    <a:pt x="2551" y="1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64080" y="5958000"/>
              <a:ext cx="41040" cy="525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32" y="25"/>
                  </a:lnTo>
                  <a:lnTo>
                    <a:pt x="0" y="45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22000" y="4506840"/>
              <a:ext cx="3204360" cy="1306080"/>
            </a:xfrm>
            <a:custGeom>
              <a:avLst/>
              <a:gdLst/>
              <a:ahLst/>
              <a:rect l="l" t="t" r="r" b="b"/>
              <a:pathLst>
                <a:path w="2509" h="1131">
                  <a:moveTo>
                    <a:pt x="0" y="1129"/>
                  </a:moveTo>
                  <a:lnTo>
                    <a:pt x="152" y="1130"/>
                  </a:lnTo>
                  <a:lnTo>
                    <a:pt x="152" y="0"/>
                  </a:lnTo>
                  <a:lnTo>
                    <a:pt x="2508" y="0"/>
                  </a:lnTo>
                  <a:lnTo>
                    <a:pt x="2508" y="9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480" y="551736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48080" y="4819320"/>
              <a:ext cx="2977200" cy="690840"/>
            </a:xfrm>
            <a:custGeom>
              <a:avLst/>
              <a:gdLst/>
              <a:ahLst/>
              <a:rect l="l" t="t" r="r" b="b"/>
              <a:pathLst>
                <a:path w="2331" h="599">
                  <a:moveTo>
                    <a:pt x="0" y="598"/>
                  </a:moveTo>
                  <a:lnTo>
                    <a:pt x="1018" y="598"/>
                  </a:lnTo>
                  <a:lnTo>
                    <a:pt x="1018" y="0"/>
                  </a:lnTo>
                  <a:lnTo>
                    <a:pt x="23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81720" y="47847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38000" y="5050080"/>
              <a:ext cx="189360" cy="672840"/>
            </a:xfrm>
            <a:custGeom>
              <a:avLst/>
              <a:gdLst/>
              <a:ahLst/>
              <a:rect l="l" t="t" r="r" b="b"/>
              <a:pathLst>
                <a:path w="149" h="582">
                  <a:moveTo>
                    <a:pt x="148" y="0"/>
                  </a:moveTo>
                  <a:lnTo>
                    <a:pt x="148" y="581"/>
                  </a:lnTo>
                  <a:lnTo>
                    <a:pt x="0" y="5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96040" y="5044680"/>
              <a:ext cx="56160" cy="3996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0" y="31"/>
                  </a:moveTo>
                  <a:lnTo>
                    <a:pt x="23" y="0"/>
                  </a:lnTo>
                  <a:lnTo>
                    <a:pt x="43" y="33"/>
                  </a:lnTo>
                  <a:lnTo>
                    <a:pt x="0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08840" y="5504760"/>
              <a:ext cx="237240" cy="56880"/>
            </a:xfrm>
            <a:custGeom>
              <a:avLst/>
              <a:gdLst/>
              <a:ahLst/>
              <a:rect l="l" t="t" r="r" b="b"/>
              <a:pathLst>
                <a:path w="185" h="49">
                  <a:moveTo>
                    <a:pt x="0" y="48"/>
                  </a:moveTo>
                  <a:lnTo>
                    <a:pt x="0" y="0"/>
                  </a:lnTo>
                  <a:lnTo>
                    <a:pt x="184" y="0"/>
                  </a:lnTo>
                  <a:lnTo>
                    <a:pt x="184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78960" y="552132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2" y="2"/>
                  </a:moveTo>
                  <a:lnTo>
                    <a:pt x="19" y="35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15120" y="5522760"/>
              <a:ext cx="56160" cy="414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3" y="2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90880" y="2994480"/>
              <a:ext cx="46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32720" y="3092040"/>
              <a:ext cx="480600" cy="122040"/>
            </a:xfrm>
            <a:custGeom>
              <a:avLst/>
              <a:gdLst/>
              <a:ahLst/>
              <a:rect l="l" t="t" r="r" b="b"/>
              <a:pathLst>
                <a:path w="376" h="106">
                  <a:moveTo>
                    <a:pt x="0" y="0"/>
                  </a:moveTo>
                  <a:lnTo>
                    <a:pt x="363" y="0"/>
                  </a:lnTo>
                  <a:lnTo>
                    <a:pt x="375" y="0"/>
                  </a:lnTo>
                  <a:lnTo>
                    <a:pt x="375" y="10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36480" y="2203560"/>
              <a:ext cx="319680" cy="847800"/>
            </a:xfrm>
            <a:custGeom>
              <a:avLst/>
              <a:gdLst/>
              <a:ahLst/>
              <a:rect l="l" t="t" r="r" b="b"/>
              <a:pathLst>
                <a:path w="250" h="733">
                  <a:moveTo>
                    <a:pt x="174" y="0"/>
                  </a:moveTo>
                  <a:lnTo>
                    <a:pt x="174" y="72"/>
                  </a:lnTo>
                  <a:lnTo>
                    <a:pt x="0" y="72"/>
                  </a:lnTo>
                  <a:lnTo>
                    <a:pt x="0" y="621"/>
                  </a:lnTo>
                  <a:lnTo>
                    <a:pt x="249" y="621"/>
                  </a:lnTo>
                  <a:lnTo>
                    <a:pt x="249" y="7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27720" y="3009960"/>
              <a:ext cx="5508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91040" y="2193840"/>
              <a:ext cx="2077200" cy="1695600"/>
            </a:xfrm>
            <a:custGeom>
              <a:avLst/>
              <a:gdLst/>
              <a:ahLst/>
              <a:rect l="l" t="t" r="r" b="b"/>
              <a:pathLst>
                <a:path w="1627" h="1468">
                  <a:moveTo>
                    <a:pt x="0" y="1467"/>
                  </a:moveTo>
                  <a:lnTo>
                    <a:pt x="462" y="1467"/>
                  </a:lnTo>
                  <a:lnTo>
                    <a:pt x="462" y="0"/>
                  </a:lnTo>
                  <a:lnTo>
                    <a:pt x="16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88160" y="3859200"/>
              <a:ext cx="43560" cy="540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1" y="0"/>
                  </a:moveTo>
                  <a:lnTo>
                    <a:pt x="0" y="25"/>
                  </a:lnTo>
                  <a:lnTo>
                    <a:pt x="33" y="46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25400" y="216756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39280" y="3522600"/>
              <a:ext cx="7095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C-AM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62840" y="2955600"/>
              <a:ext cx="2456280" cy="483480"/>
            </a:xfrm>
            <a:custGeom>
              <a:avLst/>
              <a:gdLst/>
              <a:ahLst/>
              <a:rect l="l" t="t" r="r" b="b"/>
              <a:pathLst>
                <a:path w="1924" h="418">
                  <a:moveTo>
                    <a:pt x="1923" y="417"/>
                  </a:moveTo>
                  <a:lnTo>
                    <a:pt x="171" y="417"/>
                  </a:ln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62840" y="2925000"/>
              <a:ext cx="42480" cy="525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1" y="0"/>
                  </a:moveTo>
                  <a:lnTo>
                    <a:pt x="0" y="25"/>
                  </a:lnTo>
                  <a:lnTo>
                    <a:pt x="33" y="45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79080" y="3579840"/>
              <a:ext cx="2844360" cy="154080"/>
            </a:xfrm>
            <a:custGeom>
              <a:avLst/>
              <a:gdLst/>
              <a:ahLst/>
              <a:rect l="l" t="t" r="r" b="b"/>
              <a:pathLst>
                <a:path w="2227" h="133">
                  <a:moveTo>
                    <a:pt x="2226" y="0"/>
                  </a:moveTo>
                  <a:lnTo>
                    <a:pt x="0" y="0"/>
                  </a:lnTo>
                  <a:lnTo>
                    <a:pt x="0" y="13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48840" y="3688200"/>
              <a:ext cx="55080" cy="403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2" y="2"/>
                  </a:moveTo>
                  <a:lnTo>
                    <a:pt x="19" y="34"/>
                  </a:lnTo>
                  <a:lnTo>
                    <a:pt x="0" y="0"/>
                  </a:lnTo>
                  <a:lnTo>
                    <a:pt x="4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56760" y="3493440"/>
              <a:ext cx="621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T-C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54720" y="3396240"/>
              <a:ext cx="5709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A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81720" y="3681360"/>
              <a:ext cx="57600" cy="414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4" y="2"/>
                  </a:moveTo>
                  <a:lnTo>
                    <a:pt x="20" y="3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08000" y="3468600"/>
              <a:ext cx="4429440" cy="272160"/>
            </a:xfrm>
            <a:custGeom>
              <a:avLst/>
              <a:gdLst/>
              <a:ahLst/>
              <a:rect l="l" t="t" r="r" b="b"/>
              <a:pathLst>
                <a:path w="3469" h="235">
                  <a:moveTo>
                    <a:pt x="3468" y="0"/>
                  </a:move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38200" y="3396240"/>
              <a:ext cx="6411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4640"/>
                  <a:tab algn="l" pos="1349280"/>
                  <a:tab algn="l" pos="2023920"/>
                  <a:tab algn="l" pos="2698920"/>
                  <a:tab algn="l" pos="3373560"/>
                  <a:tab algn="l" pos="4048200"/>
                  <a:tab algn="l" pos="4722840"/>
                  <a:tab algn="l" pos="5397480"/>
                  <a:tab algn="l" pos="6072120"/>
                  <a:tab algn="l" pos="6746760"/>
                  <a:tab algn="l" pos="7421400"/>
                  <a:tab algn="l" pos="8096400"/>
                  <a:tab algn="l" pos="8771040"/>
                  <a:tab algn="l" pos="9445680"/>
                  <a:tab algn="l" pos="10120320"/>
                  <a:tab algn="l" pos="10794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TABAK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86720" y="2171880"/>
              <a:ext cx="42480" cy="5400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" y="0"/>
                  </a:moveTo>
                  <a:lnTo>
                    <a:pt x="32" y="25"/>
                  </a:lnTo>
                  <a:lnTo>
                    <a:pt x="0" y="46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4231-6481-44C3-87B1-711CD032F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of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1511280"/>
            <a:ext cx="1752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738440" y="2209680"/>
            <a:ext cx="2590560" cy="3200400"/>
            <a:chOff x="1738440" y="2209680"/>
            <a:chExt cx="2590560" cy="3200400"/>
          </a:xfrm>
        </p:grpSpPr>
        <p:sp>
          <p:nvSpPr>
            <p:cNvPr id="458" name=""/>
            <p:cNvSpPr/>
            <p:nvPr/>
          </p:nvSpPr>
          <p:spPr>
            <a:xfrm>
              <a:off x="1738440" y="2209680"/>
              <a:ext cx="2590560" cy="3200400"/>
            </a:xfrm>
            <a:prstGeom prst="rect">
              <a:avLst/>
            </a:prstGeom>
            <a:solidFill>
              <a:srgbClr val="ffdfbf"/>
            </a:solidFill>
            <a:ln w="0">
              <a:noFill/>
            </a:ln>
            <a:effectLst>
              <a:outerShdw dist="17819" dir="2700000" blurRad="0" rotWithShape="0">
                <a:srgbClr val="9885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5400000">
              <a:off x="1834200" y="3265200"/>
              <a:ext cx="42228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5400000">
              <a:off x="3258000" y="3661560"/>
              <a:ext cx="42228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5400000">
              <a:off x="3530160" y="4778280"/>
              <a:ext cx="42084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 rot="5400000">
              <a:off x="2268360" y="2745360"/>
              <a:ext cx="42084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 rot="5400000">
              <a:off x="2158920" y="4512240"/>
              <a:ext cx="42084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60480" y="2608200"/>
              <a:ext cx="420840" cy="4143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65" name=""/>
            <p:cNvCxnSpPr>
              <a:stCxn id="462" idx="7"/>
              <a:endCxn id="459" idx="3"/>
            </p:cNvCxnSpPr>
            <p:nvPr/>
          </p:nvCxnSpPr>
          <p:spPr>
            <a:xfrm flipH="1">
              <a:off x="2189880" y="3103200"/>
              <a:ext cx="143640" cy="2214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66" name=""/>
            <p:cNvCxnSpPr>
              <a:stCxn id="459" idx="5"/>
              <a:endCxn id="463" idx="2"/>
            </p:cNvCxnSpPr>
            <p:nvPr/>
          </p:nvCxnSpPr>
          <p:spPr>
            <a:xfrm>
              <a:off x="2190240" y="3622320"/>
              <a:ext cx="180360" cy="88956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67" name=""/>
            <p:cNvCxnSpPr>
              <a:stCxn id="461" idx="4"/>
              <a:endCxn id="463" idx="4"/>
            </p:cNvCxnSpPr>
            <p:nvPr/>
          </p:nvCxnSpPr>
          <p:spPr>
            <a:xfrm flipH="1" flipV="1">
              <a:off x="2575800" y="4721040"/>
              <a:ext cx="959400" cy="26568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68" name=""/>
            <p:cNvCxnSpPr>
              <a:stCxn id="460" idx="6"/>
              <a:endCxn id="461" idx="2"/>
            </p:cNvCxnSpPr>
            <p:nvPr/>
          </p:nvCxnSpPr>
          <p:spPr>
            <a:xfrm>
              <a:off x="3470400" y="4079520"/>
              <a:ext cx="273240" cy="69552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69" name=""/>
            <p:cNvCxnSpPr>
              <a:stCxn id="460" idx="2"/>
              <a:endCxn id="464" idx="6"/>
            </p:cNvCxnSpPr>
            <p:nvPr/>
          </p:nvCxnSpPr>
          <p:spPr>
            <a:xfrm flipV="1">
              <a:off x="3470400" y="3025080"/>
              <a:ext cx="403920" cy="63252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0" name=""/>
            <p:cNvCxnSpPr>
              <a:stCxn id="464" idx="4"/>
              <a:endCxn id="462" idx="4"/>
            </p:cNvCxnSpPr>
            <p:nvPr/>
          </p:nvCxnSpPr>
          <p:spPr>
            <a:xfrm flipH="1">
              <a:off x="2685240" y="2815920"/>
              <a:ext cx="980280" cy="1386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1" name=""/>
            <p:cNvCxnSpPr>
              <a:stCxn id="460" idx="4"/>
              <a:endCxn id="459" idx="4"/>
            </p:cNvCxnSpPr>
            <p:nvPr/>
          </p:nvCxnSpPr>
          <p:spPr>
            <a:xfrm flipH="1" flipV="1">
              <a:off x="2250360" y="3474360"/>
              <a:ext cx="1011960" cy="3942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2" name=""/>
            <p:cNvCxnSpPr>
              <a:stCxn id="464" idx="5"/>
              <a:endCxn id="463" idx="3"/>
            </p:cNvCxnSpPr>
            <p:nvPr/>
          </p:nvCxnSpPr>
          <p:spPr>
            <a:xfrm flipH="1">
              <a:off x="2515320" y="2964960"/>
              <a:ext cx="1210680" cy="16074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3" name=""/>
            <p:cNvCxnSpPr>
              <a:stCxn id="461" idx="3"/>
              <a:endCxn id="459" idx="4"/>
            </p:cNvCxnSpPr>
            <p:nvPr/>
          </p:nvCxnSpPr>
          <p:spPr>
            <a:xfrm flipH="1" flipV="1">
              <a:off x="2250360" y="3474360"/>
              <a:ext cx="1345320" cy="13626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4" name=""/>
            <p:cNvCxnSpPr>
              <a:stCxn id="464" idx="5"/>
              <a:endCxn id="459" idx="5"/>
            </p:cNvCxnSpPr>
            <p:nvPr/>
          </p:nvCxnSpPr>
          <p:spPr>
            <a:xfrm flipH="1">
              <a:off x="2189880" y="2965320"/>
              <a:ext cx="1536120" cy="65808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5" name=""/>
            <p:cNvCxnSpPr>
              <a:stCxn id="462" idx="5"/>
              <a:endCxn id="460" idx="3"/>
            </p:cNvCxnSpPr>
            <p:nvPr/>
          </p:nvCxnSpPr>
          <p:spPr>
            <a:xfrm>
              <a:off x="2625840" y="3103200"/>
              <a:ext cx="699120" cy="61668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6" name=""/>
            <p:cNvCxnSpPr>
              <a:stCxn id="462" idx="5"/>
              <a:endCxn id="461" idx="2"/>
            </p:cNvCxnSpPr>
            <p:nvPr/>
          </p:nvCxnSpPr>
          <p:spPr>
            <a:xfrm>
              <a:off x="2625840" y="3103200"/>
              <a:ext cx="1117800" cy="16722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7" name=""/>
            <p:cNvCxnSpPr>
              <a:stCxn id="460" idx="5"/>
              <a:endCxn id="463" idx="3"/>
            </p:cNvCxnSpPr>
            <p:nvPr/>
          </p:nvCxnSpPr>
          <p:spPr>
            <a:xfrm flipH="1">
              <a:off x="2515320" y="4019040"/>
              <a:ext cx="808920" cy="55332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  <p:cxnSp>
          <p:nvCxnSpPr>
            <p:cNvPr id="478" name=""/>
            <p:cNvCxnSpPr>
              <a:stCxn id="462" idx="6"/>
              <a:endCxn id="463" idx="2"/>
            </p:cNvCxnSpPr>
            <p:nvPr/>
          </p:nvCxnSpPr>
          <p:spPr>
            <a:xfrm flipH="1">
              <a:off x="2369880" y="3163680"/>
              <a:ext cx="110160" cy="1348200"/>
            </a:xfrm>
            <a:prstGeom prst="straightConnector1">
              <a:avLst/>
            </a:prstGeom>
            <a:ln w="12600">
              <a:solidFill>
                <a:srgbClr val="333333"/>
              </a:solidFill>
              <a:miter/>
            </a:ln>
          </p:spPr>
        </p:cxnSp>
      </p:grpSp>
      <p:sp>
        <p:nvSpPr>
          <p:cNvPr id="479" name=""/>
          <p:cNvSpPr/>
          <p:nvPr/>
        </p:nvSpPr>
        <p:spPr>
          <a:xfrm>
            <a:off x="4724280" y="3352680"/>
            <a:ext cx="1109880" cy="876600"/>
          </a:xfrm>
          <a:prstGeom prst="rightArrow">
            <a:avLst>
              <a:gd name="adj1" fmla="val 50000"/>
              <a:gd name="adj2" fmla="val 31653"/>
            </a:avLst>
          </a:prstGeom>
          <a:solidFill>
            <a:srgbClr val="ff66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095880" y="2209680"/>
            <a:ext cx="2590920" cy="3200400"/>
            <a:chOff x="6095880" y="2209680"/>
            <a:chExt cx="2590920" cy="3200400"/>
          </a:xfrm>
        </p:grpSpPr>
        <p:sp>
          <p:nvSpPr>
            <p:cNvPr id="481" name=""/>
            <p:cNvSpPr/>
            <p:nvPr/>
          </p:nvSpPr>
          <p:spPr>
            <a:xfrm>
              <a:off x="6095880" y="2209680"/>
              <a:ext cx="2590920" cy="3200400"/>
            </a:xfrm>
            <a:prstGeom prst="rect">
              <a:avLst/>
            </a:prstGeom>
            <a:solidFill>
              <a:srgbClr val="ffdfbf"/>
            </a:solidFill>
            <a:ln w="0">
              <a:noFill/>
            </a:ln>
            <a:effectLst>
              <a:outerShdw dist="17819" dir="2700000" blurRad="0" rotWithShape="0">
                <a:srgbClr val="9885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48520" y="3100320"/>
              <a:ext cx="457200" cy="43992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62920" y="2514600"/>
              <a:ext cx="453960" cy="439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074080" y="3100320"/>
              <a:ext cx="457200" cy="43992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6248520" y="3977640"/>
              <a:ext cx="457200" cy="439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162920" y="4563360"/>
              <a:ext cx="453960" cy="439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8074080" y="3977640"/>
              <a:ext cx="457200" cy="439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2920" y="3527280"/>
              <a:ext cx="453960" cy="4399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659640" y="3862440"/>
              <a:ext cx="534960" cy="2430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7594560" y="3413160"/>
              <a:ext cx="504720" cy="2430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89720" y="2951280"/>
              <a:ext cx="0" cy="5745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89000" y="3963960"/>
              <a:ext cx="1800" cy="59868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6686280" y="3386160"/>
              <a:ext cx="50004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7578720" y="3871440"/>
              <a:ext cx="509760" cy="2365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9560" y="3606840"/>
              <a:ext cx="43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A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816640" y="584820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07200" y="5850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F967-A736-4DE3-A264-9BE234C1F9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cess Spagh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110120" y="1676520"/>
            <a:ext cx="47829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00" name=""/>
          <p:cNvGrpSpPr/>
          <p:nvPr/>
        </p:nvGrpSpPr>
        <p:grpSpPr>
          <a:xfrm>
            <a:off x="3066840" y="2285280"/>
            <a:ext cx="2611440" cy="2095920"/>
            <a:chOff x="3066840" y="2285280"/>
            <a:chExt cx="2611440" cy="2095920"/>
          </a:xfrm>
        </p:grpSpPr>
        <p:cxnSp>
          <p:nvCxnSpPr>
            <p:cNvPr id="501" name=""/>
            <p:cNvCxnSpPr/>
            <p:nvPr/>
          </p:nvCxnSpPr>
          <p:spPr>
            <a:xfrm flipV="1">
              <a:off x="3066840" y="2285280"/>
              <a:ext cx="261180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2" name=""/>
            <p:cNvCxnSpPr/>
            <p:nvPr/>
          </p:nvCxnSpPr>
          <p:spPr>
            <a:xfrm flipV="1">
              <a:off x="3066840" y="2285280"/>
              <a:ext cx="2611800" cy="1210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/>
            <p:nvPr/>
          </p:nvCxnSpPr>
          <p:spPr>
            <a:xfrm flipV="1">
              <a:off x="3066840" y="2285280"/>
              <a:ext cx="2611800" cy="20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4" name=""/>
          <p:cNvGrpSpPr/>
          <p:nvPr/>
        </p:nvGrpSpPr>
        <p:grpSpPr>
          <a:xfrm>
            <a:off x="3066840" y="2628720"/>
            <a:ext cx="2647440" cy="2629080"/>
            <a:chOff x="3066840" y="2628720"/>
            <a:chExt cx="2647440" cy="2629080"/>
          </a:xfrm>
        </p:grpSpPr>
        <p:cxnSp>
          <p:nvCxnSpPr>
            <p:cNvPr id="505" name=""/>
            <p:cNvCxnSpPr/>
            <p:nvPr/>
          </p:nvCxnSpPr>
          <p:spPr>
            <a:xfrm>
              <a:off x="3066840" y="2628720"/>
              <a:ext cx="2647800" cy="262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6" name=""/>
            <p:cNvCxnSpPr/>
            <p:nvPr/>
          </p:nvCxnSpPr>
          <p:spPr>
            <a:xfrm>
              <a:off x="3066840" y="3556800"/>
              <a:ext cx="2647800" cy="170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7" name=""/>
            <p:cNvCxnSpPr/>
            <p:nvPr/>
          </p:nvCxnSpPr>
          <p:spPr>
            <a:xfrm>
              <a:off x="3066840" y="4407120"/>
              <a:ext cx="2647800" cy="85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508" name=""/>
          <p:cNvCxnSpPr>
            <a:stCxn id="509" idx="0"/>
          </p:cNvCxnSpPr>
          <p:nvPr/>
        </p:nvCxnSpPr>
        <p:spPr>
          <a:xfrm flipV="1">
            <a:off x="3048120" y="3543120"/>
            <a:ext cx="528840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3047760" y="2628720"/>
            <a:ext cx="3962520" cy="1181160"/>
            <a:chOff x="3047760" y="2628720"/>
            <a:chExt cx="3962520" cy="1181160"/>
          </a:xfrm>
        </p:grpSpPr>
        <p:cxnSp>
          <p:nvCxnSpPr>
            <p:cNvPr id="511" name=""/>
            <p:cNvCxnSpPr/>
            <p:nvPr/>
          </p:nvCxnSpPr>
          <p:spPr>
            <a:xfrm flipH="1" flipV="1">
              <a:off x="3047760" y="3184200"/>
              <a:ext cx="3962880" cy="62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2" name=""/>
            <p:cNvCxnSpPr/>
            <p:nvPr/>
          </p:nvCxnSpPr>
          <p:spPr>
            <a:xfrm flipH="1" flipV="1">
              <a:off x="3047760" y="2628720"/>
              <a:ext cx="3962880" cy="118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3" name=""/>
          <p:cNvGrpSpPr/>
          <p:nvPr/>
        </p:nvGrpSpPr>
        <p:grpSpPr>
          <a:xfrm>
            <a:off x="2633760" y="2513880"/>
            <a:ext cx="4430520" cy="1753200"/>
            <a:chOff x="2633760" y="2513880"/>
            <a:chExt cx="4430520" cy="1753200"/>
          </a:xfrm>
        </p:grpSpPr>
        <p:cxnSp>
          <p:nvCxnSpPr>
            <p:cNvPr id="514" name=""/>
            <p:cNvCxnSpPr/>
            <p:nvPr/>
          </p:nvCxnSpPr>
          <p:spPr>
            <a:xfrm flipV="1">
              <a:off x="2633760" y="2513880"/>
              <a:ext cx="4430880" cy="10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/>
            <p:nvPr/>
          </p:nvCxnSpPr>
          <p:spPr>
            <a:xfrm flipV="1">
              <a:off x="2633760" y="2514240"/>
              <a:ext cx="4430880" cy="175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6" name=""/>
          <p:cNvGrpSpPr/>
          <p:nvPr/>
        </p:nvGrpSpPr>
        <p:grpSpPr>
          <a:xfrm>
            <a:off x="1600200" y="2133720"/>
            <a:ext cx="1467000" cy="3200400"/>
            <a:chOff x="1600200" y="2133720"/>
            <a:chExt cx="1467000" cy="3200400"/>
          </a:xfrm>
        </p:grpSpPr>
        <p:sp>
          <p:nvSpPr>
            <p:cNvPr id="517" name=""/>
            <p:cNvSpPr/>
            <p:nvPr/>
          </p:nvSpPr>
          <p:spPr>
            <a:xfrm>
              <a:off x="1600200" y="2133720"/>
              <a:ext cx="146700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Business Partn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0200" y="3022560"/>
              <a:ext cx="146700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Consum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00200" y="3911760"/>
              <a:ext cx="146700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ervice 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00200" y="4800600"/>
              <a:ext cx="146700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mploye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V="1">
            <a:off x="3048120" y="3505320"/>
            <a:ext cx="24382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8120" y="5181480"/>
            <a:ext cx="2743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602240" y="1675440"/>
            <a:ext cx="3868200" cy="3810960"/>
            <a:chOff x="4602240" y="1675440"/>
            <a:chExt cx="3868200" cy="3810960"/>
          </a:xfrm>
        </p:grpSpPr>
        <p:sp>
          <p:nvSpPr>
            <p:cNvPr id="524" name=""/>
            <p:cNvSpPr/>
            <p:nvPr/>
          </p:nvSpPr>
          <p:spPr>
            <a:xfrm>
              <a:off x="6078960" y="167652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38560" y="259092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02240" y="3200400"/>
              <a:ext cx="281160" cy="381240"/>
            </a:xfrm>
            <a:prstGeom prst="can">
              <a:avLst>
                <a:gd name="adj" fmla="val 25000"/>
              </a:avLst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16640" y="3200400"/>
              <a:ext cx="281160" cy="381240"/>
            </a:xfrm>
            <a:prstGeom prst="can">
              <a:avLst>
                <a:gd name="adj" fmla="val 2500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16640" y="190512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75880" y="4191120"/>
              <a:ext cx="280800" cy="38088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23160" y="358164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3720" y="240048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89280" y="358164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99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27600" y="5105520"/>
              <a:ext cx="281160" cy="38088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6" idx="4"/>
              <a:endCxn id="527" idx="2"/>
            </p:cNvCxnSpPr>
            <p:nvPr/>
          </p:nvCxnSpPr>
          <p:spPr>
            <a:xfrm>
              <a:off x="4883400" y="3390840"/>
              <a:ext cx="63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29" idx="4"/>
              <a:endCxn id="533" idx="2"/>
            </p:cNvCxnSpPr>
            <p:nvPr/>
          </p:nvCxnSpPr>
          <p:spPr>
            <a:xfrm>
              <a:off x="5656680" y="4381560"/>
              <a:ext cx="70920" cy="91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3" idx="4"/>
              <a:endCxn id="530" idx="2"/>
            </p:cNvCxnSpPr>
            <p:nvPr/>
          </p:nvCxnSpPr>
          <p:spPr>
            <a:xfrm flipV="1">
              <a:off x="6008760" y="3771360"/>
              <a:ext cx="914760" cy="15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4"/>
              <a:endCxn id="532" idx="2"/>
            </p:cNvCxnSpPr>
            <p:nvPr/>
          </p:nvCxnSpPr>
          <p:spPr>
            <a:xfrm>
              <a:off x="7274520" y="2590560"/>
              <a:ext cx="914760" cy="118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8" name=""/>
            <p:cNvCxnSpPr>
              <a:stCxn id="524" idx="1"/>
              <a:endCxn id="526" idx="1"/>
            </p:cNvCxnSpPr>
            <p:nvPr/>
          </p:nvCxnSpPr>
          <p:spPr>
            <a:xfrm rot="5400000">
              <a:off x="4718880" y="1699200"/>
              <a:ext cx="1524600" cy="1477440"/>
            </a:xfrm>
            <a:prstGeom prst="curvedConnector5">
              <a:avLst>
                <a:gd name="adj1" fmla="val 7179"/>
                <a:gd name="adj2" fmla="val 49987"/>
                <a:gd name="adj3" fmla="val 71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9" name=""/>
            <p:cNvCxnSpPr>
              <a:stCxn id="526" idx="1"/>
              <a:endCxn id="529" idx="1"/>
            </p:cNvCxnSpPr>
            <p:nvPr/>
          </p:nvCxnSpPr>
          <p:spPr>
            <a:xfrm flipH="1" rot="16200000">
              <a:off x="4634280" y="3308760"/>
              <a:ext cx="991440" cy="774000"/>
            </a:xfrm>
            <a:prstGeom prst="curvedConnector5">
              <a:avLst>
                <a:gd name="adj1" fmla="val -23065"/>
                <a:gd name="adj2" fmla="val 49976"/>
                <a:gd name="adj3" fmla="val -2306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0" name=""/>
            <p:cNvCxnSpPr>
              <a:stCxn id="533" idx="1"/>
              <a:endCxn id="532" idx="1"/>
            </p:cNvCxnSpPr>
            <p:nvPr/>
          </p:nvCxnSpPr>
          <p:spPr>
            <a:xfrm flipH="1" flipV="1" rot="5400000">
              <a:off x="6336720" y="3112200"/>
              <a:ext cx="1524600" cy="2462400"/>
            </a:xfrm>
            <a:prstGeom prst="curvedConnector5">
              <a:avLst>
                <a:gd name="adj1" fmla="val 114997"/>
                <a:gd name="adj2" fmla="val 49992"/>
                <a:gd name="adj3" fmla="val 11499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28" idx="3"/>
              <a:endCxn id="525" idx="3"/>
            </p:cNvCxnSpPr>
            <p:nvPr/>
          </p:nvCxnSpPr>
          <p:spPr>
            <a:xfrm flipH="1" rot="16200000">
              <a:off x="5524920" y="2417400"/>
              <a:ext cx="686520" cy="422640"/>
            </a:xfrm>
            <a:prstGeom prst="curvedConnector5">
              <a:avLst>
                <a:gd name="adj1" fmla="val 133315"/>
                <a:gd name="adj2" fmla="val 49957"/>
                <a:gd name="adj3" fmla="val 1333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2" name=""/>
            <p:cNvCxnSpPr>
              <a:stCxn id="525" idx="3"/>
              <a:endCxn id="529" idx="3"/>
            </p:cNvCxnSpPr>
            <p:nvPr/>
          </p:nvCxnSpPr>
          <p:spPr>
            <a:xfrm rot="5400000">
              <a:off x="4997160" y="3490560"/>
              <a:ext cx="1600920" cy="563040"/>
            </a:xfrm>
            <a:prstGeom prst="curvedConnector5">
              <a:avLst>
                <a:gd name="adj1" fmla="val 114282"/>
                <a:gd name="adj2" fmla="val 49968"/>
                <a:gd name="adj3" fmla="val 11428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3" name=""/>
            <p:cNvCxnSpPr>
              <a:stCxn id="524" idx="4"/>
              <a:endCxn id="528" idx="2"/>
            </p:cNvCxnSpPr>
            <p:nvPr/>
          </p:nvCxnSpPr>
          <p:spPr>
            <a:xfrm flipH="1">
              <a:off x="5516280" y="1866600"/>
              <a:ext cx="8445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4" name=""/>
          <p:cNvGrpSpPr/>
          <p:nvPr/>
        </p:nvGrpSpPr>
        <p:grpSpPr>
          <a:xfrm>
            <a:off x="5048280" y="6019920"/>
            <a:ext cx="3304800" cy="380520"/>
            <a:chOff x="5048280" y="6019920"/>
            <a:chExt cx="3304800" cy="380520"/>
          </a:xfrm>
        </p:grpSpPr>
        <p:grpSp>
          <p:nvGrpSpPr>
            <p:cNvPr id="545" name=""/>
            <p:cNvGrpSpPr/>
            <p:nvPr/>
          </p:nvGrpSpPr>
          <p:grpSpPr>
            <a:xfrm>
              <a:off x="5048280" y="6019920"/>
              <a:ext cx="3304800" cy="380520"/>
              <a:chOff x="5048280" y="6019920"/>
              <a:chExt cx="3304800" cy="380520"/>
            </a:xfrm>
          </p:grpSpPr>
          <p:sp>
            <p:nvSpPr>
              <p:cNvPr id="546" name=""/>
              <p:cNvSpPr/>
              <p:nvPr/>
            </p:nvSpPr>
            <p:spPr>
              <a:xfrm>
                <a:off x="5048280" y="6019920"/>
                <a:ext cx="845280" cy="38052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62800" y="6019920"/>
                <a:ext cx="845640" cy="380520"/>
              </a:xfrm>
              <a:custGeom>
                <a:avLst/>
                <a:gdLst>
                  <a:gd name="textAreaLeft" fmla="*/ 0 w 845640"/>
                  <a:gd name="textAreaRight" fmla="*/ 846000 w 8456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78040" y="6019920"/>
                <a:ext cx="845280" cy="38052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892920" y="6019920"/>
                <a:ext cx="845280" cy="38052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07440" y="6019920"/>
                <a:ext cx="845640" cy="380520"/>
              </a:xfrm>
              <a:custGeom>
                <a:avLst/>
                <a:gdLst>
                  <a:gd name="textAreaLeft" fmla="*/ 0 w 845640"/>
                  <a:gd name="textAreaRight" fmla="*/ 846000 w 845640"/>
                  <a:gd name="textAreaTop" fmla="*/ 0 h 380520"/>
                  <a:gd name="textAreaBottom" fmla="*/ 38088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688000" y="6072120"/>
              <a:ext cx="202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0" y="1511280"/>
            <a:ext cx="175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as ist EAI</a:t>
            </a: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r EAI-Markt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e EAI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mmunity der S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EC70-E58A-4DCC-90BA-D8D392F509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Proces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80960" y="4379760"/>
            <a:ext cx="2057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I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us 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499800" y="2033640"/>
            <a:ext cx="2134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us 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are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719360" y="1601640"/>
            <a:ext cx="4665600" cy="1965240"/>
            <a:chOff x="1719360" y="1601640"/>
            <a:chExt cx="4665600" cy="1965240"/>
          </a:xfrm>
        </p:grpSpPr>
        <p:sp>
          <p:nvSpPr>
            <p:cNvPr id="558" name=""/>
            <p:cNvSpPr/>
            <p:nvPr/>
          </p:nvSpPr>
          <p:spPr>
            <a:xfrm>
              <a:off x="1782720" y="1714320"/>
              <a:ext cx="239760" cy="266760"/>
            </a:xfrm>
            <a:prstGeom prst="downArrow">
              <a:avLst>
                <a:gd name="adj1" fmla="val 50000"/>
                <a:gd name="adj2" fmla="val 55636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02080" y="1601640"/>
              <a:ext cx="1634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53200" y="3159000"/>
              <a:ext cx="144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54640" y="3159000"/>
              <a:ext cx="14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71640" y="2433600"/>
              <a:ext cx="674640" cy="225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71640" y="2728800"/>
              <a:ext cx="674640" cy="225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71640" y="3025440"/>
              <a:ext cx="67464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0840" y="2433600"/>
              <a:ext cx="6793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60840" y="2728800"/>
              <a:ext cx="6793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60840" y="3025440"/>
              <a:ext cx="6793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87680" y="2055600"/>
              <a:ext cx="6793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52920" y="2433600"/>
              <a:ext cx="6811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52920" y="2728800"/>
              <a:ext cx="6811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2920" y="3025440"/>
              <a:ext cx="6811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8320" y="2055600"/>
              <a:ext cx="6811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45000" y="2433600"/>
              <a:ext cx="6778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45000" y="2728800"/>
              <a:ext cx="6778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45000" y="3025440"/>
              <a:ext cx="6778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71840" y="2055600"/>
              <a:ext cx="6829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37080" y="2433600"/>
              <a:ext cx="6796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37080" y="2728800"/>
              <a:ext cx="6796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37080" y="3025440"/>
              <a:ext cx="6796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4280" y="2055600"/>
              <a:ext cx="6760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41800" y="1677960"/>
              <a:ext cx="126504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19680" y="193032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08520" y="1930320"/>
              <a:ext cx="20520" cy="4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5272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40120" y="1990440"/>
              <a:ext cx="2196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4480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33640" y="1990440"/>
              <a:ext cx="2232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3688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22840" y="1990440"/>
              <a:ext cx="2196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2752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13480" y="1990440"/>
              <a:ext cx="2052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619960" y="199044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05560" y="1990440"/>
              <a:ext cx="23760" cy="47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49480" y="1990440"/>
              <a:ext cx="89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49480" y="1982520"/>
              <a:ext cx="8780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44800" y="1990440"/>
              <a:ext cx="89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44800" y="1982520"/>
              <a:ext cx="8748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36880" y="199044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36880" y="198252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19680" y="19904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19680" y="1982520"/>
              <a:ext cx="788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27520" y="1990440"/>
              <a:ext cx="8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8128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66880" y="2307960"/>
              <a:ext cx="2232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81280" y="2557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81280" y="2549520"/>
              <a:ext cx="680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81280" y="2852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81280" y="2844720"/>
              <a:ext cx="680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81280" y="3160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8128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6880" y="2557440"/>
              <a:ext cx="2232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8128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66880" y="2852640"/>
              <a:ext cx="2232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19360" y="2076120"/>
              <a:ext cx="500400" cy="244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65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65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7012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56080" y="2307960"/>
              <a:ext cx="2376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70120" y="2557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70120" y="2549520"/>
              <a:ext cx="666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70120" y="2852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70120" y="284472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70120" y="3160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7012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56080" y="2557440"/>
              <a:ext cx="237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7012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56080" y="2852640"/>
              <a:ext cx="237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54360" y="2428560"/>
              <a:ext cx="690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54360" y="2724120"/>
              <a:ext cx="6904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54360" y="3020760"/>
              <a:ext cx="69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83000" y="205092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53200" y="2076120"/>
              <a:ext cx="486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5588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588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85588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6400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51400" y="2307960"/>
              <a:ext cx="2196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64000" y="25574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64000" y="2549520"/>
              <a:ext cx="68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64000" y="2852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64000" y="284472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6400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51400" y="2557440"/>
              <a:ext cx="219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6400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51400" y="2852640"/>
              <a:ext cx="219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48240" y="2428560"/>
              <a:ext cx="6919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48240" y="2724120"/>
              <a:ext cx="6919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73640" y="2050920"/>
              <a:ext cx="69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48880" y="2071440"/>
              <a:ext cx="81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4652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46520" y="23065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46520" y="23065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5284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42040" y="2307960"/>
              <a:ext cx="2196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52840" y="255744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52840" y="2549520"/>
              <a:ext cx="716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52840" y="285264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52840" y="2844720"/>
              <a:ext cx="71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5284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42040" y="2557440"/>
              <a:ext cx="219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5284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42040" y="2852640"/>
              <a:ext cx="219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40320" y="2724120"/>
              <a:ext cx="689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40320" y="30207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65720" y="2050920"/>
              <a:ext cx="6951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52760" y="208116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418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418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418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46720" y="2307960"/>
              <a:ext cx="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32320" y="2307960"/>
              <a:ext cx="22320" cy="23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6720" y="255744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46720" y="2549520"/>
              <a:ext cx="68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46720" y="285264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46720" y="284472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46720" y="255744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32320" y="2557440"/>
              <a:ext cx="2232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46720" y="285264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32320" y="2852640"/>
              <a:ext cx="2232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32400" y="2428560"/>
              <a:ext cx="689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03840" y="2492280"/>
              <a:ext cx="162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03840" y="2589120"/>
              <a:ext cx="162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03840" y="268416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03840" y="268416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2400" y="2724120"/>
              <a:ext cx="6890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32400" y="30207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57800" y="205092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26840" y="2066760"/>
              <a:ext cx="816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29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29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29240" y="22111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22720" y="1672920"/>
              <a:ext cx="13492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05160" y="1703160"/>
              <a:ext cx="1160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30760" y="183348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830760" y="192852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30760" y="1927080"/>
              <a:ext cx="162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221520" y="3089160"/>
              <a:ext cx="1634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57520" y="31590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48240" y="3020760"/>
              <a:ext cx="6919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90880" y="3301920"/>
              <a:ext cx="237960" cy="264960"/>
            </a:xfrm>
            <a:prstGeom prst="downArrow">
              <a:avLst>
                <a:gd name="adj1" fmla="val 50000"/>
                <a:gd name="adj2" fmla="val 55678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23080" y="316368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905120" y="4419720"/>
            <a:ext cx="7194960" cy="1658880"/>
            <a:chOff x="1905120" y="4419720"/>
            <a:chExt cx="7194960" cy="1658880"/>
          </a:xfrm>
        </p:grpSpPr>
        <p:sp>
          <p:nvSpPr>
            <p:cNvPr id="703" name=""/>
            <p:cNvSpPr/>
            <p:nvPr/>
          </p:nvSpPr>
          <p:spPr>
            <a:xfrm>
              <a:off x="8263080" y="5451480"/>
              <a:ext cx="779400" cy="6271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5120" y="5815080"/>
              <a:ext cx="1277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stomer order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268840" y="5375160"/>
              <a:ext cx="831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livery to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92400" y="5783400"/>
              <a:ext cx="312840" cy="203040"/>
            </a:xfrm>
            <a:prstGeom prst="rightArrow">
              <a:avLst>
                <a:gd name="adj1" fmla="val 50000"/>
                <a:gd name="adj2" fmla="val 77046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53200" y="59054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53200" y="5905440"/>
              <a:ext cx="14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72000" y="5180040"/>
              <a:ext cx="67464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72000" y="5475240"/>
              <a:ext cx="67464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72000" y="5772240"/>
              <a:ext cx="67464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94160" y="4802040"/>
              <a:ext cx="68256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59400" y="5180040"/>
              <a:ext cx="6793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59400" y="5475240"/>
              <a:ext cx="67932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59400" y="5772240"/>
              <a:ext cx="679320" cy="223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87680" y="4802040"/>
              <a:ext cx="6778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52920" y="5180040"/>
              <a:ext cx="6796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52920" y="5475240"/>
              <a:ext cx="679680" cy="225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52920" y="5772240"/>
              <a:ext cx="6796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76880" y="4802040"/>
              <a:ext cx="68112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43560" y="5180040"/>
              <a:ext cx="67788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43560" y="5475240"/>
              <a:ext cx="677880" cy="225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343560" y="5772240"/>
              <a:ext cx="6778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70760" y="4802040"/>
              <a:ext cx="68256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37440" y="5180040"/>
              <a:ext cx="6778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37440" y="5475240"/>
              <a:ext cx="67788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237440" y="5772240"/>
              <a:ext cx="677880" cy="223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62840" y="4802040"/>
              <a:ext cx="676080" cy="22392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41800" y="4424400"/>
              <a:ext cx="1263600" cy="22536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18240" y="467676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7080" y="4676760"/>
              <a:ext cx="2232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5128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38680" y="4737240"/>
              <a:ext cx="2196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4516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732200" y="4737240"/>
              <a:ext cx="223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3580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21400" y="4737240"/>
              <a:ext cx="223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788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12040" y="4737240"/>
              <a:ext cx="2196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18520" y="473724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404120" y="4737240"/>
              <a:ext cx="2376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48040" y="4737240"/>
              <a:ext cx="89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48040" y="4727520"/>
              <a:ext cx="8762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5160" y="473724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5160" y="4727520"/>
              <a:ext cx="8744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635800" y="47372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35800" y="4727520"/>
              <a:ext cx="680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18240" y="4737240"/>
              <a:ext cx="80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18240" y="4727520"/>
              <a:ext cx="7887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27880" y="4737240"/>
              <a:ext cx="87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7984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65440" y="5054760"/>
              <a:ext cx="2376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79840" y="530388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79840" y="529416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79840" y="559908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79840" y="5591160"/>
              <a:ext cx="68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79840" y="5907240"/>
              <a:ext cx="8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7984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65440" y="5303880"/>
              <a:ext cx="237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7984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65440" y="5599080"/>
              <a:ext cx="237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06760" y="4821120"/>
              <a:ext cx="500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7048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456080" y="5054760"/>
              <a:ext cx="2232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70480" y="530388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70480" y="5294160"/>
              <a:ext cx="65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70480" y="559908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70480" y="5591160"/>
              <a:ext cx="65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70480" y="59072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7048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56080" y="5303880"/>
              <a:ext cx="2232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47048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56080" y="5599080"/>
              <a:ext cx="2232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52920" y="5175360"/>
              <a:ext cx="69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52920" y="5470560"/>
              <a:ext cx="690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59400" y="5772240"/>
              <a:ext cx="67932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81560" y="47973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51400" y="4821120"/>
              <a:ext cx="465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&amp;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5444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5444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5444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6256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51400" y="5054760"/>
              <a:ext cx="2088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362560" y="53038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62560" y="529416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362560" y="5599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62560" y="559116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6256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51400" y="5303880"/>
              <a:ext cx="2088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6256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51400" y="5599080"/>
              <a:ext cx="2088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46800" y="5175360"/>
              <a:ext cx="6919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52920" y="5475240"/>
              <a:ext cx="679680" cy="2253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72200" y="4797360"/>
              <a:ext cx="6919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26920" y="4816440"/>
              <a:ext cx="81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urchas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45080" y="4957920"/>
              <a:ext cx="16344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45080" y="5052960"/>
              <a:ext cx="1634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45080" y="5052960"/>
              <a:ext cx="1634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25140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40600" y="5054760"/>
              <a:ext cx="2196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251400" y="530388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51400" y="5294160"/>
              <a:ext cx="71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251400" y="559908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51400" y="5591160"/>
              <a:ext cx="71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25140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240600" y="5303880"/>
              <a:ext cx="2196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5140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40600" y="5599080"/>
              <a:ext cx="2196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38880" y="5470560"/>
              <a:ext cx="689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38880" y="57675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64280" y="4797360"/>
              <a:ext cx="6951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63920" y="4816440"/>
              <a:ext cx="788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404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404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404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47080" y="5054760"/>
              <a:ext cx="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32680" y="5054760"/>
              <a:ext cx="22320" cy="23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47080" y="5303880"/>
              <a:ext cx="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147080" y="529416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47080" y="5599080"/>
              <a:ext cx="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47080" y="5591160"/>
              <a:ext cx="6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47080" y="530388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32680" y="5303880"/>
              <a:ext cx="22320" cy="28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47080" y="5599080"/>
              <a:ext cx="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32680" y="5599080"/>
              <a:ext cx="2232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30960" y="5175360"/>
              <a:ext cx="6890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502400" y="5238720"/>
              <a:ext cx="162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502400" y="5335560"/>
              <a:ext cx="1620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02400" y="543096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502400" y="543096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0960" y="5470560"/>
              <a:ext cx="689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7440" y="5772240"/>
              <a:ext cx="677880" cy="22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056360" y="4797360"/>
              <a:ext cx="69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29360" y="4802040"/>
              <a:ext cx="8636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278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278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27800" y="4957920"/>
              <a:ext cx="16200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1280" y="4419720"/>
              <a:ext cx="13492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03720" y="4449600"/>
              <a:ext cx="1179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29320" y="4579920"/>
              <a:ext cx="1634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629320" y="4675320"/>
              <a:ext cx="16344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29320" y="4673520"/>
              <a:ext cx="1634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57880" y="590544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46800" y="5767560"/>
              <a:ext cx="6919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045280" y="5796000"/>
              <a:ext cx="314640" cy="203040"/>
            </a:xfrm>
            <a:prstGeom prst="rightArrow">
              <a:avLst>
                <a:gd name="adj1" fmla="val 50000"/>
                <a:gd name="adj2" fmla="val 77489"/>
              </a:avLst>
            </a:prstGeom>
            <a:solidFill>
              <a:srgbClr val="99ccff"/>
            </a:solidFill>
            <a:ln w="1260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0" y="1511280"/>
            <a:ext cx="1752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7B16-D583-46D2-9900-795C02C6A8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ens Business Services EAI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1511280"/>
            <a:ext cx="1752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554120" y="1373040"/>
            <a:ext cx="1655640" cy="863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994120" y="1373040"/>
            <a:ext cx="1655640" cy="863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ysis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433760" y="1371600"/>
            <a:ext cx="1656000" cy="8636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873760" y="1371600"/>
            <a:ext cx="1655640" cy="863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e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315200" y="1371600"/>
            <a:ext cx="1655640" cy="8636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0" y="21600"/>
                </a:lnTo>
                <a:lnTo>
                  <a:pt x="4038" y="108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nt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>
            <a:hlinkClick r:id="rId1" action="ppaction://hlinksldjump"/>
          </p:cNvPr>
          <p:cNvSpPr/>
          <p:nvPr/>
        </p:nvSpPr>
        <p:spPr>
          <a:xfrm>
            <a:off x="3048120" y="27432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Architectu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>
            <a:hlinkClick r:id="rId2" action="ppaction://hlinksldjump"/>
          </p:cNvPr>
          <p:cNvSpPr/>
          <p:nvPr/>
        </p:nvSpPr>
        <p:spPr>
          <a:xfrm>
            <a:off x="3048120" y="22860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Business Proces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>
            <a:hlinkClick r:id="rId3" action="ppaction://hlinksldjump"/>
          </p:cNvPr>
          <p:cNvSpPr/>
          <p:nvPr/>
        </p:nvSpPr>
        <p:spPr>
          <a:xfrm>
            <a:off x="4495680" y="22860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>
            <a:hlinkClick r:id="rId4" action="ppaction://hlinksldjump"/>
          </p:cNvPr>
          <p:cNvSpPr/>
          <p:nvPr/>
        </p:nvSpPr>
        <p:spPr>
          <a:xfrm>
            <a:off x="4495680" y="27432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>
            <a:hlinkClick r:id="rId5" action="ppaction://hlinksldjump"/>
          </p:cNvPr>
          <p:cNvSpPr/>
          <p:nvPr/>
        </p:nvSpPr>
        <p:spPr>
          <a:xfrm>
            <a:off x="4498920" y="32004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Solu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>
            <a:hlinkClick r:id="rId6" action="ppaction://hlinksldjump"/>
          </p:cNvPr>
          <p:cNvSpPr/>
          <p:nvPr/>
        </p:nvSpPr>
        <p:spPr>
          <a:xfrm>
            <a:off x="4498920" y="36576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Solu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nhance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>
            <a:hlinkClick r:id="rId7" action="ppaction://hlinksldjump"/>
          </p:cNvPr>
          <p:cNvSpPr/>
          <p:nvPr/>
        </p:nvSpPr>
        <p:spPr>
          <a:xfrm>
            <a:off x="4498920" y="41148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>
            <a:hlinkClick r:id="rId8" action="ppaction://hlinksldjump"/>
          </p:cNvPr>
          <p:cNvSpPr/>
          <p:nvPr/>
        </p:nvSpPr>
        <p:spPr>
          <a:xfrm>
            <a:off x="5943600" y="22860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>
            <a:hlinkClick r:id="rId9" action="ppaction://hlinksldjump"/>
          </p:cNvPr>
          <p:cNvSpPr/>
          <p:nvPr/>
        </p:nvSpPr>
        <p:spPr>
          <a:xfrm>
            <a:off x="5943600" y="27432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oll-Ou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>
            <a:hlinkClick r:id="rId10" action="ppaction://hlinksldjump"/>
          </p:cNvPr>
          <p:cNvSpPr/>
          <p:nvPr/>
        </p:nvSpPr>
        <p:spPr>
          <a:xfrm>
            <a:off x="5946840" y="32004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ndard Serv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>
            <a:hlinkClick r:id="rId11" action="ppaction://hlinksldjump"/>
          </p:cNvPr>
          <p:cNvSpPr/>
          <p:nvPr/>
        </p:nvSpPr>
        <p:spPr>
          <a:xfrm>
            <a:off x="5946840" y="36576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>
            <a:hlinkClick r:id="rId12" action="ppaction://hlinksldjump"/>
          </p:cNvPr>
          <p:cNvSpPr/>
          <p:nvPr/>
        </p:nvSpPr>
        <p:spPr>
          <a:xfrm>
            <a:off x="5943600" y="41148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usiness Integration Service Provid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>
            <a:hlinkClick r:id="rId13" action="ppaction://hlinksldjump"/>
          </p:cNvPr>
          <p:cNvSpPr/>
          <p:nvPr/>
        </p:nvSpPr>
        <p:spPr>
          <a:xfrm>
            <a:off x="7391520" y="22860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ndard Serv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>
            <a:hlinkClick r:id="rId14" action="ppaction://hlinksldjump"/>
          </p:cNvPr>
          <p:cNvSpPr/>
          <p:nvPr/>
        </p:nvSpPr>
        <p:spPr>
          <a:xfrm>
            <a:off x="7394400" y="27432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>
            <a:hlinkClick r:id="rId15" action="ppaction://hlinksldjump"/>
          </p:cNvPr>
          <p:cNvSpPr/>
          <p:nvPr/>
        </p:nvSpPr>
        <p:spPr>
          <a:xfrm>
            <a:off x="3048120" y="36576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verall EAI Desig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>
            <a:hlinkClick r:id="rId16" action="ppaction://hlinksldjump"/>
          </p:cNvPr>
          <p:cNvSpPr/>
          <p:nvPr/>
        </p:nvSpPr>
        <p:spPr>
          <a:xfrm>
            <a:off x="1603440" y="22860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Business Chec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>
            <a:hlinkClick r:id="rId17" action="ppaction://hlinksldjump"/>
          </p:cNvPr>
          <p:cNvSpPr/>
          <p:nvPr/>
        </p:nvSpPr>
        <p:spPr>
          <a:xfrm>
            <a:off x="1603440" y="27432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Assess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600200" y="5486400"/>
            <a:ext cx="28195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EAI Business Plan incl. Cost-Benefit-Analysis (ROI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051000" y="45720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cro-Design of process clus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048120" y="41148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oduct / Vend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election &amp; T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051000" y="3200400"/>
            <a:ext cx="13687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luster-Analysis /  Roadma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6400800"/>
            <a:ext cx="716292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ogram Manage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00200" y="5943600"/>
            <a:ext cx="426708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ansition Management (Lobbying &amp; Promotion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048120" y="5029200"/>
            <a:ext cx="1368360" cy="380880"/>
          </a:xfrm>
          <a:prstGeom prst="rect">
            <a:avLst/>
          </a:prstGeom>
          <a:solidFill>
            <a:srgbClr val="3267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icro-Design of process clust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6676-6589-4F78-B599-AE195850F5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iemens Busines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752480" y="1600200"/>
            <a:ext cx="716292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BS is a service company providing all IT related services to their cust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nsult-Design-Build-Operate-Mainta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BS is not a research instit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BS can and will provide requirements to end-user-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erprise Application Integration (EAI) is a special area of interest for S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1511280"/>
            <a:ext cx="1752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95F1-C0AD-4506-AED0-25D8E7FF81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I Projects and End-Us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6320" y="6415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lobal net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innovation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752480" y="1600200"/>
            <a:ext cx="7010640" cy="44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rehensible presentation of existing complex and heterogeneous IT environ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pping tools for complex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uctures (business o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cess modeling and description at various levels of abst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ndardization of process modeling and description (BPML, UML, WFSL, XLANG, ...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I (Return on Investment) tools with tracking capabilities while the projects prog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150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1511280"/>
            <a:ext cx="1752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lem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EAI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s of EAI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 solu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erenc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9AC3-E63D-4EB2-A7DA-241C6FF7B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09:55:48Z</dcterms:created>
  <dc:creator>rstauber</dc:creator>
  <dc:description/>
  <cp:keywords>CI Beamer Präsentation Master Vorlage</cp:keywords>
  <dc:language>en-US</dc:language>
  <cp:lastModifiedBy>kh</cp:lastModifiedBy>
  <cp:lastPrinted>2002-03-07T10:47:25Z</cp:lastPrinted>
  <dcterms:modified xsi:type="dcterms:W3CDTF">2002-09-20T12:39:25Z</dcterms:modified>
  <cp:revision>290</cp:revision>
  <dc:subject/>
  <dc:title>Kein Folientitel</dc:title>
</cp:coreProperties>
</file>