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907588" cy="6767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5611320" y="-360"/>
            <a:ext cx="4294440" cy="338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3263760" y="506160"/>
            <a:ext cx="3386160" cy="25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0" y="6430680"/>
            <a:ext cx="4294080" cy="338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5611320" y="6430680"/>
            <a:ext cx="4294440" cy="338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3D7C9A-9D31-4DD9-83EF-C16454A25CBE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us: Zeichnung des Architek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us: Zeichnung des Architek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us: Zeichnung des Architek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3262320" y="506520"/>
            <a:ext cx="3386160" cy="25398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20480" y="3214800"/>
            <a:ext cx="7264440" cy="3047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ragsbeginn mit Motiv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ktronische Geräte - Modell: elektronischer Schaltk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8F79-EB6E-427C-9777-6C25990A2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280" y="40676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27007-A313-4975-B273-950060B0E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256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FA9E-DB1A-4685-B668-A20619736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50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78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2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50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78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AD80-B746-4C88-B8FA-0963CA1DB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0523F-E2A2-4A49-818F-FE7A3A0C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1F942-9C2D-4E56-920F-5C2462FE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6155A-2ED2-4E8C-9516-8FDEB8BF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46DCF-48C1-4388-8BAB-DEA1588B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B2922-56BF-4E7D-8D68-D77F9ACA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763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F6CB3-9394-4342-89CB-53E082EE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17457-C0C3-45CD-ACA5-E98FE06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A661-F02F-427C-B477-DF22B2E69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256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E4420-0ED9-4780-9E75-48000921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8E7EA-C560-4B75-9667-9286B678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2280" y="40676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F3F3C-1A0F-4614-9ECD-6DA4D169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256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546F3-738D-488E-B108-9EEA4811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50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7880" y="15998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22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50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7880" y="4067640"/>
            <a:ext cx="282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A91E9-0219-4A9A-B6AF-6C86D1E4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5DA7-665B-4B5A-B909-6ED8C187A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F297B-AD26-4E11-8DA3-1C982C365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52E6-DE47-4488-AB7D-1EE0BBC27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763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BEB0-262E-4C7C-99C5-924BA0F21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C2B6-AEBE-4023-8A9A-9DBCC5D54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2560" y="40676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6CA7-9649-4A20-97AF-F958AED09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7761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2560" y="1599840"/>
            <a:ext cx="427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4067640"/>
            <a:ext cx="8763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7DDC-6E9F-4024-BC47-8824B20BA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400440"/>
            <a:ext cx="80773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05920" y="6400440"/>
            <a:ext cx="8380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D649-3D0C-4058-8F3A-F051EF872EDA}" type="slidenum">
              <a:rPr b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3320" y="169920"/>
            <a:ext cx="1497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gels, S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ni Pader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06960" y="3078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Model-based Softwar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28600" y="152280"/>
          <a:ext cx="40968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280"/>
                    <a:ext cx="409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7315200" y="3049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267080" y="27432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21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2C77-ED24-41D9-BE56-B16595B95E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981080"/>
            <a:ext cx="8153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7721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isual Model-based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oftware Develop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5589720"/>
            <a:ext cx="7848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D-Net Workshop, Pisa, Ita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ptember 23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594440" y="762120"/>
            <a:ext cx="1793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iversit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derb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79320" y="380880"/>
          <a:ext cx="67320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380880"/>
                    <a:ext cx="6732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11280" y="3284640"/>
            <a:ext cx="784836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Gregor Engel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, Stefan Sa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iversity of  Paderborn (Germany)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System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{engels|sauer}@upb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MMMA Presentation Diagram – Concrete Synt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11280" y="1628640"/>
          <a:ext cx="7705800" cy="465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770580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AF7C-28EC-4CDE-BDE5-5DB8E7BB98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MMMA Presentation Diagram – Concrete Synt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58920" y="1484280"/>
          <a:ext cx="6840360" cy="4692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84280"/>
                    <a:ext cx="684036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51CF-52B0-4AC5-9BC9-D08908EF2A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ur Research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1320" y="1341360"/>
            <a:ext cx="83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nguag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stract syntax definition via meta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aph transformations as technical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cs definition via dynamic meta mod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media applications (OMM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gent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Consistency within UM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352B-080B-4E27-9DD3-D9D49E0139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28480" y="1598760"/>
            <a:ext cx="100080" cy="461880"/>
            <a:chOff x="528480" y="1598760"/>
            <a:chExt cx="100080" cy="4618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528480" y="1598760"/>
              <a:ext cx="1000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 txBox="1"/>
            <p:nvPr/>
          </p:nvSpPr>
          <p:spPr>
            <a:xfrm>
              <a:off x="528480" y="1598760"/>
              <a:ext cx="100080" cy="46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24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69960" y="1636560"/>
            <a:ext cx="384120" cy="223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17520" y="1523880"/>
            <a:ext cx="868320" cy="941400"/>
          </a:xfrm>
          <a:prstGeom prst="ellipse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7600" y="3332160"/>
            <a:ext cx="563760" cy="601560"/>
          </a:xfrm>
          <a:prstGeom prst="flowChartDocumen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440" y="200340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87720" y="3498840"/>
            <a:ext cx="6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20920" y="2654280"/>
            <a:ext cx="539640" cy="48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2880" y="2809800"/>
            <a:ext cx="53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950760" y="2541600"/>
            <a:ext cx="352440" cy="488880"/>
          </a:xfrm>
          <a:custGeom>
            <a:avLst/>
            <a:gdLst>
              <a:gd name="textAreaLeft" fmla="*/ 0 w 352440"/>
              <a:gd name="textAreaRight" fmla="*/ 352800 w 352440"/>
              <a:gd name="textAreaTop" fmla="*/ 360 h 488880"/>
              <a:gd name="textAreaBottom" fmla="*/ 489600 h 48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8760" y="2705040"/>
            <a:ext cx="66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nalyse and 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773360" y="3218040"/>
            <a:ext cx="350640" cy="490320"/>
          </a:xfrm>
          <a:custGeom>
            <a:avLst/>
            <a:gdLst>
              <a:gd name="textAreaLeft" fmla="*/ 0 w 350640"/>
              <a:gd name="textAreaRight" fmla="*/ 351000 w 350640"/>
              <a:gd name="textAreaTop" fmla="*/ 360 h 490320"/>
              <a:gd name="textAreaBottom" fmla="*/ 491040 h 490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00040" y="3498840"/>
            <a:ext cx="57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0400" y="2340000"/>
            <a:ext cx="1447920" cy="83808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5235480"/>
            <a:ext cx="1752840" cy="990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24922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038480" y="3254400"/>
            <a:ext cx="914400" cy="1143000"/>
            <a:chOff x="4038480" y="3254400"/>
            <a:chExt cx="914400" cy="1143000"/>
          </a:xfrm>
        </p:grpSpPr>
        <p:sp>
          <p:nvSpPr>
            <p:cNvPr id="290" name=""/>
            <p:cNvSpPr/>
            <p:nvPr/>
          </p:nvSpPr>
          <p:spPr>
            <a:xfrm>
              <a:off x="4038480" y="3863880"/>
              <a:ext cx="914400" cy="533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4800" y="3254400"/>
              <a:ext cx="38088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14800" y="3940200"/>
              <a:ext cx="838080" cy="3373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view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72000" y="3102120"/>
            <a:ext cx="1828800" cy="1307520"/>
            <a:chOff x="4572000" y="3102120"/>
            <a:chExt cx="1828800" cy="1307520"/>
          </a:xfrm>
        </p:grpSpPr>
        <p:sp>
          <p:nvSpPr>
            <p:cNvPr id="294" name=""/>
            <p:cNvSpPr/>
            <p:nvPr/>
          </p:nvSpPr>
          <p:spPr>
            <a:xfrm>
              <a:off x="5486400" y="3876480"/>
              <a:ext cx="914400" cy="53316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3102120"/>
              <a:ext cx="12952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62720" y="39909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view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724280" y="2873520"/>
            <a:ext cx="3048120" cy="1523520"/>
            <a:chOff x="4724280" y="2873520"/>
            <a:chExt cx="3048120" cy="1523520"/>
          </a:xfrm>
        </p:grpSpPr>
        <p:sp>
          <p:nvSpPr>
            <p:cNvPr id="298" name=""/>
            <p:cNvSpPr/>
            <p:nvPr/>
          </p:nvSpPr>
          <p:spPr>
            <a:xfrm>
              <a:off x="6858000" y="3863880"/>
              <a:ext cx="914400" cy="533160"/>
            </a:xfrm>
            <a:prstGeom prst="rect">
              <a:avLst/>
            </a:prstGeom>
            <a:solidFill>
              <a:srgbClr val="996633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280" y="2873520"/>
              <a:ext cx="243864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34320" y="39402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view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724280" y="2644920"/>
            <a:ext cx="4356360" cy="1752120"/>
            <a:chOff x="4724280" y="2644920"/>
            <a:chExt cx="4356360" cy="1752120"/>
          </a:xfrm>
        </p:grpSpPr>
        <p:sp>
          <p:nvSpPr>
            <p:cNvPr id="302" name=""/>
            <p:cNvSpPr/>
            <p:nvPr/>
          </p:nvSpPr>
          <p:spPr>
            <a:xfrm>
              <a:off x="8153280" y="3863880"/>
              <a:ext cx="914400" cy="5331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24280" y="2644920"/>
              <a:ext cx="3886200" cy="114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42200" y="39528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view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467480" y="5616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3880" y="4473720"/>
            <a:ext cx="6934320" cy="1675440"/>
            <a:chOff x="1523880" y="4473720"/>
            <a:chExt cx="6934320" cy="1675440"/>
          </a:xfrm>
        </p:grpSpPr>
        <p:grpSp>
          <p:nvGrpSpPr>
            <p:cNvPr id="307" name=""/>
            <p:cNvGrpSpPr/>
            <p:nvPr/>
          </p:nvGrpSpPr>
          <p:grpSpPr>
            <a:xfrm>
              <a:off x="5753160" y="5311800"/>
              <a:ext cx="1523880" cy="837360"/>
              <a:chOff x="5753160" y="5311800"/>
              <a:chExt cx="1523880" cy="837360"/>
            </a:xfrm>
          </p:grpSpPr>
          <p:sp>
            <p:nvSpPr>
              <p:cNvPr id="308" name=""/>
              <p:cNvSpPr/>
              <p:nvPr/>
            </p:nvSpPr>
            <p:spPr>
              <a:xfrm>
                <a:off x="5753160" y="5311800"/>
                <a:ext cx="914400" cy="532800"/>
              </a:xfrm>
              <a:prstGeom prst="rect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62640" y="5311800"/>
                <a:ext cx="914400" cy="532800"/>
              </a:xfrm>
              <a:prstGeom prst="rect">
                <a:avLst/>
              </a:prstGeom>
              <a:noFill/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53160" y="5616000"/>
                <a:ext cx="914400" cy="53316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62640" y="5616000"/>
                <a:ext cx="914400" cy="533160"/>
              </a:xfrm>
              <a:prstGeom prst="rect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724280" y="4473720"/>
              <a:ext cx="129564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5880" y="4473720"/>
              <a:ext cx="2286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705360" y="447372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086600" y="4473720"/>
              <a:ext cx="13716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23880" y="4701960"/>
              <a:ext cx="4114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Arial"/>
                </a:rPr>
                <a:t>consistent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gration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tructural and behavioral vie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DEE5-A4E7-435B-9183-31FCF74951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ur Research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1320" y="1341360"/>
            <a:ext cx="838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nguag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stract syntax definition via meta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aph transformations as technical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cs definition via dynamic meta mod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media applications (OMM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gent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istency within UM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Requirement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video-based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4500C-9ED9-4F7B-9023-4F27A7CE4B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681520" y="1484280"/>
            <a:ext cx="3024360" cy="5113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deo-based Mode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30360" y="1854360"/>
            <a:ext cx="2819160" cy="1904760"/>
            <a:chOff x="630360" y="1854360"/>
            <a:chExt cx="2819160" cy="190476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1315800" y="2006280"/>
              <a:ext cx="4186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1773000" y="2082600"/>
              <a:ext cx="124740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1849320" y="2616120"/>
              <a:ext cx="1020240" cy="6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30360" y="1854360"/>
              <a:ext cx="2819160" cy="1904760"/>
            </a:xfrm>
            <a:prstGeom prst="ellipse">
              <a:avLst/>
            </a:prstGeom>
            <a:noFill/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63520" y="3225600"/>
              <a:ext cx="21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eal wor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421320" y="5283360"/>
            <a:ext cx="1752480" cy="990360"/>
            <a:chOff x="6421320" y="5283360"/>
            <a:chExt cx="1752480" cy="990360"/>
          </a:xfrm>
        </p:grpSpPr>
        <p:sp>
          <p:nvSpPr>
            <p:cNvPr id="329" name=""/>
            <p:cNvSpPr/>
            <p:nvPr/>
          </p:nvSpPr>
          <p:spPr>
            <a:xfrm>
              <a:off x="6421320" y="5283360"/>
              <a:ext cx="1752480" cy="99036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92760" y="5397120"/>
              <a:ext cx="110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UML)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916360" y="3421440"/>
            <a:ext cx="2774520" cy="1771560"/>
            <a:chOff x="2916360" y="3421440"/>
            <a:chExt cx="2774520" cy="1771560"/>
          </a:xfrm>
        </p:grpSpPr>
        <p:sp>
          <p:nvSpPr>
            <p:cNvPr id="332" name=""/>
            <p:cNvSpPr/>
            <p:nvPr/>
          </p:nvSpPr>
          <p:spPr>
            <a:xfrm>
              <a:off x="2916360" y="44071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953600">
              <a:off x="3373560" y="4002120"/>
              <a:ext cx="2336760" cy="609840"/>
            </a:xfrm>
            <a:prstGeom prst="rightArrow">
              <a:avLst>
                <a:gd name="adj1" fmla="val 50000"/>
                <a:gd name="adj2" fmla="val 95794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538440" y="1701720"/>
            <a:ext cx="5067360" cy="1981080"/>
            <a:chOff x="3538440" y="1701720"/>
            <a:chExt cx="5067360" cy="1981080"/>
          </a:xfrm>
        </p:grpSpPr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4211640" y="1701720"/>
              <a:ext cx="73476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6" name=""/>
            <p:cNvGrpSpPr/>
            <p:nvPr/>
          </p:nvGrpSpPr>
          <p:grpSpPr>
            <a:xfrm>
              <a:off x="5786280" y="1777680"/>
              <a:ext cx="2819520" cy="1905120"/>
              <a:chOff x="5786280" y="1777680"/>
              <a:chExt cx="2819520" cy="1905120"/>
            </a:xfrm>
          </p:grpSpPr>
          <p:pic>
            <p:nvPicPr>
              <p:cNvPr id="3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1320" y="1930320"/>
                <a:ext cx="419040" cy="12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78520" y="2006280"/>
                <a:ext cx="1247760" cy="45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54840" y="2539800"/>
                <a:ext cx="1020600" cy="60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5786280" y="1777680"/>
                <a:ext cx="2819520" cy="1905120"/>
              </a:xfrm>
              <a:prstGeom prst="ellipse">
                <a:avLst/>
              </a:prstGeom>
              <a:noFill/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21320" y="3187440"/>
                <a:ext cx="213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virtual wor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3538440" y="2844720"/>
              <a:ext cx="2044800" cy="304560"/>
            </a:xfrm>
            <a:prstGeom prst="rightArrow">
              <a:avLst>
                <a:gd name="adj1" fmla="val 50000"/>
                <a:gd name="adj2" fmla="val 167849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107120" y="3835440"/>
            <a:ext cx="1981080" cy="1219320"/>
            <a:chOff x="7107120" y="3835440"/>
            <a:chExt cx="1981080" cy="1219320"/>
          </a:xfrm>
        </p:grpSpPr>
        <p:sp>
          <p:nvSpPr>
            <p:cNvPr id="344" name=""/>
            <p:cNvSpPr/>
            <p:nvPr/>
          </p:nvSpPr>
          <p:spPr>
            <a:xfrm>
              <a:off x="7107120" y="3835440"/>
              <a:ext cx="380880" cy="1219320"/>
            </a:xfrm>
            <a:prstGeom prst="downArrow">
              <a:avLst>
                <a:gd name="adj1" fmla="val 50000"/>
                <a:gd name="adj2" fmla="val 80033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88000" y="4178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192360" y="2120400"/>
            <a:ext cx="2113560" cy="3687840"/>
            <a:chOff x="6192360" y="2120400"/>
            <a:chExt cx="2113560" cy="3687840"/>
          </a:xfrm>
        </p:grpSpPr>
        <p:cxnSp>
          <p:nvCxnSpPr>
            <p:cNvPr id="347" name=""/>
            <p:cNvCxnSpPr>
              <a:stCxn id="330" idx="1"/>
              <a:endCxn id="341" idx="1"/>
            </p:cNvCxnSpPr>
            <p:nvPr/>
          </p:nvCxnSpPr>
          <p:spPr>
            <a:xfrm rot="10800000">
              <a:off x="6420600" y="3371040"/>
              <a:ext cx="272160" cy="2437560"/>
            </a:xfrm>
            <a:prstGeom prst="curvedConnector5">
              <a:avLst>
                <a:gd name="adj1" fmla="val 184105"/>
                <a:gd name="adj2" fmla="val 50000"/>
                <a:gd name="adj3" fmla="val 184105"/>
              </a:avLst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48" name=""/>
            <p:cNvGrpSpPr/>
            <p:nvPr/>
          </p:nvGrpSpPr>
          <p:grpSpPr>
            <a:xfrm>
              <a:off x="7802280" y="2120400"/>
              <a:ext cx="503640" cy="3687840"/>
              <a:chOff x="7802280" y="2120400"/>
              <a:chExt cx="503640" cy="3687840"/>
            </a:xfrm>
          </p:grpSpPr>
          <p:sp>
            <p:nvSpPr>
              <p:cNvPr id="349" name=""/>
              <p:cNvSpPr/>
              <p:nvPr/>
            </p:nvSpPr>
            <p:spPr>
              <a:xfrm>
                <a:off x="7837920" y="2120400"/>
                <a:ext cx="23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ff"/>
                    </a:solidFill>
                    <a:latin typeface="Arial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0" name=""/>
              <p:cNvCxnSpPr>
                <a:stCxn id="330" idx="3"/>
                <a:endCxn id="349" idx="3"/>
              </p:cNvCxnSpPr>
              <p:nvPr/>
            </p:nvCxnSpPr>
            <p:spPr>
              <a:xfrm flipV="1">
                <a:off x="7802280" y="2288520"/>
                <a:ext cx="275400" cy="3520080"/>
              </a:xfrm>
              <a:prstGeom prst="curvedConnector5">
                <a:avLst>
                  <a:gd name="adj1" fmla="val 183115"/>
                  <a:gd name="adj2" fmla="val 49994"/>
                  <a:gd name="adj3" fmla="val 183115"/>
                </a:avLst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51" name=""/>
          <p:cNvSpPr/>
          <p:nvPr/>
        </p:nvSpPr>
        <p:spPr>
          <a:xfrm>
            <a:off x="539640" y="5300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8400" y="5248440"/>
            <a:ext cx="38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ew modeling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arning approa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417A-D6AC-4E18-9D63-1A47D58094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ur Research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1320" y="1341360"/>
            <a:ext cx="838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nguag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stract syntax definition via meta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aph transformations as technical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mantics definition via dynamic meta mod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L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ltimedia applications (OMM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gent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istency within UM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quirement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deo-based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FCA8-9B8C-41AB-A659-E424439FEC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516480" y="2266920"/>
            <a:ext cx="203328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3E685-DCBA-4E40-9969-47B514D47A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3880" y="869040"/>
            <a:ext cx="71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oftware Development: Traditional (?)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496800" cy="144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0" y="1828800"/>
            <a:ext cx="1247760" cy="45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286000" y="2514600"/>
            <a:ext cx="1020600" cy="608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38080" y="1447920"/>
            <a:ext cx="3124440" cy="2209680"/>
          </a:xfrm>
          <a:prstGeom prst="ellipse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952880"/>
            <a:ext cx="1828800" cy="1219320"/>
          </a:xfrm>
          <a:prstGeom prst="flowChartDocumen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11280" y="31496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657600"/>
            <a:ext cx="190512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3581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57BE-CC26-4F52-9235-A4264A6E20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8672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oftware Development: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419400" cy="121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1247760" cy="45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057400" y="2286000"/>
            <a:ext cx="1020600" cy="608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523880"/>
            <a:ext cx="2819520" cy="1905120"/>
          </a:xfrm>
          <a:prstGeom prst="ellipse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5181480"/>
            <a:ext cx="1828800" cy="1219320"/>
          </a:xfrm>
          <a:prstGeom prst="flowChartDocumen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895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541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65640" y="3098880"/>
            <a:ext cx="3738600" cy="1917720"/>
          </a:xfrm>
          <a:custGeom>
            <a:avLst/>
            <a:gdLst/>
            <a:ahLst/>
            <a:rect l="l" t="t" r="r" b="b"/>
            <a:pathLst>
              <a:path w="2355" h="1208">
                <a:moveTo>
                  <a:pt x="0" y="0"/>
                </a:moveTo>
                <a:cubicBezTo>
                  <a:pt x="26" y="39"/>
                  <a:pt x="68" y="65"/>
                  <a:pt x="112" y="80"/>
                </a:cubicBezTo>
                <a:cubicBezTo>
                  <a:pt x="120" y="88"/>
                  <a:pt x="127" y="98"/>
                  <a:pt x="136" y="104"/>
                </a:cubicBezTo>
                <a:cubicBezTo>
                  <a:pt x="143" y="109"/>
                  <a:pt x="153" y="107"/>
                  <a:pt x="160" y="112"/>
                </a:cubicBezTo>
                <a:cubicBezTo>
                  <a:pt x="168" y="118"/>
                  <a:pt x="168" y="131"/>
                  <a:pt x="176" y="136"/>
                </a:cubicBezTo>
                <a:cubicBezTo>
                  <a:pt x="190" y="145"/>
                  <a:pt x="224" y="152"/>
                  <a:pt x="224" y="152"/>
                </a:cubicBezTo>
                <a:cubicBezTo>
                  <a:pt x="250" y="178"/>
                  <a:pt x="308" y="228"/>
                  <a:pt x="344" y="240"/>
                </a:cubicBezTo>
                <a:cubicBezTo>
                  <a:pt x="360" y="245"/>
                  <a:pt x="376" y="251"/>
                  <a:pt x="392" y="256"/>
                </a:cubicBezTo>
                <a:cubicBezTo>
                  <a:pt x="400" y="259"/>
                  <a:pt x="416" y="264"/>
                  <a:pt x="416" y="264"/>
                </a:cubicBezTo>
                <a:cubicBezTo>
                  <a:pt x="512" y="257"/>
                  <a:pt x="565" y="250"/>
                  <a:pt x="640" y="200"/>
                </a:cubicBezTo>
                <a:cubicBezTo>
                  <a:pt x="664" y="184"/>
                  <a:pt x="688" y="168"/>
                  <a:pt x="712" y="152"/>
                </a:cubicBezTo>
                <a:cubicBezTo>
                  <a:pt x="720" y="147"/>
                  <a:pt x="736" y="136"/>
                  <a:pt x="736" y="136"/>
                </a:cubicBezTo>
                <a:cubicBezTo>
                  <a:pt x="760" y="100"/>
                  <a:pt x="769" y="114"/>
                  <a:pt x="800" y="88"/>
                </a:cubicBezTo>
                <a:cubicBezTo>
                  <a:pt x="831" y="62"/>
                  <a:pt x="857" y="37"/>
                  <a:pt x="896" y="24"/>
                </a:cubicBezTo>
                <a:cubicBezTo>
                  <a:pt x="904" y="29"/>
                  <a:pt x="915" y="32"/>
                  <a:pt x="920" y="40"/>
                </a:cubicBezTo>
                <a:cubicBezTo>
                  <a:pt x="929" y="54"/>
                  <a:pt x="936" y="88"/>
                  <a:pt x="936" y="88"/>
                </a:cubicBezTo>
                <a:cubicBezTo>
                  <a:pt x="919" y="188"/>
                  <a:pt x="922" y="291"/>
                  <a:pt x="912" y="392"/>
                </a:cubicBezTo>
                <a:cubicBezTo>
                  <a:pt x="914" y="413"/>
                  <a:pt x="912" y="479"/>
                  <a:pt x="928" y="512"/>
                </a:cubicBezTo>
                <a:cubicBezTo>
                  <a:pt x="962" y="580"/>
                  <a:pt x="1082" y="610"/>
                  <a:pt x="1152" y="624"/>
                </a:cubicBezTo>
                <a:cubicBezTo>
                  <a:pt x="1166" y="622"/>
                  <a:pt x="1219" y="620"/>
                  <a:pt x="1240" y="608"/>
                </a:cubicBezTo>
                <a:cubicBezTo>
                  <a:pt x="1257" y="599"/>
                  <a:pt x="1272" y="587"/>
                  <a:pt x="1288" y="576"/>
                </a:cubicBezTo>
                <a:cubicBezTo>
                  <a:pt x="1296" y="571"/>
                  <a:pt x="1312" y="560"/>
                  <a:pt x="1312" y="560"/>
                </a:cubicBezTo>
                <a:cubicBezTo>
                  <a:pt x="1337" y="522"/>
                  <a:pt x="1325" y="545"/>
                  <a:pt x="1344" y="488"/>
                </a:cubicBezTo>
                <a:cubicBezTo>
                  <a:pt x="1347" y="480"/>
                  <a:pt x="1352" y="464"/>
                  <a:pt x="1352" y="464"/>
                </a:cubicBezTo>
                <a:cubicBezTo>
                  <a:pt x="1342" y="383"/>
                  <a:pt x="1351" y="420"/>
                  <a:pt x="1328" y="352"/>
                </a:cubicBezTo>
                <a:cubicBezTo>
                  <a:pt x="1324" y="341"/>
                  <a:pt x="1268" y="310"/>
                  <a:pt x="1256" y="304"/>
                </a:cubicBezTo>
                <a:cubicBezTo>
                  <a:pt x="1205" y="279"/>
                  <a:pt x="1160" y="254"/>
                  <a:pt x="1104" y="240"/>
                </a:cubicBezTo>
                <a:cubicBezTo>
                  <a:pt x="979" y="249"/>
                  <a:pt x="962" y="255"/>
                  <a:pt x="864" y="304"/>
                </a:cubicBezTo>
                <a:cubicBezTo>
                  <a:pt x="846" y="331"/>
                  <a:pt x="823" y="345"/>
                  <a:pt x="800" y="368"/>
                </a:cubicBezTo>
                <a:cubicBezTo>
                  <a:pt x="781" y="425"/>
                  <a:pt x="793" y="402"/>
                  <a:pt x="768" y="440"/>
                </a:cubicBezTo>
                <a:cubicBezTo>
                  <a:pt x="756" y="499"/>
                  <a:pt x="753" y="588"/>
                  <a:pt x="808" y="624"/>
                </a:cubicBezTo>
                <a:cubicBezTo>
                  <a:pt x="846" y="681"/>
                  <a:pt x="907" y="692"/>
                  <a:pt x="968" y="712"/>
                </a:cubicBezTo>
                <a:cubicBezTo>
                  <a:pt x="994" y="721"/>
                  <a:pt x="1040" y="752"/>
                  <a:pt x="1040" y="752"/>
                </a:cubicBezTo>
                <a:cubicBezTo>
                  <a:pt x="1053" y="792"/>
                  <a:pt x="1071" y="821"/>
                  <a:pt x="1080" y="864"/>
                </a:cubicBezTo>
                <a:cubicBezTo>
                  <a:pt x="1063" y="950"/>
                  <a:pt x="1081" y="852"/>
                  <a:pt x="1064" y="968"/>
                </a:cubicBezTo>
                <a:cubicBezTo>
                  <a:pt x="1059" y="1000"/>
                  <a:pt x="1048" y="1064"/>
                  <a:pt x="1048" y="1064"/>
                </a:cubicBezTo>
                <a:cubicBezTo>
                  <a:pt x="1051" y="1096"/>
                  <a:pt x="1051" y="1128"/>
                  <a:pt x="1056" y="1160"/>
                </a:cubicBezTo>
                <a:cubicBezTo>
                  <a:pt x="1059" y="1177"/>
                  <a:pt x="1072" y="1208"/>
                  <a:pt x="1072" y="1208"/>
                </a:cubicBezTo>
                <a:cubicBezTo>
                  <a:pt x="1136" y="1200"/>
                  <a:pt x="1143" y="1201"/>
                  <a:pt x="1184" y="1160"/>
                </a:cubicBezTo>
                <a:cubicBezTo>
                  <a:pt x="1189" y="1144"/>
                  <a:pt x="1203" y="1129"/>
                  <a:pt x="1200" y="1112"/>
                </a:cubicBezTo>
                <a:cubicBezTo>
                  <a:pt x="1186" y="1028"/>
                  <a:pt x="1163" y="1003"/>
                  <a:pt x="1104" y="944"/>
                </a:cubicBezTo>
                <a:cubicBezTo>
                  <a:pt x="1091" y="931"/>
                  <a:pt x="1071" y="930"/>
                  <a:pt x="1056" y="920"/>
                </a:cubicBezTo>
                <a:cubicBezTo>
                  <a:pt x="997" y="928"/>
                  <a:pt x="993" y="925"/>
                  <a:pt x="976" y="976"/>
                </a:cubicBezTo>
                <a:cubicBezTo>
                  <a:pt x="982" y="1034"/>
                  <a:pt x="969" y="1070"/>
                  <a:pt x="1024" y="1088"/>
                </a:cubicBezTo>
                <a:cubicBezTo>
                  <a:pt x="1097" y="1078"/>
                  <a:pt x="1062" y="1086"/>
                  <a:pt x="1128" y="1064"/>
                </a:cubicBezTo>
                <a:cubicBezTo>
                  <a:pt x="1161" y="1053"/>
                  <a:pt x="1202" y="1006"/>
                  <a:pt x="1224" y="984"/>
                </a:cubicBezTo>
                <a:cubicBezTo>
                  <a:pt x="1278" y="930"/>
                  <a:pt x="1240" y="997"/>
                  <a:pt x="1304" y="912"/>
                </a:cubicBezTo>
                <a:cubicBezTo>
                  <a:pt x="1312" y="901"/>
                  <a:pt x="1319" y="889"/>
                  <a:pt x="1328" y="880"/>
                </a:cubicBezTo>
                <a:cubicBezTo>
                  <a:pt x="1403" y="805"/>
                  <a:pt x="1486" y="740"/>
                  <a:pt x="1576" y="680"/>
                </a:cubicBezTo>
                <a:cubicBezTo>
                  <a:pt x="1611" y="657"/>
                  <a:pt x="1649" y="629"/>
                  <a:pt x="1688" y="616"/>
                </a:cubicBezTo>
                <a:cubicBezTo>
                  <a:pt x="1717" y="587"/>
                  <a:pt x="1749" y="575"/>
                  <a:pt x="1784" y="552"/>
                </a:cubicBezTo>
                <a:cubicBezTo>
                  <a:pt x="1792" y="547"/>
                  <a:pt x="1808" y="536"/>
                  <a:pt x="1808" y="536"/>
                </a:cubicBezTo>
                <a:cubicBezTo>
                  <a:pt x="1843" y="483"/>
                  <a:pt x="1909" y="452"/>
                  <a:pt x="1968" y="432"/>
                </a:cubicBezTo>
                <a:cubicBezTo>
                  <a:pt x="1997" y="422"/>
                  <a:pt x="2021" y="404"/>
                  <a:pt x="2048" y="392"/>
                </a:cubicBezTo>
                <a:cubicBezTo>
                  <a:pt x="2083" y="377"/>
                  <a:pt x="2123" y="371"/>
                  <a:pt x="2160" y="360"/>
                </a:cubicBezTo>
                <a:cubicBezTo>
                  <a:pt x="2197" y="349"/>
                  <a:pt x="2221" y="332"/>
                  <a:pt x="2256" y="320"/>
                </a:cubicBezTo>
                <a:cubicBezTo>
                  <a:pt x="2261" y="312"/>
                  <a:pt x="2264" y="301"/>
                  <a:pt x="2272" y="296"/>
                </a:cubicBezTo>
                <a:cubicBezTo>
                  <a:pt x="2296" y="281"/>
                  <a:pt x="2329" y="287"/>
                  <a:pt x="2352" y="272"/>
                </a:cubicBezTo>
                <a:cubicBezTo>
                  <a:pt x="2355" y="270"/>
                  <a:pt x="2347" y="267"/>
                  <a:pt x="2344" y="264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072200" y="3022560"/>
            <a:ext cx="1995480" cy="1093680"/>
            <a:chOff x="7072200" y="3022560"/>
            <a:chExt cx="1995480" cy="1093680"/>
          </a:xfrm>
        </p:grpSpPr>
        <p:sp>
          <p:nvSpPr>
            <p:cNvPr id="123" name=""/>
            <p:cNvSpPr/>
            <p:nvPr/>
          </p:nvSpPr>
          <p:spPr>
            <a:xfrm>
              <a:off x="7072200" y="3022560"/>
              <a:ext cx="1677960" cy="1093680"/>
            </a:xfrm>
            <a:custGeom>
              <a:avLst/>
              <a:gdLst/>
              <a:ahLst/>
              <a:rect l="l" t="t" r="r" b="b"/>
              <a:pathLst>
                <a:path w="1057" h="689">
                  <a:moveTo>
                    <a:pt x="17" y="40"/>
                  </a:moveTo>
                  <a:cubicBezTo>
                    <a:pt x="37" y="100"/>
                    <a:pt x="8" y="28"/>
                    <a:pt x="49" y="80"/>
                  </a:cubicBezTo>
                  <a:cubicBezTo>
                    <a:pt x="69" y="105"/>
                    <a:pt x="69" y="173"/>
                    <a:pt x="73" y="200"/>
                  </a:cubicBezTo>
                  <a:cubicBezTo>
                    <a:pt x="55" y="307"/>
                    <a:pt x="65" y="265"/>
                    <a:pt x="49" y="328"/>
                  </a:cubicBezTo>
                  <a:cubicBezTo>
                    <a:pt x="68" y="385"/>
                    <a:pt x="56" y="362"/>
                    <a:pt x="81" y="400"/>
                  </a:cubicBezTo>
                  <a:cubicBezTo>
                    <a:pt x="80" y="404"/>
                    <a:pt x="70" y="449"/>
                    <a:pt x="65" y="456"/>
                  </a:cubicBezTo>
                  <a:cubicBezTo>
                    <a:pt x="40" y="494"/>
                    <a:pt x="42" y="465"/>
                    <a:pt x="25" y="504"/>
                  </a:cubicBezTo>
                  <a:cubicBezTo>
                    <a:pt x="18" y="519"/>
                    <a:pt x="14" y="536"/>
                    <a:pt x="9" y="552"/>
                  </a:cubicBezTo>
                  <a:cubicBezTo>
                    <a:pt x="6" y="560"/>
                    <a:pt x="1" y="576"/>
                    <a:pt x="1" y="576"/>
                  </a:cubicBezTo>
                  <a:cubicBezTo>
                    <a:pt x="4" y="597"/>
                    <a:pt x="0" y="620"/>
                    <a:pt x="9" y="640"/>
                  </a:cubicBezTo>
                  <a:cubicBezTo>
                    <a:pt x="12" y="648"/>
                    <a:pt x="26" y="643"/>
                    <a:pt x="33" y="648"/>
                  </a:cubicBezTo>
                  <a:cubicBezTo>
                    <a:pt x="85" y="689"/>
                    <a:pt x="13" y="660"/>
                    <a:pt x="73" y="680"/>
                  </a:cubicBezTo>
                  <a:cubicBezTo>
                    <a:pt x="143" y="671"/>
                    <a:pt x="212" y="657"/>
                    <a:pt x="281" y="640"/>
                  </a:cubicBezTo>
                  <a:cubicBezTo>
                    <a:pt x="320" y="614"/>
                    <a:pt x="357" y="583"/>
                    <a:pt x="401" y="568"/>
                  </a:cubicBezTo>
                  <a:cubicBezTo>
                    <a:pt x="429" y="540"/>
                    <a:pt x="461" y="520"/>
                    <a:pt x="497" y="504"/>
                  </a:cubicBezTo>
                  <a:cubicBezTo>
                    <a:pt x="512" y="497"/>
                    <a:pt x="545" y="488"/>
                    <a:pt x="545" y="488"/>
                  </a:cubicBezTo>
                  <a:cubicBezTo>
                    <a:pt x="604" y="517"/>
                    <a:pt x="659" y="562"/>
                    <a:pt x="721" y="584"/>
                  </a:cubicBezTo>
                  <a:cubicBezTo>
                    <a:pt x="783" y="607"/>
                    <a:pt x="848" y="611"/>
                    <a:pt x="913" y="616"/>
                  </a:cubicBezTo>
                  <a:cubicBezTo>
                    <a:pt x="1057" y="580"/>
                    <a:pt x="1002" y="326"/>
                    <a:pt x="929" y="216"/>
                  </a:cubicBezTo>
                  <a:cubicBezTo>
                    <a:pt x="943" y="175"/>
                    <a:pt x="953" y="138"/>
                    <a:pt x="961" y="96"/>
                  </a:cubicBezTo>
                  <a:cubicBezTo>
                    <a:pt x="958" y="75"/>
                    <a:pt x="969" y="46"/>
                    <a:pt x="953" y="32"/>
                  </a:cubicBezTo>
                  <a:cubicBezTo>
                    <a:pt x="932" y="13"/>
                    <a:pt x="807" y="31"/>
                    <a:pt x="793" y="32"/>
                  </a:cubicBezTo>
                  <a:cubicBezTo>
                    <a:pt x="750" y="46"/>
                    <a:pt x="707" y="58"/>
                    <a:pt x="665" y="72"/>
                  </a:cubicBezTo>
                  <a:cubicBezTo>
                    <a:pt x="618" y="63"/>
                    <a:pt x="587" y="37"/>
                    <a:pt x="545" y="16"/>
                  </a:cubicBezTo>
                  <a:cubicBezTo>
                    <a:pt x="520" y="4"/>
                    <a:pt x="479" y="3"/>
                    <a:pt x="457" y="0"/>
                  </a:cubicBezTo>
                  <a:cubicBezTo>
                    <a:pt x="425" y="3"/>
                    <a:pt x="335" y="9"/>
                    <a:pt x="297" y="16"/>
                  </a:cubicBezTo>
                  <a:cubicBezTo>
                    <a:pt x="204" y="33"/>
                    <a:pt x="110" y="87"/>
                    <a:pt x="17" y="40"/>
                  </a:cubicBezTo>
                  <a:close/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62920" y="32004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800" spc="-1" strike="noStrike">
                  <a:solidFill>
                    <a:srgbClr val="000000"/>
                  </a:solidFill>
                  <a:latin typeface="Windsor"/>
                </a:rPr>
                <a:t>„</a:t>
              </a:r>
              <a:r>
                <a:rPr b="1" i="1" lang="de-DE" sz="1800" spc="-1" strike="noStrike">
                  <a:solidFill>
                    <a:srgbClr val="000000"/>
                  </a:solidFill>
                  <a:latin typeface="Windsor"/>
                </a:rPr>
                <a:t>program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535BE-0EA9-4A72-B33D-DD7636E6F8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oftware Development: Model-bas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03320" y="1676520"/>
            <a:ext cx="419040" cy="1218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60520" y="1752480"/>
            <a:ext cx="1247760" cy="45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36840" y="2286000"/>
            <a:ext cx="1020600" cy="608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17520" y="1523880"/>
            <a:ext cx="2819520" cy="1905120"/>
          </a:xfrm>
          <a:prstGeom prst="ellipse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89720" y="5181480"/>
            <a:ext cx="1828800" cy="1219320"/>
          </a:xfrm>
          <a:prstGeom prst="flowChartDocumen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1040" y="2895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1832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98800" y="3809880"/>
            <a:ext cx="1981080" cy="990720"/>
            <a:chOff x="3898800" y="3809880"/>
            <a:chExt cx="1981080" cy="990720"/>
          </a:xfrm>
        </p:grpSpPr>
        <p:sp>
          <p:nvSpPr>
            <p:cNvPr id="135" name=""/>
            <p:cNvSpPr/>
            <p:nvPr/>
          </p:nvSpPr>
          <p:spPr>
            <a:xfrm>
              <a:off x="3898800" y="3809880"/>
              <a:ext cx="1752480" cy="99072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79680" y="4038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155600" y="3581280"/>
            <a:ext cx="2362320" cy="1328400"/>
            <a:chOff x="1155600" y="3581280"/>
            <a:chExt cx="2362320" cy="1328400"/>
          </a:xfrm>
        </p:grpSpPr>
        <p:sp>
          <p:nvSpPr>
            <p:cNvPr id="138" name=""/>
            <p:cNvSpPr/>
            <p:nvPr/>
          </p:nvSpPr>
          <p:spPr>
            <a:xfrm flipV="1">
              <a:off x="2374920" y="3581280"/>
              <a:ext cx="1143000" cy="990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360 h 990720"/>
                <a:gd name="textAreaBottom" fmla="*/ 9914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55600" y="42670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nalyse and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203720" y="4952880"/>
            <a:ext cx="1980720" cy="990720"/>
            <a:chOff x="4203720" y="4952880"/>
            <a:chExt cx="1980720" cy="990720"/>
          </a:xfrm>
        </p:grpSpPr>
        <p:sp>
          <p:nvSpPr>
            <p:cNvPr id="141" name=""/>
            <p:cNvSpPr/>
            <p:nvPr/>
          </p:nvSpPr>
          <p:spPr>
            <a:xfrm flipV="1">
              <a:off x="5041800" y="4952880"/>
              <a:ext cx="1142640" cy="990720"/>
            </a:xfrm>
            <a:custGeom>
              <a:avLst/>
              <a:gdLst>
                <a:gd name="textAreaLeft" fmla="*/ 0 w 1142640"/>
                <a:gd name="textAreaRight" fmla="*/ 1142640 w 1142640"/>
                <a:gd name="textAreaTop" fmla="*/ 360 h 990720"/>
                <a:gd name="textAreaBottom" fmla="*/ 9914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365640" y="2590920"/>
            <a:ext cx="3047400" cy="914400"/>
            <a:chOff x="3365640" y="2590920"/>
            <a:chExt cx="3047400" cy="914400"/>
          </a:xfrm>
        </p:grpSpPr>
        <p:sp>
          <p:nvSpPr>
            <p:cNvPr id="144" name=""/>
            <p:cNvSpPr/>
            <p:nvPr/>
          </p:nvSpPr>
          <p:spPr>
            <a:xfrm>
              <a:off x="3850560" y="2590920"/>
              <a:ext cx="256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bstracts from irrelevant deta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65640" y="2819520"/>
              <a:ext cx="11080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27600" y="4038480"/>
            <a:ext cx="3416040" cy="914400"/>
            <a:chOff x="5727600" y="4038480"/>
            <a:chExt cx="3416040" cy="914400"/>
          </a:xfrm>
        </p:grpSpPr>
        <p:sp>
          <p:nvSpPr>
            <p:cNvPr id="147" name=""/>
            <p:cNvSpPr/>
            <p:nvPr/>
          </p:nvSpPr>
          <p:spPr>
            <a:xfrm>
              <a:off x="5727600" y="4191120"/>
              <a:ext cx="121896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4480" y="40384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bstracts from implementation detai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D50C-7457-43ED-9D90-EA4B401A81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869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oftware Development: Model-bas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17520" y="1523880"/>
            <a:ext cx="4213080" cy="4784760"/>
            <a:chOff x="317520" y="1523880"/>
            <a:chExt cx="4213080" cy="4784760"/>
          </a:xfrm>
        </p:grpSpPr>
        <p:grpSp>
          <p:nvGrpSpPr>
            <p:cNvPr id="152" name=""/>
            <p:cNvGrpSpPr/>
            <p:nvPr/>
          </p:nvGrpSpPr>
          <p:grpSpPr>
            <a:xfrm>
              <a:off x="669960" y="1673280"/>
              <a:ext cx="216000" cy="1197000"/>
              <a:chOff x="669960" y="1673280"/>
              <a:chExt cx="216000" cy="119700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69960" y="1673280"/>
                <a:ext cx="216000" cy="119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 txBox="1"/>
              <p:nvPr/>
            </p:nvSpPr>
            <p:spPr>
              <a:xfrm>
                <a:off x="669960" y="1673280"/>
                <a:ext cx="216000" cy="119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buClr>
                    <a:srgbClr val="00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905040" y="1747800"/>
              <a:ext cx="6411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944640" y="2271600"/>
              <a:ext cx="523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17520" y="1523880"/>
              <a:ext cx="1447920" cy="1868760"/>
            </a:xfrm>
            <a:prstGeom prst="ellipse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87680" y="5113440"/>
              <a:ext cx="939960" cy="1195200"/>
            </a:xfrm>
            <a:prstGeom prst="flowChartDocumen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0360" y="2806560"/>
              <a:ext cx="109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roblem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360" y="544500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57480" y="3767040"/>
              <a:ext cx="900000" cy="97164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95640" y="407664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74840" y="3543480"/>
              <a:ext cx="587160" cy="9712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360 h 971280"/>
                <a:gd name="textAreaBottom" fmla="*/ 972000 h 9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9640" y="3933720"/>
              <a:ext cx="944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nalyse and desig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744640" y="4887360"/>
              <a:ext cx="587520" cy="97308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-360 h 973080"/>
                <a:gd name="textAreaBottom" fmla="*/ 97308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24000" y="5445000"/>
              <a:ext cx="74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081240" y="3720960"/>
            <a:ext cx="5973840" cy="885960"/>
            <a:chOff x="3081240" y="3720960"/>
            <a:chExt cx="5973840" cy="885960"/>
          </a:xfrm>
        </p:grpSpPr>
        <p:sp>
          <p:nvSpPr>
            <p:cNvPr id="168" name=""/>
            <p:cNvSpPr/>
            <p:nvPr/>
          </p:nvSpPr>
          <p:spPr>
            <a:xfrm>
              <a:off x="5724360" y="3720960"/>
              <a:ext cx="3330720" cy="8859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2000" y="3957480"/>
              <a:ext cx="26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model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81240" y="4221000"/>
              <a:ext cx="26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80000" y="3789360"/>
              <a:ext cx="140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fined b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427640" y="5221440"/>
            <a:ext cx="4622760" cy="893520"/>
            <a:chOff x="4427640" y="5221440"/>
            <a:chExt cx="4622760" cy="893520"/>
          </a:xfrm>
        </p:grpSpPr>
        <p:sp>
          <p:nvSpPr>
            <p:cNvPr id="173" name=""/>
            <p:cNvSpPr/>
            <p:nvPr/>
          </p:nvSpPr>
          <p:spPr>
            <a:xfrm>
              <a:off x="4427640" y="5661000"/>
              <a:ext cx="129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00720" y="5221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ded b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9680" y="5229360"/>
              <a:ext cx="3330720" cy="8856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26240" y="5326200"/>
              <a:ext cx="296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rogramm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9ED6-B8E3-4A2A-B151-FD2CDF0348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quirements for a Model and the Modeling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024360" y="1523880"/>
            <a:ext cx="2603160" cy="1828800"/>
            <a:chOff x="3024360" y="1523880"/>
            <a:chExt cx="2603160" cy="18288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3406680" y="1584360"/>
              <a:ext cx="1508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3571920" y="1612800"/>
              <a:ext cx="45072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600360" y="1824120"/>
              <a:ext cx="36684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59000" y="1523880"/>
              <a:ext cx="1017720" cy="749520"/>
            </a:xfrm>
            <a:prstGeom prst="ellipse">
              <a:avLst/>
            </a:prstGeom>
            <a:noFill/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3960" y="2873520"/>
              <a:ext cx="658800" cy="479160"/>
            </a:xfrm>
            <a:prstGeom prst="flowChartDocumen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82840" y="2016000"/>
              <a:ext cx="102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roblem doma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15080" y="3000240"/>
              <a:ext cx="71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71960" y="2403360"/>
              <a:ext cx="631800" cy="38916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6240" y="2475000"/>
              <a:ext cx="68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25920" y="2332800"/>
              <a:ext cx="412560" cy="3891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-360 h 389160"/>
                <a:gd name="textAreaBottom" fmla="*/ 389160 h 38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24360" y="2508120"/>
              <a:ext cx="84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analyse and desig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368960" y="2843280"/>
              <a:ext cx="412560" cy="3888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360 h 388800"/>
                <a:gd name="textAreaBottom" fmla="*/ 389520 h 38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7040" y="3000240"/>
              <a:ext cx="78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0" y="3559320"/>
            <a:ext cx="3305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quirements for 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ser-friend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erstan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ressive, adeq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4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rrect, precise, analys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16480" y="3571920"/>
            <a:ext cx="5682960" cy="457200"/>
            <a:chOff x="3516480" y="3571920"/>
            <a:chExt cx="5682960" cy="457200"/>
          </a:xfrm>
        </p:grpSpPr>
        <p:sp>
          <p:nvSpPr>
            <p:cNvPr id="194" name=""/>
            <p:cNvSpPr/>
            <p:nvPr/>
          </p:nvSpPr>
          <p:spPr>
            <a:xfrm>
              <a:off x="4064040" y="3571920"/>
              <a:ext cx="5135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Requirements for a Model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16480" y="3648240"/>
              <a:ext cx="563400" cy="304560"/>
            </a:xfrm>
            <a:custGeom>
              <a:avLst/>
              <a:gdLst>
                <a:gd name="textAreaLeft" fmla="*/ 70200 w 563400"/>
                <a:gd name="textAreaRight" fmla="*/ 493200 w 56340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502080" y="4140360"/>
            <a:ext cx="5486040" cy="457200"/>
            <a:chOff x="3502080" y="4140360"/>
            <a:chExt cx="5486040" cy="457200"/>
          </a:xfrm>
        </p:grpSpPr>
        <p:sp>
          <p:nvSpPr>
            <p:cNvPr id="197" name=""/>
            <p:cNvSpPr/>
            <p:nvPr/>
          </p:nvSpPr>
          <p:spPr>
            <a:xfrm>
              <a:off x="4134960" y="4140360"/>
              <a:ext cx="485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00"/>
                  </a:solidFill>
                  <a:latin typeface="Arial"/>
                </a:rPr>
                <a:t>visual, diagram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02080" y="4203720"/>
              <a:ext cx="562680" cy="304920"/>
            </a:xfrm>
            <a:custGeom>
              <a:avLst/>
              <a:gdLst>
                <a:gd name="textAreaLeft" fmla="*/ 70200 w 562680"/>
                <a:gd name="textAreaRight" fmla="*/ 492480 w 5626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470400" y="4689360"/>
            <a:ext cx="5532120" cy="457200"/>
            <a:chOff x="3470400" y="4689360"/>
            <a:chExt cx="5532120" cy="457200"/>
          </a:xfrm>
        </p:grpSpPr>
        <p:sp>
          <p:nvSpPr>
            <p:cNvPr id="200" name=""/>
            <p:cNvSpPr/>
            <p:nvPr/>
          </p:nvSpPr>
          <p:spPr>
            <a:xfrm>
              <a:off x="3470400" y="4740120"/>
              <a:ext cx="562680" cy="304560"/>
            </a:xfrm>
            <a:custGeom>
              <a:avLst/>
              <a:gdLst>
                <a:gd name="textAreaLeft" fmla="*/ 70200 w 562680"/>
                <a:gd name="textAreaRight" fmla="*/ 492480 w 5626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50080" y="4689360"/>
              <a:ext cx="4852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00"/>
                  </a:solidFill>
                  <a:latin typeface="Arial"/>
                </a:rPr>
                <a:t>structure &amp; behavi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430440" y="6265800"/>
            <a:ext cx="5555880" cy="457200"/>
            <a:chOff x="3430440" y="6265800"/>
            <a:chExt cx="5555880" cy="457200"/>
          </a:xfrm>
        </p:grpSpPr>
        <p:sp>
          <p:nvSpPr>
            <p:cNvPr id="203" name=""/>
            <p:cNvSpPr/>
            <p:nvPr/>
          </p:nvSpPr>
          <p:spPr>
            <a:xfrm>
              <a:off x="3430440" y="6303600"/>
              <a:ext cx="562680" cy="304920"/>
            </a:xfrm>
            <a:custGeom>
              <a:avLst/>
              <a:gdLst>
                <a:gd name="textAreaLeft" fmla="*/ 70200 w 562680"/>
                <a:gd name="textAreaRight" fmla="*/ 492480 w 5626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33520" y="6265800"/>
              <a:ext cx="4852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00"/>
                  </a:solidFill>
                  <a:latin typeface="Arial"/>
                </a:rPr>
                <a:t>syntax &amp; semant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35480" y="5362560"/>
            <a:ext cx="5555880" cy="457200"/>
            <a:chOff x="3435480" y="5362560"/>
            <a:chExt cx="5555880" cy="457200"/>
          </a:xfrm>
        </p:grpSpPr>
        <p:sp>
          <p:nvSpPr>
            <p:cNvPr id="206" name=""/>
            <p:cNvSpPr/>
            <p:nvPr/>
          </p:nvSpPr>
          <p:spPr>
            <a:xfrm>
              <a:off x="3435480" y="5400360"/>
              <a:ext cx="562680" cy="304920"/>
            </a:xfrm>
            <a:custGeom>
              <a:avLst/>
              <a:gdLst>
                <a:gd name="textAreaLeft" fmla="*/ 70200 w 562680"/>
                <a:gd name="textAreaRight" fmla="*/ 492480 w 5626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38560" y="5362560"/>
              <a:ext cx="4852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00"/>
                  </a:solidFill>
                  <a:latin typeface="Arial"/>
                </a:rPr>
                <a:t>problem domain-speci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8F44-D58C-46BD-9589-4F2B9B581A70}" type="slidenum">
              <a:t>6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 Engine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39640" y="2924280"/>
            <a:ext cx="9178920" cy="1584360"/>
            <a:chOff x="539640" y="2924280"/>
            <a:chExt cx="9178920" cy="1584360"/>
          </a:xfrm>
        </p:grpSpPr>
        <p:sp>
          <p:nvSpPr>
            <p:cNvPr id="210" name=""/>
            <p:cNvSpPr/>
            <p:nvPr/>
          </p:nvSpPr>
          <p:spPr>
            <a:xfrm>
              <a:off x="539640" y="2924280"/>
              <a:ext cx="6985080" cy="1584360"/>
            </a:xfrm>
            <a:prstGeom prst="ellipse">
              <a:avLst/>
            </a:prstGeom>
            <a:solidFill>
              <a:srgbClr val="ff6600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3241800"/>
              <a:ext cx="21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d-user 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1280" y="4724280"/>
            <a:ext cx="8713800" cy="1696320"/>
            <a:chOff x="611280" y="4724280"/>
            <a:chExt cx="8713800" cy="1696320"/>
          </a:xfrm>
        </p:grpSpPr>
        <p:sp>
          <p:nvSpPr>
            <p:cNvPr id="213" name=""/>
            <p:cNvSpPr/>
            <p:nvPr/>
          </p:nvSpPr>
          <p:spPr>
            <a:xfrm>
              <a:off x="611280" y="4724280"/>
              <a:ext cx="6985080" cy="158436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66200" y="5229360"/>
              <a:ext cx="1658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nguage definition 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946080" y="5048280"/>
            <a:ext cx="5804280" cy="825480"/>
            <a:chOff x="946080" y="5048280"/>
            <a:chExt cx="5804280" cy="825480"/>
          </a:xfrm>
        </p:grpSpPr>
        <p:sp>
          <p:nvSpPr>
            <p:cNvPr id="216" name=""/>
            <p:cNvSpPr/>
            <p:nvPr/>
          </p:nvSpPr>
          <p:spPr>
            <a:xfrm>
              <a:off x="946080" y="523080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bstract synt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9240" y="504828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formal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man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8360" y="5229360"/>
              <a:ext cx="1295280" cy="503280"/>
            </a:xfrm>
            <a:prstGeom prst="rightArrow">
              <a:avLst>
                <a:gd name="adj1" fmla="val 52046"/>
                <a:gd name="adj2" fmla="val 52045"/>
              </a:avLst>
            </a:pr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698120" y="155736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(visual) [modeling]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11640" y="3933360"/>
            <a:ext cx="1745640" cy="1295640"/>
            <a:chOff x="611640" y="3933360"/>
            <a:chExt cx="1745640" cy="1295640"/>
          </a:xfrm>
        </p:grpSpPr>
        <p:sp>
          <p:nvSpPr>
            <p:cNvPr id="221" name=""/>
            <p:cNvSpPr/>
            <p:nvPr/>
          </p:nvSpPr>
          <p:spPr>
            <a:xfrm>
              <a:off x="611640" y="44020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925640" y="3933000"/>
              <a:ext cx="431640" cy="1295640"/>
            </a:xfrm>
            <a:prstGeom prst="downArrow">
              <a:avLst>
                <a:gd name="adj1" fmla="val 50000"/>
                <a:gd name="adj2" fmla="val 75042"/>
              </a:avLst>
            </a:pr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903240" y="3247920"/>
            <a:ext cx="5746680" cy="825480"/>
            <a:chOff x="903240" y="3247920"/>
            <a:chExt cx="5746680" cy="825480"/>
          </a:xfrm>
        </p:grpSpPr>
        <p:sp>
          <p:nvSpPr>
            <p:cNvPr id="224" name=""/>
            <p:cNvSpPr/>
            <p:nvPr/>
          </p:nvSpPr>
          <p:spPr>
            <a:xfrm>
              <a:off x="903240" y="343044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crete synt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0040" y="3247920"/>
              <a:ext cx="146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uition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a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80000" y="3429000"/>
              <a:ext cx="863280" cy="43164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55800 h 431640"/>
                <a:gd name="textAreaBottom" fmla="*/ 3758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H="1" rot="16200000">
            <a:off x="5406840" y="4349520"/>
            <a:ext cx="863640" cy="432000"/>
          </a:xfrm>
          <a:custGeom>
            <a:avLst/>
            <a:gdLst>
              <a:gd name="textAreaLeft" fmla="*/ -360 w 863640"/>
              <a:gd name="textAreaRight" fmla="*/ 863640 w 863640"/>
              <a:gd name="textAreaTop" fmla="*/ 55800 h 432000"/>
              <a:gd name="textAreaBottom" fmla="*/ 376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A777-A0C6-4CC7-856E-E04FE3042D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 Engineer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9640" y="2924280"/>
            <a:ext cx="9178920" cy="1584360"/>
            <a:chOff x="539640" y="2924280"/>
            <a:chExt cx="9178920" cy="1584360"/>
          </a:xfrm>
        </p:grpSpPr>
        <p:sp>
          <p:nvSpPr>
            <p:cNvPr id="230" name=""/>
            <p:cNvSpPr/>
            <p:nvPr/>
          </p:nvSpPr>
          <p:spPr>
            <a:xfrm>
              <a:off x="539640" y="2924280"/>
              <a:ext cx="6985080" cy="1584360"/>
            </a:xfrm>
            <a:prstGeom prst="ellipse">
              <a:avLst/>
            </a:prstGeom>
            <a:solidFill>
              <a:srgbClr val="ff6600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94560" y="3241800"/>
              <a:ext cx="212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d-user 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1280" y="4724280"/>
            <a:ext cx="8713800" cy="1696320"/>
            <a:chOff x="611280" y="4724280"/>
            <a:chExt cx="8713800" cy="1696320"/>
          </a:xfrm>
        </p:grpSpPr>
        <p:sp>
          <p:nvSpPr>
            <p:cNvPr id="233" name=""/>
            <p:cNvSpPr/>
            <p:nvPr/>
          </p:nvSpPr>
          <p:spPr>
            <a:xfrm>
              <a:off x="611280" y="4724280"/>
              <a:ext cx="6985080" cy="158436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66200" y="5229360"/>
              <a:ext cx="1658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nguage definition 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46080" y="5048280"/>
            <a:ext cx="5804280" cy="825480"/>
            <a:chOff x="946080" y="5048280"/>
            <a:chExt cx="5804280" cy="825480"/>
          </a:xfrm>
        </p:grpSpPr>
        <p:sp>
          <p:nvSpPr>
            <p:cNvPr id="236" name=""/>
            <p:cNvSpPr/>
            <p:nvPr/>
          </p:nvSpPr>
          <p:spPr>
            <a:xfrm>
              <a:off x="946080" y="523080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bstract synt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9240" y="504828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formal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man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8360" y="5229360"/>
              <a:ext cx="1295280" cy="503280"/>
            </a:xfrm>
            <a:prstGeom prst="rightArrow">
              <a:avLst>
                <a:gd name="adj1" fmla="val 52046"/>
                <a:gd name="adj2" fmla="val 52045"/>
              </a:avLst>
            </a:pr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698120" y="155736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(visual) [modeling]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11640" y="3933360"/>
            <a:ext cx="1745640" cy="1295640"/>
            <a:chOff x="611640" y="3933360"/>
            <a:chExt cx="1745640" cy="1295640"/>
          </a:xfrm>
        </p:grpSpPr>
        <p:sp>
          <p:nvSpPr>
            <p:cNvPr id="241" name=""/>
            <p:cNvSpPr/>
            <p:nvPr/>
          </p:nvSpPr>
          <p:spPr>
            <a:xfrm>
              <a:off x="611640" y="44020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925640" y="3933000"/>
              <a:ext cx="431640" cy="1295640"/>
            </a:xfrm>
            <a:prstGeom prst="downArrow">
              <a:avLst>
                <a:gd name="adj1" fmla="val 50000"/>
                <a:gd name="adj2" fmla="val 75042"/>
              </a:avLst>
            </a:pr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03240" y="3247920"/>
            <a:ext cx="5746680" cy="825480"/>
            <a:chOff x="903240" y="3247920"/>
            <a:chExt cx="5746680" cy="825480"/>
          </a:xfrm>
        </p:grpSpPr>
        <p:sp>
          <p:nvSpPr>
            <p:cNvPr id="244" name=""/>
            <p:cNvSpPr/>
            <p:nvPr/>
          </p:nvSpPr>
          <p:spPr>
            <a:xfrm>
              <a:off x="903240" y="343044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crete synt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80040" y="3247920"/>
              <a:ext cx="146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uition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a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80000" y="3429000"/>
              <a:ext cx="863280" cy="43164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55800 h 431640"/>
                <a:gd name="textAreaBottom" fmla="*/ 3758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 rot="16200000">
            <a:off x="5406840" y="4349520"/>
            <a:ext cx="863640" cy="432000"/>
          </a:xfrm>
          <a:custGeom>
            <a:avLst/>
            <a:gdLst>
              <a:gd name="textAreaLeft" fmla="*/ -360 w 863640"/>
              <a:gd name="textAreaRight" fmla="*/ 863640 w 863640"/>
              <a:gd name="textAreaTop" fmla="*/ 55800 h 432000"/>
              <a:gd name="textAreaBottom" fmla="*/ 376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380360" y="1341360"/>
          <a:ext cx="141912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1341360"/>
                    <a:ext cx="141912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24000" y="2500560"/>
            <a:ext cx="2268360" cy="886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MMMA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(UML pro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5712840"/>
            <a:ext cx="2268720" cy="9471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ta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40000" y="4230000"/>
            <a:ext cx="2808360" cy="9471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graph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5901840"/>
            <a:ext cx="2735280" cy="9471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ta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40000" y="2069640"/>
            <a:ext cx="5184720" cy="9471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bject-oriented Modeling of MultiMedia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D629-A52E-48BE-BF47-3BD69E5F89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7631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MMMA – Object-oriented Modeling of Multimedia 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2280" y="1599840"/>
            <a:ext cx="8763120" cy="4724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419720" cy="31906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191120" cy="302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409720" y="1727280"/>
            <a:ext cx="249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ulti-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ulti-fun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ulti-mo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inter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1920" y="5157720"/>
            <a:ext cx="355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integrated model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system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C4DB-9E06-47AF-8A8C-83715188B1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09:45:36Z</dcterms:created>
  <dc:creator>Fachbereich 17/400</dc:creator>
  <dc:description/>
  <dc:language>en-US</dc:language>
  <cp:lastModifiedBy>FB17</cp:lastModifiedBy>
  <cp:lastPrinted>2000-08-15T15:28:28Z</cp:lastPrinted>
  <dcterms:modified xsi:type="dcterms:W3CDTF">2002-10-09T07:21:57Z</dcterms:modified>
  <cp:revision>607</cp:revision>
  <dc:subject/>
  <dc:title>Ein Ansatz zur  Verbesserung des Entwicklungsprozesses  von Multimedia-Anwendungen</dc:title>
</cp:coreProperties>
</file>