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FD8-0889-46B3-B03F-808428EC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13C-5116-4D53-BB46-0BBA7984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D5F-0A07-4EFD-AD93-4146ABDC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0AD-836F-4A40-92FD-0BCB96C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1F3E-6536-4B9E-8CAF-357C23CF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5DCC-0BF6-444E-BB85-5DD186E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C19-B1B0-48BB-B071-3454036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E92-12DD-4B81-80E5-5F5421D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22E-025A-4511-807D-E7A5CD59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A5B0-6AA9-4B8B-8C7F-7F3E741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9A4B-74AC-45C3-802D-EDF89E2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50F-2AEB-4150-BBC5-3249546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780F-E484-48CC-A988-2CBE84C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E126-ED36-4F6C-B84D-438581E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979-E17D-4C30-90DA-1A5F9C2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FAD-3D9C-428C-910B-CAA8993F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122-0CA3-41F9-AEA4-B61EDAF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CED-4ABC-48C8-994E-12A81DA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38F-5660-41BB-B0DE-6D069CD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382-B1CF-4096-8174-68BFA611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85C-8AE1-4B01-905B-BE32FFD4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0C6-1B75-4D0D-B571-0CE0EE96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A5B-870F-4468-9939-14C7774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EDD-8E87-4847-91E6-700A9D3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BCF-BD11-41D5-8D8D-715A488ACCC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0DB-2AE6-4EE9-9B1D-8905556DAD8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2010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Formal Notations and Tools for addressing both Safety and Usability concerns for Interactive System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e Pal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HS-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Paul Saba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louse -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07640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01600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955800" cy="16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769E-783E-4E1A-BF9E-79A5EC095F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ly developed for Air Traffic Control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prototyping of highly interactive applications (post-WI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and test prototypes in a modeles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788000" y="4005360"/>
            <a:ext cx="3359160" cy="25621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17484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C27-BB17-4943-969A-2EECE9ACB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25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ata flo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basic building bri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ly typed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 liste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2520" y="2408400"/>
            <a:ext cx="1063800" cy="10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981600" y="2470320"/>
            <a:ext cx="484200" cy="769680"/>
            <a:chOff x="3981600" y="2470320"/>
            <a:chExt cx="484200" cy="769680"/>
          </a:xfrm>
        </p:grpSpPr>
        <p:sp>
          <p:nvSpPr>
            <p:cNvPr id="353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92640" y="319104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11" y="24"/>
                  </a:lnTo>
                  <a:lnTo>
                    <a:pt x="24" y="2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00560" y="3198960"/>
              <a:ext cx="5724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3120" y="319104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11" y="24"/>
                  </a:lnTo>
                  <a:lnTo>
                    <a:pt x="22" y="2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92840" y="3198960"/>
              <a:ext cx="5688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0"/>
                  </a:moveTo>
                  <a:lnTo>
                    <a:pt x="10" y="25"/>
                  </a:lnTo>
                  <a:lnTo>
                    <a:pt x="21" y="25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81600" y="2470320"/>
              <a:ext cx="474480" cy="722160"/>
            </a:xfrm>
            <a:custGeom>
              <a:avLst/>
              <a:gdLst/>
              <a:ahLst/>
              <a:rect l="l" t="t" r="r" b="b"/>
              <a:pathLst>
                <a:path w="299" h="455">
                  <a:moveTo>
                    <a:pt x="35" y="175"/>
                  </a:moveTo>
                  <a:lnTo>
                    <a:pt x="40" y="153"/>
                  </a:lnTo>
                  <a:lnTo>
                    <a:pt x="46" y="135"/>
                  </a:lnTo>
                  <a:lnTo>
                    <a:pt x="51" y="116"/>
                  </a:lnTo>
                  <a:lnTo>
                    <a:pt x="56" y="100"/>
                  </a:lnTo>
                  <a:lnTo>
                    <a:pt x="62" y="84"/>
                  </a:lnTo>
                  <a:lnTo>
                    <a:pt x="67" y="70"/>
                  </a:lnTo>
                  <a:lnTo>
                    <a:pt x="75" y="57"/>
                  </a:lnTo>
                  <a:lnTo>
                    <a:pt x="80" y="46"/>
                  </a:lnTo>
                  <a:lnTo>
                    <a:pt x="89" y="35"/>
                  </a:lnTo>
                  <a:lnTo>
                    <a:pt x="97" y="25"/>
                  </a:lnTo>
                  <a:lnTo>
                    <a:pt x="105" y="19"/>
                  </a:lnTo>
                  <a:lnTo>
                    <a:pt x="113" y="11"/>
                  </a:lnTo>
                  <a:lnTo>
                    <a:pt x="121" y="8"/>
                  </a:lnTo>
                  <a:lnTo>
                    <a:pt x="132" y="3"/>
                  </a:lnTo>
                  <a:lnTo>
                    <a:pt x="140" y="3"/>
                  </a:lnTo>
                  <a:lnTo>
                    <a:pt x="150" y="0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80" y="8"/>
                  </a:lnTo>
                  <a:lnTo>
                    <a:pt x="188" y="14"/>
                  </a:lnTo>
                  <a:lnTo>
                    <a:pt x="196" y="19"/>
                  </a:lnTo>
                  <a:lnTo>
                    <a:pt x="204" y="27"/>
                  </a:lnTo>
                  <a:lnTo>
                    <a:pt x="212" y="35"/>
                  </a:lnTo>
                  <a:lnTo>
                    <a:pt x="220" y="46"/>
                  </a:lnTo>
                  <a:lnTo>
                    <a:pt x="226" y="57"/>
                  </a:lnTo>
                  <a:lnTo>
                    <a:pt x="234" y="70"/>
                  </a:lnTo>
                  <a:lnTo>
                    <a:pt x="239" y="86"/>
                  </a:lnTo>
                  <a:lnTo>
                    <a:pt x="244" y="102"/>
                  </a:lnTo>
                  <a:lnTo>
                    <a:pt x="250" y="118"/>
                  </a:lnTo>
                  <a:lnTo>
                    <a:pt x="255" y="137"/>
                  </a:lnTo>
                  <a:lnTo>
                    <a:pt x="261" y="159"/>
                  </a:lnTo>
                  <a:lnTo>
                    <a:pt x="266" y="180"/>
                  </a:lnTo>
                  <a:lnTo>
                    <a:pt x="274" y="223"/>
                  </a:lnTo>
                  <a:lnTo>
                    <a:pt x="279" y="261"/>
                  </a:lnTo>
                  <a:lnTo>
                    <a:pt x="285" y="293"/>
                  </a:lnTo>
                  <a:lnTo>
                    <a:pt x="290" y="322"/>
                  </a:lnTo>
                  <a:lnTo>
                    <a:pt x="295" y="347"/>
                  </a:lnTo>
                  <a:lnTo>
                    <a:pt x="298" y="368"/>
                  </a:lnTo>
                  <a:lnTo>
                    <a:pt x="298" y="384"/>
                  </a:lnTo>
                  <a:lnTo>
                    <a:pt x="298" y="395"/>
                  </a:lnTo>
                  <a:lnTo>
                    <a:pt x="298" y="414"/>
                  </a:lnTo>
                  <a:lnTo>
                    <a:pt x="295" y="427"/>
                  </a:lnTo>
                  <a:lnTo>
                    <a:pt x="293" y="438"/>
                  </a:lnTo>
                  <a:lnTo>
                    <a:pt x="287" y="443"/>
                  </a:lnTo>
                  <a:lnTo>
                    <a:pt x="282" y="446"/>
                  </a:lnTo>
                  <a:lnTo>
                    <a:pt x="274" y="449"/>
                  </a:lnTo>
                  <a:lnTo>
                    <a:pt x="263" y="451"/>
                  </a:lnTo>
                  <a:lnTo>
                    <a:pt x="247" y="451"/>
                  </a:lnTo>
                  <a:lnTo>
                    <a:pt x="226" y="454"/>
                  </a:lnTo>
                  <a:lnTo>
                    <a:pt x="204" y="454"/>
                  </a:lnTo>
                  <a:lnTo>
                    <a:pt x="175" y="454"/>
                  </a:lnTo>
                  <a:lnTo>
                    <a:pt x="145" y="454"/>
                  </a:lnTo>
                  <a:lnTo>
                    <a:pt x="113" y="454"/>
                  </a:lnTo>
                  <a:lnTo>
                    <a:pt x="86" y="454"/>
                  </a:lnTo>
                  <a:lnTo>
                    <a:pt x="64" y="454"/>
                  </a:lnTo>
                  <a:lnTo>
                    <a:pt x="43" y="451"/>
                  </a:lnTo>
                  <a:lnTo>
                    <a:pt x="29" y="451"/>
                  </a:lnTo>
                  <a:lnTo>
                    <a:pt x="19" y="449"/>
                  </a:lnTo>
                  <a:lnTo>
                    <a:pt x="11" y="446"/>
                  </a:lnTo>
                  <a:lnTo>
                    <a:pt x="8" y="443"/>
                  </a:lnTo>
                  <a:lnTo>
                    <a:pt x="5" y="438"/>
                  </a:lnTo>
                  <a:lnTo>
                    <a:pt x="3" y="424"/>
                  </a:lnTo>
                  <a:lnTo>
                    <a:pt x="3" y="411"/>
                  </a:lnTo>
                  <a:lnTo>
                    <a:pt x="0" y="390"/>
                  </a:lnTo>
                  <a:lnTo>
                    <a:pt x="3" y="379"/>
                  </a:lnTo>
                  <a:lnTo>
                    <a:pt x="3" y="360"/>
                  </a:lnTo>
                  <a:lnTo>
                    <a:pt x="5" y="339"/>
                  </a:lnTo>
                  <a:lnTo>
                    <a:pt x="11" y="314"/>
                  </a:lnTo>
                  <a:lnTo>
                    <a:pt x="13" y="285"/>
                  </a:lnTo>
                  <a:lnTo>
                    <a:pt x="21" y="253"/>
                  </a:lnTo>
                  <a:lnTo>
                    <a:pt x="27" y="215"/>
                  </a:lnTo>
                  <a:lnTo>
                    <a:pt x="35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89520" y="2479680"/>
              <a:ext cx="476280" cy="720720"/>
            </a:xfrm>
            <a:custGeom>
              <a:avLst/>
              <a:gdLst/>
              <a:ahLst/>
              <a:rect l="l" t="t" r="r" b="b"/>
              <a:pathLst>
                <a:path w="300" h="454">
                  <a:moveTo>
                    <a:pt x="35" y="174"/>
                  </a:moveTo>
                  <a:lnTo>
                    <a:pt x="41" y="153"/>
                  </a:lnTo>
                  <a:lnTo>
                    <a:pt x="46" y="134"/>
                  </a:lnTo>
                  <a:lnTo>
                    <a:pt x="51" y="115"/>
                  </a:lnTo>
                  <a:lnTo>
                    <a:pt x="57" y="99"/>
                  </a:lnTo>
                  <a:lnTo>
                    <a:pt x="62" y="83"/>
                  </a:lnTo>
                  <a:lnTo>
                    <a:pt x="67" y="70"/>
                  </a:lnTo>
                  <a:lnTo>
                    <a:pt x="75" y="56"/>
                  </a:lnTo>
                  <a:lnTo>
                    <a:pt x="81" y="45"/>
                  </a:lnTo>
                  <a:lnTo>
                    <a:pt x="89" y="35"/>
                  </a:lnTo>
                  <a:lnTo>
                    <a:pt x="97" y="24"/>
                  </a:lnTo>
                  <a:lnTo>
                    <a:pt x="105" y="19"/>
                  </a:lnTo>
                  <a:lnTo>
                    <a:pt x="113" y="10"/>
                  </a:lnTo>
                  <a:lnTo>
                    <a:pt x="121" y="8"/>
                  </a:lnTo>
                  <a:lnTo>
                    <a:pt x="132" y="2"/>
                  </a:lnTo>
                  <a:lnTo>
                    <a:pt x="140" y="2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2"/>
                  </a:lnTo>
                  <a:lnTo>
                    <a:pt x="180" y="8"/>
                  </a:lnTo>
                  <a:lnTo>
                    <a:pt x="188" y="13"/>
                  </a:lnTo>
                  <a:lnTo>
                    <a:pt x="196" y="19"/>
                  </a:lnTo>
                  <a:lnTo>
                    <a:pt x="204" y="27"/>
                  </a:lnTo>
                  <a:lnTo>
                    <a:pt x="213" y="35"/>
                  </a:lnTo>
                  <a:lnTo>
                    <a:pt x="221" y="45"/>
                  </a:lnTo>
                  <a:lnTo>
                    <a:pt x="226" y="56"/>
                  </a:lnTo>
                  <a:lnTo>
                    <a:pt x="234" y="70"/>
                  </a:lnTo>
                  <a:lnTo>
                    <a:pt x="239" y="86"/>
                  </a:lnTo>
                  <a:lnTo>
                    <a:pt x="245" y="102"/>
                  </a:lnTo>
                  <a:lnTo>
                    <a:pt x="250" y="118"/>
                  </a:lnTo>
                  <a:lnTo>
                    <a:pt x="256" y="137"/>
                  </a:lnTo>
                  <a:lnTo>
                    <a:pt x="261" y="158"/>
                  </a:lnTo>
                  <a:lnTo>
                    <a:pt x="266" y="180"/>
                  </a:lnTo>
                  <a:lnTo>
                    <a:pt x="274" y="223"/>
                  </a:lnTo>
                  <a:lnTo>
                    <a:pt x="280" y="260"/>
                  </a:lnTo>
                  <a:lnTo>
                    <a:pt x="285" y="292"/>
                  </a:lnTo>
                  <a:lnTo>
                    <a:pt x="290" y="322"/>
                  </a:lnTo>
                  <a:lnTo>
                    <a:pt x="296" y="346"/>
                  </a:lnTo>
                  <a:lnTo>
                    <a:pt x="299" y="367"/>
                  </a:lnTo>
                  <a:lnTo>
                    <a:pt x="299" y="384"/>
                  </a:lnTo>
                  <a:lnTo>
                    <a:pt x="299" y="394"/>
                  </a:lnTo>
                  <a:lnTo>
                    <a:pt x="299" y="413"/>
                  </a:lnTo>
                  <a:lnTo>
                    <a:pt x="296" y="427"/>
                  </a:lnTo>
                  <a:lnTo>
                    <a:pt x="293" y="437"/>
                  </a:lnTo>
                  <a:lnTo>
                    <a:pt x="288" y="443"/>
                  </a:lnTo>
                  <a:lnTo>
                    <a:pt x="282" y="445"/>
                  </a:lnTo>
                  <a:lnTo>
                    <a:pt x="274" y="448"/>
                  </a:lnTo>
                  <a:lnTo>
                    <a:pt x="264" y="451"/>
                  </a:lnTo>
                  <a:lnTo>
                    <a:pt x="247" y="451"/>
                  </a:lnTo>
                  <a:lnTo>
                    <a:pt x="226" y="453"/>
                  </a:lnTo>
                  <a:lnTo>
                    <a:pt x="204" y="453"/>
                  </a:lnTo>
                  <a:lnTo>
                    <a:pt x="175" y="453"/>
                  </a:lnTo>
                  <a:lnTo>
                    <a:pt x="145" y="453"/>
                  </a:lnTo>
                  <a:lnTo>
                    <a:pt x="113" y="453"/>
                  </a:lnTo>
                  <a:lnTo>
                    <a:pt x="86" y="453"/>
                  </a:lnTo>
                  <a:lnTo>
                    <a:pt x="65" y="453"/>
                  </a:lnTo>
                  <a:lnTo>
                    <a:pt x="43" y="451"/>
                  </a:lnTo>
                  <a:lnTo>
                    <a:pt x="30" y="451"/>
                  </a:lnTo>
                  <a:lnTo>
                    <a:pt x="19" y="448"/>
                  </a:lnTo>
                  <a:lnTo>
                    <a:pt x="11" y="445"/>
                  </a:lnTo>
                  <a:lnTo>
                    <a:pt x="8" y="443"/>
                  </a:lnTo>
                  <a:lnTo>
                    <a:pt x="6" y="437"/>
                  </a:lnTo>
                  <a:lnTo>
                    <a:pt x="3" y="424"/>
                  </a:lnTo>
                  <a:lnTo>
                    <a:pt x="3" y="410"/>
                  </a:lnTo>
                  <a:lnTo>
                    <a:pt x="0" y="389"/>
                  </a:lnTo>
                  <a:lnTo>
                    <a:pt x="3" y="378"/>
                  </a:lnTo>
                  <a:lnTo>
                    <a:pt x="3" y="359"/>
                  </a:lnTo>
                  <a:lnTo>
                    <a:pt x="6" y="338"/>
                  </a:lnTo>
                  <a:lnTo>
                    <a:pt x="11" y="314"/>
                  </a:lnTo>
                  <a:lnTo>
                    <a:pt x="14" y="284"/>
                  </a:lnTo>
                  <a:lnTo>
                    <a:pt x="22" y="252"/>
                  </a:lnTo>
                  <a:lnTo>
                    <a:pt x="27" y="214"/>
                  </a:lnTo>
                  <a:lnTo>
                    <a:pt x="35" y="1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9880" y="2586240"/>
              <a:ext cx="274680" cy="495360"/>
            </a:xfrm>
            <a:custGeom>
              <a:avLst/>
              <a:gdLst/>
              <a:ahLst/>
              <a:rect l="l" t="t" r="r" b="b"/>
              <a:pathLst>
                <a:path w="173" h="312">
                  <a:moveTo>
                    <a:pt x="56" y="0"/>
                  </a:moveTo>
                  <a:lnTo>
                    <a:pt x="115" y="0"/>
                  </a:lnTo>
                  <a:lnTo>
                    <a:pt x="172" y="279"/>
                  </a:lnTo>
                  <a:lnTo>
                    <a:pt x="172" y="311"/>
                  </a:lnTo>
                  <a:lnTo>
                    <a:pt x="0" y="311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7800" y="2594160"/>
              <a:ext cx="274680" cy="496800"/>
            </a:xfrm>
            <a:custGeom>
              <a:avLst/>
              <a:gdLst/>
              <a:ahLst/>
              <a:rect l="l" t="t" r="r" b="b"/>
              <a:pathLst>
                <a:path w="173" h="313">
                  <a:moveTo>
                    <a:pt x="56" y="0"/>
                  </a:moveTo>
                  <a:lnTo>
                    <a:pt x="116" y="0"/>
                  </a:lnTo>
                  <a:lnTo>
                    <a:pt x="172" y="279"/>
                  </a:lnTo>
                  <a:lnTo>
                    <a:pt x="172" y="312"/>
                  </a:lnTo>
                  <a:lnTo>
                    <a:pt x="0" y="312"/>
                  </a:lnTo>
                  <a:lnTo>
                    <a:pt x="0" y="279"/>
                  </a:lnTo>
                  <a:lnTo>
                    <a:pt x="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87880" y="2592360"/>
              <a:ext cx="73080" cy="44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22800" y="2597400"/>
              <a:ext cx="7920" cy="43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86280" y="2603520"/>
              <a:ext cx="25704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39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39" y="2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94200" y="2611440"/>
              <a:ext cx="257400" cy="444600"/>
            </a:xfrm>
            <a:custGeom>
              <a:avLst/>
              <a:gdLst/>
              <a:ahLst/>
              <a:rect l="l" t="t" r="r" b="b"/>
              <a:pathLst>
                <a:path w="162" h="280">
                  <a:moveTo>
                    <a:pt x="140" y="27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1" y="279"/>
                  </a:lnTo>
                  <a:lnTo>
                    <a:pt x="140" y="2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86360" y="3035520"/>
              <a:ext cx="276120" cy="55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86280" y="2637000"/>
              <a:ext cx="95400" cy="10296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4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94200" y="26449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22"/>
                  </a:moveTo>
                  <a:lnTo>
                    <a:pt x="48" y="0"/>
                  </a:lnTo>
                  <a:lnTo>
                    <a:pt x="59" y="11"/>
                  </a:lnTo>
                  <a:lnTo>
                    <a:pt x="59" y="54"/>
                  </a:lnTo>
                  <a:lnTo>
                    <a:pt x="48" y="65"/>
                  </a:lnTo>
                  <a:lnTo>
                    <a:pt x="13" y="43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848040" y="3257640"/>
            <a:ext cx="285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460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52880" y="3257640"/>
            <a:ext cx="322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724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95880" y="325764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51280" y="2840040"/>
            <a:ext cx="141480" cy="1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788240" y="2408400"/>
            <a:ext cx="1063800" cy="10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51800" y="3111480"/>
            <a:ext cx="14112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1800" y="2532240"/>
            <a:ext cx="141120" cy="19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967520" y="2583000"/>
            <a:ext cx="798480" cy="609480"/>
            <a:chOff x="7967520" y="2583000"/>
            <a:chExt cx="798480" cy="609480"/>
          </a:xfrm>
        </p:grpSpPr>
        <p:sp>
          <p:nvSpPr>
            <p:cNvPr id="384" name=""/>
            <p:cNvSpPr/>
            <p:nvPr/>
          </p:nvSpPr>
          <p:spPr>
            <a:xfrm flipV="1">
              <a:off x="7983360" y="2624400"/>
              <a:ext cx="741240" cy="52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3095640"/>
              <a:ext cx="90360" cy="9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75280" y="2583000"/>
              <a:ext cx="9072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560" y="3205080"/>
            <a:ext cx="29484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8840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8668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85320" y="3205080"/>
            <a:ext cx="32220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2968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427960" y="320508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526240" y="3205080"/>
            <a:ext cx="230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54680" y="2637000"/>
            <a:ext cx="876600" cy="325440"/>
          </a:xfrm>
          <a:custGeom>
            <a:avLst/>
            <a:gdLst/>
            <a:ahLst/>
            <a:rect l="l" t="t" r="r" b="b"/>
            <a:pathLst>
              <a:path w="552" h="205">
                <a:moveTo>
                  <a:pt x="0" y="204"/>
                </a:moveTo>
                <a:lnTo>
                  <a:pt x="29" y="204"/>
                </a:lnTo>
                <a:lnTo>
                  <a:pt x="59" y="204"/>
                </a:lnTo>
                <a:lnTo>
                  <a:pt x="83" y="204"/>
                </a:lnTo>
                <a:lnTo>
                  <a:pt x="107" y="204"/>
                </a:lnTo>
                <a:lnTo>
                  <a:pt x="129" y="204"/>
                </a:lnTo>
                <a:lnTo>
                  <a:pt x="150" y="204"/>
                </a:lnTo>
                <a:lnTo>
                  <a:pt x="169" y="204"/>
                </a:lnTo>
                <a:lnTo>
                  <a:pt x="185" y="204"/>
                </a:lnTo>
                <a:lnTo>
                  <a:pt x="215" y="201"/>
                </a:lnTo>
                <a:lnTo>
                  <a:pt x="242" y="199"/>
                </a:lnTo>
                <a:lnTo>
                  <a:pt x="263" y="191"/>
                </a:lnTo>
                <a:lnTo>
                  <a:pt x="282" y="183"/>
                </a:lnTo>
                <a:lnTo>
                  <a:pt x="298" y="169"/>
                </a:lnTo>
                <a:lnTo>
                  <a:pt x="311" y="156"/>
                </a:lnTo>
                <a:lnTo>
                  <a:pt x="322" y="137"/>
                </a:lnTo>
                <a:lnTo>
                  <a:pt x="333" y="118"/>
                </a:lnTo>
                <a:lnTo>
                  <a:pt x="341" y="97"/>
                </a:lnTo>
                <a:lnTo>
                  <a:pt x="352" y="75"/>
                </a:lnTo>
                <a:lnTo>
                  <a:pt x="365" y="56"/>
                </a:lnTo>
                <a:lnTo>
                  <a:pt x="379" y="38"/>
                </a:lnTo>
                <a:lnTo>
                  <a:pt x="387" y="27"/>
                </a:lnTo>
                <a:lnTo>
                  <a:pt x="400" y="22"/>
                </a:lnTo>
                <a:lnTo>
                  <a:pt x="416" y="13"/>
                </a:lnTo>
                <a:lnTo>
                  <a:pt x="438" y="8"/>
                </a:lnTo>
                <a:lnTo>
                  <a:pt x="459" y="5"/>
                </a:lnTo>
                <a:lnTo>
                  <a:pt x="486" y="0"/>
                </a:lnTo>
                <a:lnTo>
                  <a:pt x="516" y="0"/>
                </a:lnTo>
                <a:lnTo>
                  <a:pt x="5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29304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67240" y="514440"/>
            <a:ext cx="1262160" cy="120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621120" y="1111320"/>
            <a:ext cx="468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613560" y="1170000"/>
            <a:ext cx="93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548040" y="1341360"/>
            <a:ext cx="28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517800" y="1392120"/>
            <a:ext cx="334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510240" y="1442880"/>
            <a:ext cx="1296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91080" y="1536840"/>
            <a:ext cx="507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43200" y="1571760"/>
            <a:ext cx="5580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338520" y="1604880"/>
            <a:ext cx="1260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176520" y="1662120"/>
            <a:ext cx="651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118200" y="1684440"/>
            <a:ext cx="6840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21440" y="169848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994000" y="17114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928840" y="1707840"/>
            <a:ext cx="73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878440" y="1703160"/>
            <a:ext cx="604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51360" y="1665000"/>
            <a:ext cx="208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695920" y="1639800"/>
            <a:ext cx="63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5656320" y="1615680"/>
            <a:ext cx="475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549760" y="1535040"/>
            <a:ext cx="2232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514840" y="1490400"/>
            <a:ext cx="446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481720" y="1450440"/>
            <a:ext cx="3816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421240" y="1341360"/>
            <a:ext cx="792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400720" y="1285920"/>
            <a:ext cx="237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387760" y="1238400"/>
            <a:ext cx="140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370480" y="111132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370480" y="1050840"/>
            <a:ext cx="468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73720" y="1004400"/>
            <a:ext cx="9360" cy="5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415120" y="880560"/>
            <a:ext cx="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9800" y="825480"/>
            <a:ext cx="28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45000" y="782280"/>
            <a:ext cx="302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46880" y="688680"/>
            <a:ext cx="12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549760" y="652320"/>
            <a:ext cx="5580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597640" y="623520"/>
            <a:ext cx="50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746680" y="561600"/>
            <a:ext cx="12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751360" y="544680"/>
            <a:ext cx="63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807160" y="531720"/>
            <a:ext cx="633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77080" y="5191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94360" y="517680"/>
            <a:ext cx="71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58080" y="522360"/>
            <a:ext cx="475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11800" y="554040"/>
            <a:ext cx="334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7360" y="561960"/>
            <a:ext cx="6336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92800" y="588960"/>
            <a:ext cx="381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16640" y="671400"/>
            <a:ext cx="302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37160" y="689040"/>
            <a:ext cx="446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731880"/>
            <a:ext cx="270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62800" y="858960"/>
            <a:ext cx="1260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2160" y="880920"/>
            <a:ext cx="2376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94480" y="936720"/>
            <a:ext cx="144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24720" y="10890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011640" y="836640"/>
            <a:ext cx="56196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391000" y="2425680"/>
            <a:ext cx="1334880" cy="1087560"/>
            <a:chOff x="5391000" y="2425680"/>
            <a:chExt cx="1334880" cy="1087560"/>
          </a:xfrm>
        </p:grpSpPr>
        <p:sp>
          <p:nvSpPr>
            <p:cNvPr id="447" name=""/>
            <p:cNvSpPr/>
            <p:nvPr/>
          </p:nvSpPr>
          <p:spPr>
            <a:xfrm>
              <a:off x="5527440" y="2425680"/>
              <a:ext cx="1062000" cy="10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91000" y="2865600"/>
              <a:ext cx="14112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84760" y="2847960"/>
              <a:ext cx="14112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664240" y="2489040"/>
            <a:ext cx="789120" cy="7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2506680"/>
            <a:ext cx="554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40440" y="2468520"/>
            <a:ext cx="5076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536920"/>
            <a:ext cx="5076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84960" y="2690640"/>
            <a:ext cx="50760" cy="59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32480" y="2865600"/>
            <a:ext cx="5580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27640" y="3189240"/>
            <a:ext cx="5580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46800" y="3052800"/>
            <a:ext cx="5544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35600" y="3201840"/>
            <a:ext cx="55440" cy="5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11760" y="3056040"/>
            <a:ext cx="55800" cy="60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07080" y="2643120"/>
            <a:ext cx="55440" cy="5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53040" y="3244680"/>
            <a:ext cx="558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2886120"/>
            <a:ext cx="5076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3265560"/>
            <a:ext cx="285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86560" y="3265560"/>
            <a:ext cx="239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668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44960" y="3265560"/>
            <a:ext cx="221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8312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74920" y="3265560"/>
            <a:ext cx="267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64200" y="3265560"/>
            <a:ext cx="23076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11720" y="3265560"/>
            <a:ext cx="2764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10360" y="3265560"/>
            <a:ext cx="3679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16800" y="655560"/>
            <a:ext cx="201600" cy="328680"/>
          </a:xfrm>
          <a:custGeom>
            <a:avLst/>
            <a:gdLst/>
            <a:ahLst/>
            <a:rect l="l" t="t" r="r" b="b"/>
            <a:pathLst>
              <a:path w="127" h="207">
                <a:moveTo>
                  <a:pt x="100" y="206"/>
                </a:moveTo>
                <a:lnTo>
                  <a:pt x="126" y="118"/>
                </a:lnTo>
                <a:lnTo>
                  <a:pt x="89" y="120"/>
                </a:lnTo>
                <a:lnTo>
                  <a:pt x="75" y="85"/>
                </a:lnTo>
                <a:lnTo>
                  <a:pt x="62" y="61"/>
                </a:lnTo>
                <a:lnTo>
                  <a:pt x="46" y="37"/>
                </a:lnTo>
                <a:lnTo>
                  <a:pt x="32" y="16"/>
                </a:lnTo>
                <a:lnTo>
                  <a:pt x="11" y="0"/>
                </a:lnTo>
                <a:lnTo>
                  <a:pt x="0" y="16"/>
                </a:lnTo>
                <a:lnTo>
                  <a:pt x="24" y="37"/>
                </a:lnTo>
                <a:lnTo>
                  <a:pt x="40" y="64"/>
                </a:lnTo>
                <a:lnTo>
                  <a:pt x="57" y="91"/>
                </a:lnTo>
                <a:lnTo>
                  <a:pt x="70" y="123"/>
                </a:lnTo>
                <a:lnTo>
                  <a:pt x="43" y="131"/>
                </a:lnTo>
                <a:lnTo>
                  <a:pt x="100" y="20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16800" y="655560"/>
            <a:ext cx="201600" cy="328680"/>
          </a:xfrm>
          <a:custGeom>
            <a:avLst/>
            <a:gdLst/>
            <a:ahLst/>
            <a:rect l="l" t="t" r="r" b="b"/>
            <a:pathLst>
              <a:path w="127" h="207">
                <a:moveTo>
                  <a:pt x="100" y="206"/>
                </a:moveTo>
                <a:lnTo>
                  <a:pt x="126" y="118"/>
                </a:lnTo>
                <a:lnTo>
                  <a:pt x="89" y="120"/>
                </a:lnTo>
                <a:lnTo>
                  <a:pt x="75" y="85"/>
                </a:lnTo>
                <a:lnTo>
                  <a:pt x="62" y="61"/>
                </a:lnTo>
                <a:lnTo>
                  <a:pt x="46" y="37"/>
                </a:lnTo>
                <a:lnTo>
                  <a:pt x="32" y="16"/>
                </a:lnTo>
                <a:lnTo>
                  <a:pt x="11" y="0"/>
                </a:lnTo>
                <a:lnTo>
                  <a:pt x="0" y="16"/>
                </a:lnTo>
                <a:lnTo>
                  <a:pt x="24" y="37"/>
                </a:lnTo>
                <a:lnTo>
                  <a:pt x="40" y="64"/>
                </a:lnTo>
                <a:lnTo>
                  <a:pt x="57" y="91"/>
                </a:lnTo>
                <a:lnTo>
                  <a:pt x="70" y="123"/>
                </a:lnTo>
                <a:lnTo>
                  <a:pt x="43" y="131"/>
                </a:lnTo>
                <a:lnTo>
                  <a:pt x="100" y="20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51800" y="2822400"/>
            <a:ext cx="14112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1480" y="2606760"/>
            <a:ext cx="87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786800" y="2841120"/>
            <a:ext cx="61416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790040" y="3146040"/>
            <a:ext cx="163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15480" y="2576520"/>
            <a:ext cx="82440" cy="7452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51" y="22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15480" y="2576520"/>
            <a:ext cx="82440" cy="7452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51" y="22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08920" y="285912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0"/>
                </a:moveTo>
                <a:lnTo>
                  <a:pt x="54" y="10"/>
                </a:lnTo>
                <a:lnTo>
                  <a:pt x="8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008920" y="285912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0"/>
                </a:moveTo>
                <a:lnTo>
                  <a:pt x="54" y="10"/>
                </a:lnTo>
                <a:lnTo>
                  <a:pt x="8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24960" y="3170160"/>
            <a:ext cx="9180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0" y="0"/>
                </a:moveTo>
                <a:lnTo>
                  <a:pt x="57" y="0"/>
                </a:lnTo>
                <a:lnTo>
                  <a:pt x="19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24960" y="3170160"/>
            <a:ext cx="9180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0" y="0"/>
                </a:moveTo>
                <a:lnTo>
                  <a:pt x="57" y="0"/>
                </a:lnTo>
                <a:lnTo>
                  <a:pt x="19" y="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0880" y="2887560"/>
            <a:ext cx="13356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0"/>
                </a:moveTo>
                <a:lnTo>
                  <a:pt x="83" y="30"/>
                </a:lnTo>
                <a:lnTo>
                  <a:pt x="0" y="6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60880" y="2887560"/>
            <a:ext cx="133560" cy="104760"/>
          </a:xfrm>
          <a:custGeom>
            <a:avLst/>
            <a:gdLst/>
            <a:ahLst/>
            <a:rect l="l" t="t" r="r" b="b"/>
            <a:pathLst>
              <a:path w="84" h="66">
                <a:moveTo>
                  <a:pt x="0" y="0"/>
                </a:moveTo>
                <a:lnTo>
                  <a:pt x="83" y="30"/>
                </a:lnTo>
                <a:lnTo>
                  <a:pt x="0" y="6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92800" y="2768760"/>
            <a:ext cx="130320" cy="133200"/>
          </a:xfrm>
          <a:custGeom>
            <a:avLst/>
            <a:gdLst/>
            <a:ahLst/>
            <a:rect l="l" t="t" r="r" b="b"/>
            <a:pathLst>
              <a:path w="82" h="84">
                <a:moveTo>
                  <a:pt x="0" y="38"/>
                </a:moveTo>
                <a:lnTo>
                  <a:pt x="81" y="0"/>
                </a:lnTo>
                <a:lnTo>
                  <a:pt x="46" y="8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0" y="2768760"/>
            <a:ext cx="130320" cy="133200"/>
          </a:xfrm>
          <a:custGeom>
            <a:avLst/>
            <a:gdLst/>
            <a:ahLst/>
            <a:rect l="l" t="t" r="r" b="b"/>
            <a:pathLst>
              <a:path w="82" h="84">
                <a:moveTo>
                  <a:pt x="0" y="38"/>
                </a:moveTo>
                <a:lnTo>
                  <a:pt x="81" y="0"/>
                </a:lnTo>
                <a:lnTo>
                  <a:pt x="46" y="8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86600" y="2598840"/>
            <a:ext cx="198360" cy="330120"/>
          </a:xfrm>
          <a:custGeom>
            <a:avLst/>
            <a:gdLst/>
            <a:ahLst/>
            <a:rect l="l" t="t" r="r" b="b"/>
            <a:pathLst>
              <a:path w="125" h="208">
                <a:moveTo>
                  <a:pt x="97" y="207"/>
                </a:moveTo>
                <a:lnTo>
                  <a:pt x="124" y="115"/>
                </a:lnTo>
                <a:lnTo>
                  <a:pt x="89" y="118"/>
                </a:lnTo>
                <a:lnTo>
                  <a:pt x="73" y="86"/>
                </a:lnTo>
                <a:lnTo>
                  <a:pt x="59" y="62"/>
                </a:lnTo>
                <a:lnTo>
                  <a:pt x="43" y="37"/>
                </a:lnTo>
                <a:lnTo>
                  <a:pt x="30" y="16"/>
                </a:lnTo>
                <a:lnTo>
                  <a:pt x="8" y="0"/>
                </a:lnTo>
                <a:lnTo>
                  <a:pt x="0" y="16"/>
                </a:lnTo>
                <a:lnTo>
                  <a:pt x="22" y="37"/>
                </a:lnTo>
                <a:lnTo>
                  <a:pt x="38" y="64"/>
                </a:lnTo>
                <a:lnTo>
                  <a:pt x="57" y="91"/>
                </a:lnTo>
                <a:lnTo>
                  <a:pt x="67" y="123"/>
                </a:lnTo>
                <a:lnTo>
                  <a:pt x="41" y="129"/>
                </a:lnTo>
                <a:lnTo>
                  <a:pt x="97" y="2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86600" y="2598840"/>
            <a:ext cx="198360" cy="330120"/>
          </a:xfrm>
          <a:custGeom>
            <a:avLst/>
            <a:gdLst/>
            <a:ahLst/>
            <a:rect l="l" t="t" r="r" b="b"/>
            <a:pathLst>
              <a:path w="125" h="208">
                <a:moveTo>
                  <a:pt x="97" y="207"/>
                </a:moveTo>
                <a:lnTo>
                  <a:pt x="124" y="115"/>
                </a:lnTo>
                <a:lnTo>
                  <a:pt x="89" y="118"/>
                </a:lnTo>
                <a:lnTo>
                  <a:pt x="73" y="86"/>
                </a:lnTo>
                <a:lnTo>
                  <a:pt x="59" y="62"/>
                </a:lnTo>
                <a:lnTo>
                  <a:pt x="43" y="37"/>
                </a:lnTo>
                <a:lnTo>
                  <a:pt x="30" y="16"/>
                </a:lnTo>
                <a:lnTo>
                  <a:pt x="8" y="0"/>
                </a:lnTo>
                <a:lnTo>
                  <a:pt x="0" y="16"/>
                </a:lnTo>
                <a:lnTo>
                  <a:pt x="22" y="37"/>
                </a:lnTo>
                <a:lnTo>
                  <a:pt x="38" y="64"/>
                </a:lnTo>
                <a:lnTo>
                  <a:pt x="57" y="91"/>
                </a:lnTo>
                <a:lnTo>
                  <a:pt x="67" y="123"/>
                </a:lnTo>
                <a:lnTo>
                  <a:pt x="41" y="129"/>
                </a:lnTo>
                <a:lnTo>
                  <a:pt x="97" y="2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00680" y="2684520"/>
            <a:ext cx="444600" cy="29196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81760" y="2608200"/>
            <a:ext cx="596880" cy="36828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4132440" y="2373120"/>
            <a:ext cx="914400" cy="6094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4970520" y="2220840"/>
            <a:ext cx="380880" cy="60984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86280" y="1998720"/>
            <a:ext cx="977760" cy="44460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9560" y="2065320"/>
            <a:ext cx="884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7cd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888240" y="2122200"/>
            <a:ext cx="296640" cy="6318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72520" y="2242800"/>
            <a:ext cx="492120" cy="5922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86680" y="1922400"/>
            <a:ext cx="825480" cy="444600"/>
          </a:xfrm>
          <a:prstGeom prst="ellipse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64360" y="1989000"/>
            <a:ext cx="1006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637cd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3995640" y="4149720"/>
            <a:ext cx="4740480" cy="19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536-CB5E-4D20-BA74-12FC5BC2A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LAGE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6308640" cy="4724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639240" y="5608800"/>
            <a:ext cx="16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Editing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07840" y="5627520"/>
            <a:ext cx="198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Simula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560" y="4389480"/>
            <a:ext cx="140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0066"/>
                </a:solidFill>
                <a:latin typeface="Times New Roman"/>
              </a:rPr>
              <a:t>Tool Pa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409760" y="3843360"/>
            <a:ext cx="13716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0680" y="5303880"/>
            <a:ext cx="17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Times New Roman"/>
              </a:rPr>
              <a:t>Dialogue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486080" y="4834080"/>
            <a:ext cx="1143000" cy="45720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691-52F6-495E-A8C1-72E18559C8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fety Critical Interactive Syste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392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ty Critical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Engin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cen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fety requirements (certifi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ication / 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fall model / structu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aic interaction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00720" y="19810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bility exp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cente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alysis &amp;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tive process / 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el Interaction techniq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68360" y="3213000"/>
            <a:ext cx="8209080" cy="1928880"/>
            <a:chOff x="468360" y="3213000"/>
            <a:chExt cx="8209080" cy="1928880"/>
          </a:xfrm>
        </p:grpSpPr>
        <p:sp>
          <p:nvSpPr>
            <p:cNvPr id="513" name=""/>
            <p:cNvSpPr txBox="1"/>
            <p:nvPr/>
          </p:nvSpPr>
          <p:spPr>
            <a:xfrm>
              <a:off x="468360" y="3213000"/>
              <a:ext cx="3960720" cy="19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Reliability</a:t>
              </a:r>
              <a:endPara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4716360" y="3213000"/>
              <a:ext cx="3961080" cy="19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Usability</a:t>
              </a:r>
              <a:endPara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CC4-0FB0-48BC-94A5-1A9917657903}" type="slidenum">
              <a:t>13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What are we aiming at 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applications (one application, every kind of applic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User Interfaces (basic, compl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d of users (skills, expertise in the domain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readsheets are really good for building a fairly reduced kind of application, basic UI and by a significant amount of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. Lamport "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tomaton is a formal description technique dedicated to the specification of stack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B1E-3B1B-4E34-B511-43C2A9296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LIIHS-IRIT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the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Engineering for Human-Comput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description techniques and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aling with modeling power than with usability of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r traffic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tary systems (command &amp; control syste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AF1-16E4-421B-A547-87CCC86B7F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LIIHS-IRIT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I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tenured people mainly HCI (CS and human fa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PhD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IT about 400 people (mainly in 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lys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gn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d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a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ety-crit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ror-tolera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stems) 4 years (starting 11/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CC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ltimod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a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stems f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mand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rol) 3 years starting 01/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IDER We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totyping for us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gn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gineering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engineering for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 started July 2002 (2 yea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82F-7429-41D9-B89B-C3E5E5ECA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 are what we publish ;-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-Computer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S HCI, DSVIS, EHCI, HCI Aeronautics, INTERACT, Interacting with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PSLA, ECOOP, D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Method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PN (Petri Net conference), FM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Langu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. Journal on Visual Languages and Comp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Based Approac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UI, TAMODIA, IEEE Rapid System 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Factors and th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ED8-BB76-4321-B792-B5F49D487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 Results Relevant to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UD-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t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ormal notation: 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teractive editor: Pet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-centered design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ing tasks, scenarios, system and use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rationale (not presented h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lage (work with S. Chatty at CE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otation: Whiz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ditor: Whizz'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09D-77C1-4031-AC36-156F2937B3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9364" t="13441" r="27219" b="12065"/>
          <a:stretch/>
        </p:blipFill>
        <p:spPr>
          <a:xfrm>
            <a:off x="0" y="0"/>
            <a:ext cx="5208480" cy="632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990720"/>
            <a:ext cx="137160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14600" y="152280"/>
            <a:ext cx="6629040" cy="1905120"/>
            <a:chOff x="2514600" y="152280"/>
            <a:chExt cx="6629040" cy="1905120"/>
          </a:xfrm>
        </p:grpSpPr>
        <p:grpSp>
          <p:nvGrpSpPr>
            <p:cNvPr id="165" name=""/>
            <p:cNvGrpSpPr/>
            <p:nvPr/>
          </p:nvGrpSpPr>
          <p:grpSpPr>
            <a:xfrm>
              <a:off x="2522160" y="155880"/>
              <a:ext cx="6612480" cy="1897200"/>
              <a:chOff x="2522160" y="155880"/>
              <a:chExt cx="6612480" cy="18972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522160" y="155880"/>
                <a:ext cx="2748240" cy="450720"/>
                <a:chOff x="2522160" y="155880"/>
                <a:chExt cx="2748240" cy="450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522160" y="155880"/>
                  <a:ext cx="274824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2522160" y="155880"/>
                  <a:ext cx="2747880" cy="450720"/>
                  <a:chOff x="2522160" y="155880"/>
                  <a:chExt cx="2747880" cy="450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2594880" y="155880"/>
                    <a:ext cx="2601360" cy="450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Widg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522160" y="155880"/>
                    <a:ext cx="2747880" cy="45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5270760" y="155880"/>
                <a:ext cx="1960560" cy="901080"/>
                <a:chOff x="5270760" y="155880"/>
                <a:chExt cx="1960560" cy="9010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70760" y="155880"/>
                  <a:ext cx="19605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270760" y="155880"/>
                  <a:ext cx="1960200" cy="901080"/>
                  <a:chOff x="5270760" y="155880"/>
                  <a:chExt cx="1960200" cy="9010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343480" y="155880"/>
                    <a:ext cx="1813680" cy="90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Even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70760" y="155880"/>
                    <a:ext cx="1960200" cy="90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7231680" y="155880"/>
                <a:ext cx="1902960" cy="901080"/>
                <a:chOff x="7231680" y="155880"/>
                <a:chExt cx="1902960" cy="901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231680" y="155880"/>
                  <a:ext cx="19029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7231680" y="155880"/>
                  <a:ext cx="1902600" cy="901080"/>
                  <a:chOff x="7231680" y="155880"/>
                  <a:chExt cx="1902600" cy="9010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304400" y="155880"/>
                    <a:ext cx="1756800" cy="90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Servic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31680" y="155880"/>
                    <a:ext cx="1902600" cy="90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"/>
              <p:cNvGrpSpPr/>
              <p:nvPr/>
            </p:nvGrpSpPr>
            <p:grpSpPr>
              <a:xfrm>
                <a:off x="2522160" y="606600"/>
                <a:ext cx="1599840" cy="450360"/>
                <a:chOff x="2522160" y="606600"/>
                <a:chExt cx="1599840" cy="450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522160" y="606600"/>
                  <a:ext cx="1599840" cy="45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2522160" y="606600"/>
                  <a:ext cx="1599480" cy="450360"/>
                  <a:chOff x="2522160" y="606600"/>
                  <a:chExt cx="1599480" cy="4503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594880" y="606600"/>
                    <a:ext cx="1452960" cy="45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Plac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522160" y="606600"/>
                    <a:ext cx="1599480" cy="45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4122360" y="606600"/>
                <a:ext cx="1147680" cy="450360"/>
                <a:chOff x="4122360" y="606600"/>
                <a:chExt cx="1147680" cy="4503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122360" y="606600"/>
                  <a:ext cx="1147680" cy="45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122360" y="606600"/>
                  <a:ext cx="1147320" cy="450360"/>
                  <a:chOff x="4122360" y="606600"/>
                  <a:chExt cx="1147320" cy="450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195080" y="606600"/>
                    <a:ext cx="1000800" cy="45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yp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122360" y="606600"/>
                    <a:ext cx="1147320" cy="450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2522160" y="1056960"/>
                <a:ext cx="1599840" cy="450720"/>
                <a:chOff x="2522160" y="1056960"/>
                <a:chExt cx="1599840" cy="4507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594880" y="1056960"/>
                  <a:ext cx="145332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22160" y="1056960"/>
                  <a:ext cx="159984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22360" y="1056960"/>
                <a:ext cx="1147680" cy="450720"/>
                <a:chOff x="4122360" y="1056960"/>
                <a:chExt cx="1147680" cy="4507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195080" y="1056960"/>
                  <a:ext cx="100116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22360" y="1056960"/>
                  <a:ext cx="114768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270760" y="1056960"/>
                <a:ext cx="1960560" cy="450720"/>
                <a:chOff x="5270760" y="1056960"/>
                <a:chExt cx="1960560" cy="450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343480" y="1056960"/>
                  <a:ext cx="18140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abeCl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70760" y="1056960"/>
                  <a:ext cx="196056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231680" y="1056960"/>
                <a:ext cx="1902960" cy="450720"/>
                <a:chOff x="7231680" y="1056960"/>
                <a:chExt cx="1902960" cy="450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304400" y="1056960"/>
                  <a:ext cx="1757160" cy="450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userAssu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231680" y="1056960"/>
                  <a:ext cx="1902960" cy="45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522160" y="1507680"/>
                <a:ext cx="1599840" cy="545400"/>
                <a:chOff x="2522160" y="1507680"/>
                <a:chExt cx="1599840" cy="5454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594880" y="1507680"/>
                  <a:ext cx="14533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ssumed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22160" y="1507680"/>
                  <a:ext cx="159984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122360" y="1507680"/>
                <a:ext cx="1147680" cy="545400"/>
                <a:chOff x="4122360" y="1507680"/>
                <a:chExt cx="1147680" cy="545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195080" y="1507680"/>
                  <a:ext cx="10011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22360" y="1507680"/>
                  <a:ext cx="114768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270760" y="1507680"/>
                <a:ext cx="1960560" cy="545400"/>
                <a:chOff x="5270760" y="1507680"/>
                <a:chExt cx="1960560" cy="545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43480" y="1507680"/>
                  <a:ext cx="1814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ButtonCl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70760" y="1507680"/>
                  <a:ext cx="196056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231680" y="1507680"/>
                <a:ext cx="1902960" cy="545400"/>
                <a:chOff x="7231680" y="1507680"/>
                <a:chExt cx="1902960" cy="545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304400" y="1507680"/>
                  <a:ext cx="17571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7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userOpenMenu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31680" y="1507680"/>
                  <a:ext cx="190296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2514600" y="152280"/>
              <a:ext cx="6629040" cy="1905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21880" y="213372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33042" t="28960" r="22169" b="39921"/>
          <a:stretch/>
        </p:blipFill>
        <p:spPr>
          <a:xfrm>
            <a:off x="4267080" y="2514600"/>
            <a:ext cx="3990960" cy="3054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5715000"/>
            <a:ext cx="5105520" cy="76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4920" y="5562720"/>
            <a:ext cx="7238520" cy="1066680"/>
            <a:chOff x="304920" y="5562720"/>
            <a:chExt cx="7238520" cy="1066680"/>
          </a:xfrm>
        </p:grpSpPr>
        <p:grpSp>
          <p:nvGrpSpPr>
            <p:cNvPr id="220" name=""/>
            <p:cNvGrpSpPr/>
            <p:nvPr/>
          </p:nvGrpSpPr>
          <p:grpSpPr>
            <a:xfrm>
              <a:off x="311400" y="5566680"/>
              <a:ext cx="7224120" cy="1058040"/>
              <a:chOff x="311400" y="5566680"/>
              <a:chExt cx="7224120" cy="1058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11400" y="5566680"/>
                <a:ext cx="2513880" cy="529200"/>
                <a:chOff x="311400" y="5566680"/>
                <a:chExt cx="2513880" cy="529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11400" y="5566680"/>
                  <a:ext cx="251388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1400" y="5566680"/>
                  <a:ext cx="2513520" cy="529200"/>
                  <a:chOff x="311400" y="5566680"/>
                  <a:chExt cx="2513520" cy="5292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2960" y="5566680"/>
                    <a:ext cx="239004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ObCS Elemen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1400" y="5566680"/>
                    <a:ext cx="251352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2825640" y="5566680"/>
                <a:ext cx="2035800" cy="529200"/>
                <a:chOff x="2825640" y="5566680"/>
                <a:chExt cx="2035800" cy="529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825640" y="5566680"/>
                  <a:ext cx="203580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2825640" y="5566680"/>
                  <a:ext cx="2035440" cy="529200"/>
                  <a:chOff x="2825640" y="5566680"/>
                  <a:chExt cx="2035440" cy="529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887560" y="5566680"/>
                    <a:ext cx="191160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Featur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825640" y="5566680"/>
                    <a:ext cx="203544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4862160" y="5566680"/>
                <a:ext cx="2673360" cy="529200"/>
                <a:chOff x="4862160" y="5566680"/>
                <a:chExt cx="2673360" cy="529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862160" y="5566680"/>
                  <a:ext cx="2673360" cy="52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4862160" y="5566680"/>
                  <a:ext cx="2673000" cy="529200"/>
                  <a:chOff x="4862160" y="5566680"/>
                  <a:chExt cx="2673000" cy="5292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4924080" y="5566680"/>
                    <a:ext cx="2549160" cy="52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Rendering metho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862160" y="5566680"/>
                    <a:ext cx="26730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311400" y="6095880"/>
                <a:ext cx="2513880" cy="528840"/>
                <a:chOff x="311400" y="6095880"/>
                <a:chExt cx="2513880" cy="528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72960" y="6095880"/>
                  <a:ext cx="23904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lace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Pla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11400" y="6095880"/>
                  <a:ext cx="25138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825640" y="6095880"/>
                <a:ext cx="2035800" cy="528840"/>
                <a:chOff x="2825640" y="6095880"/>
                <a:chExt cx="2035800" cy="528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887560" y="6095880"/>
                  <a:ext cx="19119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token &lt;p&gt; entere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25640" y="6095880"/>
                  <a:ext cx="203580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862160" y="6095880"/>
                <a:ext cx="2673360" cy="528840"/>
                <a:chOff x="4862160" y="6095880"/>
                <a:chExt cx="2673360" cy="5288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924080" y="6095880"/>
                  <a:ext cx="254952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.show(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862160" y="6095880"/>
                  <a:ext cx="26733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304920" y="5562720"/>
              <a:ext cx="7238520" cy="106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258320" y="58770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)Re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3960" y="24382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)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171840" y="5943240"/>
            <a:ext cx="1143000" cy="2286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543440" y="1980720"/>
            <a:ext cx="1143000" cy="2286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2362320"/>
            <a:ext cx="1676520" cy="68580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83920" y="21337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)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219320" y="1981080"/>
            <a:ext cx="761760" cy="53352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B20-0F5F-49D0-8504-7D874BF2C6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tSho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interactive tool support for the ICO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methods can be usable (and useful beyond n! calcul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ning the Path from Specification to Prototyp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actically no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-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ecification model is embedded and interpreted at run-time WYMIWYR (what you model is what you run) to reduce gaps in interpretation (Norman's 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“Modes” : no “automation surpris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del is editable and interpretable at any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for interactive prototyping of new interaction scen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206-8BF8-4F37-B1A3-E9213A526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49360"/>
            <a:ext cx="7667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195640" y="2924280"/>
            <a:ext cx="936360" cy="144144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627280" y="3860280"/>
            <a:ext cx="576360" cy="50508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6238800"/>
            <a:ext cx="2089080" cy="14292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03640" y="4653000"/>
            <a:ext cx="433440" cy="21600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203640" y="2662200"/>
            <a:ext cx="5761080" cy="3862440"/>
            <a:chOff x="3203640" y="2662200"/>
            <a:chExt cx="5761080" cy="3862440"/>
          </a:xfrm>
        </p:grpSpPr>
        <p:sp>
          <p:nvSpPr>
            <p:cNvPr id="261" name=""/>
            <p:cNvSpPr/>
            <p:nvPr/>
          </p:nvSpPr>
          <p:spPr>
            <a:xfrm>
              <a:off x="3203640" y="2662200"/>
              <a:ext cx="1512720" cy="47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78136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95640" y="3141720"/>
              <a:ext cx="26676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45040" y="4762440"/>
              <a:ext cx="208080" cy="38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56160" y="3970440"/>
              <a:ext cx="166680" cy="3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48000" y="3552840"/>
              <a:ext cx="1474920" cy="43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9640" y="3645000"/>
              <a:ext cx="129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35280" y="4346640"/>
              <a:ext cx="1557360" cy="595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8360" y="4367160"/>
              <a:ext cx="141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chitecture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5133960"/>
              <a:ext cx="1353960" cy="600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7640" y="5162400"/>
              <a:ext cx="1439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Detailed 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8440" y="5135400"/>
              <a:ext cx="1160280" cy="669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7640" y="5229360"/>
              <a:ext cx="779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Unitary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0640" y="4348080"/>
              <a:ext cx="1792080" cy="593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4000" y="4365720"/>
              <a:ext cx="158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mplementation and t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2762280"/>
              <a:ext cx="1584360" cy="436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24720" y="2878200"/>
              <a:ext cx="13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8960" y="3556080"/>
              <a:ext cx="1265400" cy="43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77200" y="3676680"/>
              <a:ext cx="112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92720" y="6165720"/>
              <a:ext cx="1366920" cy="35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0000" y="616572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64000" y="5734080"/>
              <a:ext cx="28764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084720" y="5805360"/>
              <a:ext cx="287640" cy="34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804000" y="4941720"/>
              <a:ext cx="216000" cy="18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396200" y="3990600"/>
              <a:ext cx="260280" cy="3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999560" y="3206880"/>
              <a:ext cx="250560" cy="34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858920" y="3789360"/>
              <a:ext cx="25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219640" y="4653000"/>
              <a:ext cx="151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78560" y="260280"/>
            <a:ext cx="3098160" cy="3359160"/>
            <a:chOff x="178560" y="260280"/>
            <a:chExt cx="3098160" cy="3359160"/>
          </a:xfrm>
        </p:grpSpPr>
        <p:sp>
          <p:nvSpPr>
            <p:cNvPr id="290" name=""/>
            <p:cNvSpPr/>
            <p:nvPr/>
          </p:nvSpPr>
          <p:spPr>
            <a:xfrm>
              <a:off x="179280" y="260280"/>
              <a:ext cx="1656000" cy="771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280" y="260280"/>
              <a:ext cx="1619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reliminar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280" y="1700280"/>
              <a:ext cx="987480" cy="465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8560" y="1773360"/>
              <a:ext cx="96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to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36760" y="1413000"/>
              <a:ext cx="1839960" cy="833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76360" y="1557360"/>
              <a:ext cx="18003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User's 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920" y="2565360"/>
              <a:ext cx="1297080" cy="1054080"/>
            </a:xfrm>
            <a:custGeom>
              <a:avLst/>
              <a:gdLst/>
              <a:ahLst/>
              <a:rect l="l" t="t" r="r" b="b"/>
              <a:pathLst>
                <a:path w="764" h="767">
                  <a:moveTo>
                    <a:pt x="380" y="0"/>
                  </a:moveTo>
                  <a:lnTo>
                    <a:pt x="764" y="385"/>
                  </a:lnTo>
                  <a:lnTo>
                    <a:pt x="384" y="767"/>
                  </a:lnTo>
                  <a:lnTo>
                    <a:pt x="0" y="38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8920" y="2492280"/>
              <a:ext cx="32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88920" y="2836800"/>
              <a:ext cx="174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9640" y="3068640"/>
              <a:ext cx="719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09640" y="2970360"/>
              <a:ext cx="595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6000" y="2944800"/>
              <a:ext cx="106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dequat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19200" y="2836800"/>
              <a:ext cx="1461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39640" y="24922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8000" y="2276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6920" y="1052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87280" y="1916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9640" y="220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56000" y="2349360"/>
            <a:ext cx="2374920" cy="719280"/>
            <a:chOff x="2556000" y="2349360"/>
            <a:chExt cx="2374920" cy="719280"/>
          </a:xfrm>
        </p:grpSpPr>
        <p:sp>
          <p:nvSpPr>
            <p:cNvPr id="309" name=""/>
            <p:cNvSpPr/>
            <p:nvPr/>
          </p:nvSpPr>
          <p:spPr>
            <a:xfrm flipV="1">
              <a:off x="2556000" y="256536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349360"/>
              <a:ext cx="1727280" cy="432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56000" y="3068640"/>
            <a:ext cx="2303280" cy="792000"/>
            <a:chOff x="2556000" y="3068640"/>
            <a:chExt cx="2303280" cy="792000"/>
          </a:xfrm>
        </p:grpSpPr>
        <p:sp>
          <p:nvSpPr>
            <p:cNvPr id="312" name=""/>
            <p:cNvSpPr/>
            <p:nvPr/>
          </p:nvSpPr>
          <p:spPr>
            <a:xfrm>
              <a:off x="3132000" y="3429000"/>
              <a:ext cx="1727280" cy="4316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l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6000" y="3068640"/>
              <a:ext cx="576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39640" y="1773360"/>
            <a:ext cx="2806920" cy="4464000"/>
            <a:chOff x="539640" y="1773360"/>
            <a:chExt cx="2806920" cy="4464000"/>
          </a:xfrm>
        </p:grpSpPr>
        <p:grpSp>
          <p:nvGrpSpPr>
            <p:cNvPr id="315" name=""/>
            <p:cNvGrpSpPr/>
            <p:nvPr/>
          </p:nvGrpSpPr>
          <p:grpSpPr>
            <a:xfrm>
              <a:off x="539640" y="3573360"/>
              <a:ext cx="2775240" cy="2664000"/>
              <a:chOff x="539640" y="3573360"/>
              <a:chExt cx="2775240" cy="266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1908000" y="3573360"/>
                <a:ext cx="0" cy="792360"/>
              </a:xfrm>
              <a:prstGeom prst="line">
                <a:avLst/>
              </a:prstGeom>
              <a:ln w="90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9640" y="4394160"/>
                <a:ext cx="2670120" cy="1843200"/>
              </a:xfrm>
              <a:prstGeom prst="rect">
                <a:avLst/>
              </a:prstGeom>
              <a:solidFill>
                <a:srgbClr val="ffffff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4360" y="4437000"/>
                <a:ext cx="2376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quirem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Formal specific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4360" y="5156280"/>
                <a:ext cx="2292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Hi-fidelity prototyp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84360" y="5877000"/>
                <a:ext cx="2630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360" y="5516640"/>
                <a:ext cx="22064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ftware Architec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268280" y="177336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&amp; 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V="1">
            <a:off x="3276720" y="5444640"/>
            <a:ext cx="1150920" cy="180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6360" y="259920"/>
            <a:ext cx="280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tSho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023-B594-48DB-8CE5-F1683F56D640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 Centered Design Metho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395600">
            <a:off x="3059280" y="3789360"/>
            <a:ext cx="2663640" cy="525600"/>
          </a:xfrm>
          <a:prstGeom prst="leftRightArrow">
            <a:avLst>
              <a:gd name="adj1" fmla="val 50000"/>
              <a:gd name="adj2" fmla="val 10088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5157720"/>
            <a:ext cx="2376360" cy="432000"/>
          </a:xfrm>
          <a:prstGeom prst="rightArrow">
            <a:avLst>
              <a:gd name="adj1" fmla="val 50000"/>
              <a:gd name="adj2" fmla="val 13752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0920" y="2638440"/>
            <a:ext cx="2952720" cy="3311280"/>
            <a:chOff x="250920" y="2638440"/>
            <a:chExt cx="2952720" cy="3311280"/>
          </a:xfrm>
        </p:grpSpPr>
        <p:sp>
          <p:nvSpPr>
            <p:cNvPr id="329" name=""/>
            <p:cNvSpPr/>
            <p:nvPr/>
          </p:nvSpPr>
          <p:spPr>
            <a:xfrm>
              <a:off x="468360" y="3207960"/>
              <a:ext cx="2521080" cy="520560"/>
            </a:xfrm>
            <a:prstGeom prst="foldedCorner">
              <a:avLst>
                <a:gd name="adj" fmla="val 12500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ask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8360" y="5146200"/>
              <a:ext cx="2521080" cy="520560"/>
            </a:xfrm>
            <a:prstGeom prst="foldedCorner">
              <a:avLst>
                <a:gd name="adj" fmla="val 12500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Scen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1007640" y="4179960"/>
              <a:ext cx="1224000" cy="5760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50920" y="2638440"/>
              <a:ext cx="2952720" cy="3311280"/>
              <a:chOff x="250920" y="2638440"/>
              <a:chExt cx="2952720" cy="3311280"/>
            </a:xfrm>
          </p:grpSpPr>
          <p:sp>
            <p:nvSpPr>
              <p:cNvPr id="333" name=""/>
              <p:cNvSpPr/>
              <p:nvPr/>
            </p:nvSpPr>
            <p:spPr>
              <a:xfrm>
                <a:off x="250920" y="2875320"/>
                <a:ext cx="2952720" cy="307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 anchorCtr="1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6160" y="2638440"/>
                <a:ext cx="880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T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4932360" y="1700280"/>
            <a:ext cx="3995640" cy="4322520"/>
            <a:chOff x="4932360" y="1700280"/>
            <a:chExt cx="3995640" cy="4322520"/>
          </a:xfrm>
        </p:grpSpPr>
        <p:sp>
          <p:nvSpPr>
            <p:cNvPr id="336" name=""/>
            <p:cNvSpPr/>
            <p:nvPr/>
          </p:nvSpPr>
          <p:spPr>
            <a:xfrm>
              <a:off x="5724360" y="4641480"/>
              <a:ext cx="2521080" cy="1349280"/>
            </a:xfrm>
            <a:prstGeom prst="foldedCorner">
              <a:avLst>
                <a:gd name="adj" fmla="val 125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Formal Description of the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2494080"/>
              <a:ext cx="649080" cy="208728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365040 h 2087280"/>
                <a:gd name="textAreaBottom" fmla="*/ 151344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793489"/>
                  <a:lnTo>
                    <a:pt x="14804" y="21216"/>
                  </a:lnTo>
                  <a:lnTo>
                    <a:pt x="21600" y="17280"/>
                  </a:lnTo>
                  <a:lnTo>
                    <a:pt x="14804" y="12576"/>
                  </a:lnTo>
                  <a:lnTo>
                    <a:pt x="14804" y="14736"/>
                  </a:lnTo>
                  <a:arcTo wR="21600" hR="7560" stAng="8006511" swAng="2436054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9920" y="2997360"/>
              <a:ext cx="192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High-fidelity</a:t>
              </a:r>
              <a:br>
                <a:rPr sz="2400"/>
              </a:b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prototy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7740000" y="2420280"/>
              <a:ext cx="649080" cy="2087640"/>
            </a:xfrm>
            <a:custGeom>
              <a:avLst/>
              <a:gdLst>
                <a:gd name="textAreaLeft" fmla="*/ 86760 w 649080"/>
                <a:gd name="textAreaRight" fmla="*/ 562320 w 649080"/>
                <a:gd name="textAreaTop" fmla="*/ 365040 h 2087640"/>
                <a:gd name="textAreaBottom" fmla="*/ 15134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793489"/>
                  <a:lnTo>
                    <a:pt x="14804" y="21216"/>
                  </a:lnTo>
                  <a:lnTo>
                    <a:pt x="21600" y="17280"/>
                  </a:lnTo>
                  <a:lnTo>
                    <a:pt x="14804" y="12576"/>
                  </a:lnTo>
                  <a:lnTo>
                    <a:pt x="14804" y="14736"/>
                  </a:lnTo>
                  <a:arcTo wR="21600" hR="7560" stAng="8006511" swAng="2436054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932360" y="1989000"/>
              <a:ext cx="3995640" cy="4033800"/>
              <a:chOff x="4932360" y="1989000"/>
              <a:chExt cx="3995640" cy="4033800"/>
            </a:xfrm>
          </p:grpSpPr>
          <p:sp>
            <p:nvSpPr>
              <p:cNvPr id="341" name=""/>
              <p:cNvSpPr/>
              <p:nvPr/>
            </p:nvSpPr>
            <p:spPr>
              <a:xfrm>
                <a:off x="4932360" y="2277720"/>
                <a:ext cx="3995640" cy="3745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t" anchorCtr="1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45840" y="1989000"/>
                <a:ext cx="128844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ahoma"/>
                  </a:rPr>
                  <a:t>PetSho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43" name=""/>
            <p:cNvGraphicFramePr/>
            <p:nvPr/>
          </p:nvGraphicFramePr>
          <p:xfrm>
            <a:off x="6443640" y="1700280"/>
            <a:ext cx="11430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3640" y="1700280"/>
                      <a:ext cx="11430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A35-98AA-4FBA-B8F7-42182C822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9:12:55Z</dcterms:created>
  <dc:creator>Phil</dc:creator>
  <dc:description/>
  <dc:language>en-US</dc:language>
  <cp:lastModifiedBy>Phil</cp:lastModifiedBy>
  <dcterms:modified xsi:type="dcterms:W3CDTF">2002-09-23T16:02:34Z</dcterms:modified>
  <cp:revision>140</cp:revision>
  <dc:subject/>
  <dc:title>Diapositive 1</dc:title>
</cp:coreProperties>
</file>