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0A2B-AC48-406B-B524-1D9D21044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DODEs and derivatives are pas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E - Macro rec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programming/ PBE – in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the question of declarative programming paradigm at its purist Nik argues that it is possibly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his is an additional slide, recommended by Nik to back up the other work we are doing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bstraction can be controllable by the end-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ser can work with predefined agents representing concrete metaph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drop down to the more abstract to define new agents as nee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ontology is produced from textual DL called GR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S uses concrete representations straight from the dom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ope is highly task and domain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takes the users requirements and specifies the software that will be executed. Therefore acti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iti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S- Baker Gobel et al. IMG at Manchester working with school of biological science. Task and domain specific EUD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xpressed via a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spective of sensory chann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(and attributes) +sensory channel = modality (Bern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n-Linguistic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onic/Visual Programming has syntax and semantics therefore a langu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teresting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Programming arguing visual is inherently natural (concrete) because it visual!, claim that the lack of language (in the textual sense) also makes it more concrete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 Of Ab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sation – to generalise need to be abst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e metaphors- Forcing thinking about domain in terms of objects when more natural in terms of fl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of Domain- Highly abstract in re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blem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ming as problem s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k the end-user is using the EUD tool to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s of 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ing complete – powerful as mainstream languages a matter of skill and effort on part of progr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s of Task and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task is user:  searching for information OR searching fo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iochemic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21A5-B646-4B54-9524-A64DFB82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208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D35-7991-4BB2-BA1D-AD64C7B8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73F-30C5-40F8-BB3F-F4BE1680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88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9886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208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208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208040"/>
            <a:ext cx="264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A6A-E4F0-44A9-B717-28D22F60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06D-CC57-4876-8467-2FDE4F1C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261-F5FE-4647-828A-186BB550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440-F613-44F5-84AC-5AAEC897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B33-951A-4364-B0B8-BCBCE0BF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53B-B6DE-4DCF-8349-0C722EAB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26F-9FE0-4B24-900B-5DDDE5DC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2080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C61-4BAF-4E81-855D-FF0C80C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88640"/>
            <a:ext cx="40158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8040"/>
            <a:ext cx="8229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C7C-244F-4E27-8CAC-7E42360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8455-6810-4481-A8F1-C5571AEA0A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298440" cy="360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55640" y="43020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artment of Comp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Comparative Framework for End User Developmen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stair Sutclif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ikolay Mehandjiev, Darren Le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ment  Of Compu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M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chester, UK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ystem Initiativ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ee of user responsibility for specifying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driven- language or composable arte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y supported by a critiqu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chine tracks user behaviour and infers a software solution- assumes an existing artef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intervenes to help design –partial initi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hine generates solution from natural language instructions or observes RW and learns- frontiers of A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19700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ctive Vs Pass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6AB-5C7E-43DE-8D61-2204030356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issu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cial Context of E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Collaborative EUD and EUD of CSCW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utocratic Vs Democratic and Individual Vs Group EU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Communities of EUD developers, markets for components, scripts, et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 Communicatio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ensory channel  (Modality)- audio, visual, hap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odality + Representation = EUD Paradig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Usability, User Cognition and Cognitive Dimen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chine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arency and  Execution Vs Interpret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ntegration with Software Engineering Paradigms- OO, Agents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Software reuse .legacy integ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156-9F5B-4DA3-8FB5-5C215953A0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sychological issues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08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ability and complex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ing or display based 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uitiveness, affordances, and transpar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cost,  effort and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743-C0C7-4E9D-B925-A5D58226B8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velop or Adapt 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74563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iloring, customisation, personalisation- low effort, limited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guration, design by composition- more effort, improved scope but limited b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led design- high effort, good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requirements + machine designs- low effort, good 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29600" y="1828800"/>
            <a:ext cx="0" cy="36576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3080" y="609480"/>
            <a:ext cx="1325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067-6A62-4E7C-BD1F-9253054C5D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D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2637000"/>
            <a:ext cx="196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67000"/>
            <a:ext cx="8351640" cy="69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chitecture for reducing the conceptual distance between the problem-domain and solution artef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amming as construction and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s programming as argumentative process between system and user. Critiquing systems support this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world, editors, interpreter, solution templates, tutors, cr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DEs can evolve as the end-user becomes more skilled or the domain or task ch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D1A-E0C1-4C98-881B-7F50404C77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gentSheet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13000"/>
            <a:ext cx="8496000" cy="9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the DODEs concept by as a general purpose environment +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s true programmability through graphical if-then-else rules and simple message pa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e and domain independent tool for simulation and building executable program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 interactive graphical micro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 set of agents are implemented it becomes a domain specific to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167-9197-4062-8BBE-530CEFF46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AMBI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science databases use multiple query languages from SQL to natural languag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ology, thesaurus, domain specific lexic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IS provides a visual ontology in which queries are built up through navigation of a 2D space representing the biochemistry doma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IS infers this navigation into the query language program for each of the databas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FAC-4EEA-4B86-B027-E5E4B060EC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The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DEs “Domain-Orientated Design Environments”. Fischer 1994 - Univ of Color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Sheets.  Repenning  1993 - Univ of Colo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IS  “Transparent Access to Multiple Bioinformatics Information”.  Goble et al 1999 - Univ Of Manch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B3C-9EB1-41BC-91F7-B948148A10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717-79DE-40E9-8780-7B70AA7698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3120" y="4098960"/>
            <a:ext cx="268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365720"/>
            <a:ext cx="2089080" cy="15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48000" y="2491920"/>
            <a:ext cx="2952720" cy="180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09F-0C6B-4335-8207-4FC6F072B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contribution from different strands of EUD research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ose research issues and indicate a future research agen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ct as a critical evaluation tool for EUD environments and system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EDF-51A8-4E23-990B-F69C485F5D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1332000" y="1916280"/>
            <a:ext cx="4752360" cy="1581120"/>
            <a:chOff x="1332000" y="1916280"/>
            <a:chExt cx="4752360" cy="1581120"/>
          </a:xfrm>
        </p:grpSpPr>
        <p:sp>
          <p:nvSpPr>
            <p:cNvPr id="145" name=""/>
            <p:cNvSpPr/>
            <p:nvPr/>
          </p:nvSpPr>
          <p:spPr>
            <a:xfrm>
              <a:off x="1332000" y="1916280"/>
              <a:ext cx="2172600" cy="1581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ss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crete/abstr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71920" y="2345400"/>
              <a:ext cx="2512440" cy="12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1E1-012A-4982-BB0F-ACCCF0C411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716360" y="4221000"/>
            <a:ext cx="2952720" cy="15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and Domain 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64000" y="2492280"/>
            <a:ext cx="1295640" cy="172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ED0-3FA9-4F72-B095-A34067FEBE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628640"/>
            <a:ext cx="756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628640"/>
            <a:ext cx="25923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work  based on common themes across research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s the comparison of tools and the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ill help to identify trends and areas for future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5977080" cy="46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A38-7511-405D-8C8E-7F31BA3275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ging paradigms- NL with interactive worlds, inference to help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freedom, expression and assistance-where is the trade off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ce sensor integration, solution power and learnability trade 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able composable development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D or design support environment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A48-9BD2-41B3-A488-54341E066F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hallenges II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 user requirements languages- integration of symbolic programming and clarification dialogues (NL research with SE/H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traction trade offs- general or domain specific EUD environ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aping from the expert knowledge bottleneck- learning or intel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quisition en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olutionary computing and EUD- users set parameters for generated sol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o-technical solutions- design for user motivation and re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117-B2ED-473A-BE3D-5439D79ED9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framework and research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ramework in a critical review of existing EUD tools and the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 an industrial survey to identify successful commercial applications of EUD tools and techn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5FB-9FED-4296-9C23-D18C46E566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sition In 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659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148360" y="4292640"/>
            <a:ext cx="2089080" cy="15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59280" y="4076280"/>
            <a:ext cx="201744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264-F276-4D9E-9BA9-0C98C5E2BC3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pproach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0440" y="1447920"/>
            <a:ext cx="82231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iterature survey across the spectrum of disciplines associated with End-User Developmen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6000" y="2852640"/>
            <a:ext cx="158400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2852640"/>
            <a:ext cx="158436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io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3284640"/>
            <a:ext cx="1584360" cy="79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rtif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2421000"/>
            <a:ext cx="1584360" cy="792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933720"/>
            <a:ext cx="158436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076640"/>
            <a:ext cx="158436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Psycholog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f programm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514600"/>
            <a:ext cx="1584360" cy="914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HCI  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gni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45000"/>
            <a:ext cx="820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ly evaluate research and industrial state of the art, create a review pap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076640"/>
            <a:ext cx="1584000" cy="7923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5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S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FAF-F06E-4B65-BF50-3F20FCCC5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mework Dimension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140360" y="1844640"/>
          <a:ext cx="4498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4498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68360" y="270828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34792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773360"/>
            <a:ext cx="331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ature of the re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the programming 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computer and end-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360" y="2924280"/>
            <a:ext cx="2232000" cy="1152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5084640"/>
            <a:ext cx="331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26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01E-A078-4E8E-959C-184A2855C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mework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140360" y="1844640"/>
          <a:ext cx="4498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4498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256536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205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773360"/>
            <a:ext cx="331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ature of the re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the programming 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computer and end-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3141720"/>
            <a:ext cx="331164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readth of EUD problem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 can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5084640"/>
            <a:ext cx="331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3860640"/>
            <a:ext cx="3311640" cy="432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26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340-CD5E-4B01-9578-8ECC3E60A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amework 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140360" y="1844640"/>
          <a:ext cx="44989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44640"/>
                    <a:ext cx="44989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8360" y="2565360"/>
            <a:ext cx="27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20500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73360"/>
            <a:ext cx="331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ature of the represen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the programming 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computer and end-us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141720"/>
            <a:ext cx="331164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breadth of EUD problems 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 can sup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084640"/>
            <a:ext cx="3311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508640"/>
            <a:ext cx="3456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ee to which the user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d to directly specify softw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419640" y="4723920"/>
            <a:ext cx="2160360" cy="360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8F0-752D-479B-9B5C-E7612E6D99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presentation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8920" y="167652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dium for exchange of information between user and machi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tural or designed language- text, icons, graphic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linguistic representations- graphics, interactive microwolrds, TUIs, physical artefacts, augmented re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guistic  representations= abstract syntax + lexicon, text, symbolic, iconic, natural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ity of communication, audio, speech, visual, haptic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ain and representation interact. e.g. Mathematics Resear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1197000"/>
            <a:ext cx="597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bstract Vs Concre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FEA-DC3C-4459-80FA-B4A5F6E35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coverage of an EUD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al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ing-complete, any task in any domai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cture in the sense of Fischer’s D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ar environment with programm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cific Task - Doma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rizontal domains- e.g. finance, training, CAL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tical domains- e.g. ecommerce, bioinformatics,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systems tasks, support for tasks in the real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mension interaction inevitably occurs. Notabl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ral Purpo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Abstra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1197000"/>
            <a:ext cx="59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ask or Domain Specific Vs General Purp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C54-EBE2-4A37-B51C-9F80DA8E9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733920" y="1371600"/>
            <a:ext cx="1600200" cy="762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666880"/>
            <a:ext cx="1752840" cy="838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038480"/>
            <a:ext cx="1676160" cy="762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191120"/>
            <a:ext cx="1676520" cy="761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5410080"/>
            <a:ext cx="1600200" cy="685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7200" y="304920"/>
            <a:ext cx="4018320" cy="581400"/>
          </a:xfrm>
          <a:prstGeom prst="rect">
            <a:avLst/>
          </a:prstGeom>
          <a:noFill/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op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0" y="3211560"/>
            <a:ext cx="1285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&amp;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320" y="2743200"/>
            <a:ext cx="14533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3505320"/>
            <a:ext cx="1143000" cy="533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3505320"/>
            <a:ext cx="990720" cy="5331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800600"/>
            <a:ext cx="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3505320"/>
            <a:ext cx="533520" cy="3808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24120" y="3505320"/>
            <a:ext cx="838440" cy="6094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4DB-6688-44D2-8E21-F0C3321B64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9:18:30Z</dcterms:created>
  <dc:creator>Darren Lee</dc:creator>
  <dc:description/>
  <dc:language>en-US</dc:language>
  <cp:lastModifiedBy>sutcliffe</cp:lastModifiedBy>
  <dcterms:modified xsi:type="dcterms:W3CDTF">2002-09-24T14:50:45Z</dcterms:modified>
  <cp:revision>43</cp:revision>
  <dc:subject/>
  <dc:title>A Comparative Framework for End User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6031889</vt:r8>
  </property>
  <property fmtid="{D5CDD505-2E9C-101B-9397-08002B2CF9AE}" pid="3" name="_AuthorEmail">
    <vt:lpwstr>darren.lee@umist.ac.uk</vt:lpwstr>
  </property>
  <property fmtid="{D5CDD505-2E9C-101B-9397-08002B2CF9AE}" pid="4" name="_AuthorEmailDisplayName">
    <vt:lpwstr>Darren Lee</vt:lpwstr>
  </property>
  <property fmtid="{D5CDD505-2E9C-101B-9397-08002B2CF9AE}" pid="5" name="_EmailSubject">
    <vt:lpwstr>EUD.net Presentation</vt:lpwstr>
  </property>
</Properties>
</file>