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27.jpeg" ContentType="image/jpeg"/>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4.wmf" ContentType="image/x-wmf"/>
  <Override PartName="/ppt/media/image26.jpeg" ContentType="image/jpeg"/>
  <Override PartName="/ppt/media/image19.png" ContentType="image/png"/>
  <Override PartName="/ppt/media/image21.jpeg" ContentType="image/jpeg"/>
  <Override PartName="/ppt/media/image20.png" ContentType="image/png"/>
  <Override PartName="/ppt/media/image18.jpeg" ContentType="image/jpeg"/>
  <Override PartName="/ppt/media/image1.png" ContentType="image/png"/>
  <Override PartName="/ppt/media/image24.png" ContentType="image/png"/>
  <Override PartName="/ppt/media/image2.jpeg" ContentType="image/jpeg"/>
  <Override PartName="/ppt/media/image23.jpeg" ContentType="image/jpeg"/>
  <Override PartName="/ppt/media/image17.png" ContentType="image/png"/>
  <Override PartName="/ppt/media/image3.jpeg" ContentType="image/jpeg"/>
  <Override PartName="/ppt/media/image15.png" ContentType="image/png"/>
  <Override PartName="/ppt/media/image4.jpeg" ContentType="image/jpeg"/>
  <Override PartName="/ppt/media/image2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88138" cy="99647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88800" cy="996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2080" y="4736880"/>
            <a:ext cx="4905360" cy="4198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2"/>
          <p:cNvSpPr>
            <a:spLocks noGrp="1"/>
          </p:cNvSpPr>
          <p:nvPr>
            <p:ph type="sldImg"/>
          </p:nvPr>
        </p:nvSpPr>
        <p:spPr>
          <a:xfrm>
            <a:off x="1012320" y="864720"/>
            <a:ext cx="4665960" cy="3498840"/>
          </a:xfrm>
          <a:prstGeom prst="rect">
            <a:avLst/>
          </a:prstGeom>
          <a:noFill/>
          <a:ln w="12600">
            <a:solidFill>
              <a:srgbClr val="000000"/>
            </a:solidFill>
            <a:miter/>
          </a:ln>
        </p:spPr>
        <p:txBody>
          <a:bodyPr lIns="90000" rIns="90000" tIns="46800" bIns="4680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lick to move the slide</a:t>
            </a:r>
            <a:endParaRPr b="1" lang="en-US" sz="3300" spc="-1" strike="noStrike">
              <a:solidFill>
                <a:srgbClr val="00a88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63640" y="752400"/>
            <a:ext cx="4965840" cy="3724200"/>
          </a:xfrm>
          <a:prstGeom prst="rect">
            <a:avLst/>
          </a:prstGeom>
          <a:ln w="0">
            <a:noFill/>
          </a:ln>
        </p:spPr>
      </p:sp>
      <p:sp>
        <p:nvSpPr>
          <p:cNvPr id="391"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63640" y="752400"/>
            <a:ext cx="4965840" cy="3724200"/>
          </a:xfrm>
          <a:prstGeom prst="rect">
            <a:avLst/>
          </a:prstGeom>
          <a:ln w="0">
            <a:noFill/>
          </a:ln>
        </p:spPr>
      </p:sp>
      <p:sp>
        <p:nvSpPr>
          <p:cNvPr id="39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863640" y="752400"/>
            <a:ext cx="4965840" cy="3724200"/>
          </a:xfrm>
          <a:prstGeom prst="rect">
            <a:avLst/>
          </a:prstGeom>
          <a:ln w="0">
            <a:noFill/>
          </a:ln>
        </p:spPr>
      </p:sp>
      <p:sp>
        <p:nvSpPr>
          <p:cNvPr id="39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63640" y="752400"/>
            <a:ext cx="4965840" cy="3724200"/>
          </a:xfrm>
          <a:prstGeom prst="rect">
            <a:avLst/>
          </a:prstGeom>
          <a:ln w="0">
            <a:noFill/>
          </a:ln>
        </p:spPr>
      </p:sp>
      <p:sp>
        <p:nvSpPr>
          <p:cNvPr id="397"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63640" y="752400"/>
            <a:ext cx="4965840" cy="3724200"/>
          </a:xfrm>
          <a:prstGeom prst="rect">
            <a:avLst/>
          </a:prstGeom>
          <a:ln w="0">
            <a:noFill/>
          </a:ln>
        </p:spPr>
      </p:sp>
      <p:sp>
        <p:nvSpPr>
          <p:cNvPr id="399"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A Tourist should get access to location based services depending where he is in the city.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The content should be adapted to the interest of the user. The interaction should take into account the preferences of the use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The tourist should be able to roam between adjectend networks, without loosing his conection – the presentation should automatically be adapted to the quality of the network Video with WLAN and only speech/audio for GS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63640" y="752400"/>
            <a:ext cx="4965840" cy="3724200"/>
          </a:xfrm>
          <a:prstGeom prst="rect">
            <a:avLst/>
          </a:prstGeom>
          <a:ln w="0">
            <a:noFill/>
          </a:ln>
        </p:spPr>
      </p:sp>
      <p:sp>
        <p:nvSpPr>
          <p:cNvPr id="401"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63640" y="752400"/>
            <a:ext cx="4965840" cy="3724200"/>
          </a:xfrm>
          <a:prstGeom prst="rect">
            <a:avLst/>
          </a:prstGeom>
          <a:ln w="0">
            <a:noFill/>
          </a:ln>
        </p:spPr>
      </p:sp>
      <p:sp>
        <p:nvSpPr>
          <p:cNvPr id="40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In SAiMotion soll ein nomadisches Informationssystem entwickelt werden, das dem Benutzer personalisierte und situativ angepasste Informationen bereitstellt. Art und Umfang des Informationsbedarfs soll aus Benutzer-, Orts-, Umgebungs- und Aufgaben-Merkmalen erschlossen und antizipiert werden können. In SAiMotion soll ein Prototyp entwickelt werden, der Messebesuchern vor, während und nach dem Besuch der Messe aktiv mit Informationen und Services unterstütz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63640" y="752400"/>
            <a:ext cx="4965840" cy="3724200"/>
          </a:xfrm>
          <a:prstGeom prst="rect">
            <a:avLst/>
          </a:prstGeom>
          <a:ln w="0">
            <a:noFill/>
          </a:ln>
        </p:spPr>
      </p:sp>
      <p:sp>
        <p:nvSpPr>
          <p:cNvPr id="40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Arial"/>
              </a:rPr>
              <a:t>Es soll ein adaptives Informationssystems entwickelt werden, welches von der Messegesellschaft als besondere Dienstleistung für Aussteller und Besucher angeboten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SAiMotion-System liefert der Messegesellschaft und den Ausstellern wertvolle Planungshilfen über die Interessenprofile der tatsächlichen Messebesucher, über die besuchten Exponate und über die Besucherströme zu den oder an den Exponaten vorbei. Aussteller sind leichter erreichbar, z.B. für Besucher, die den Namen des Ausstellers nicht mit ihrem Problem in Verbindung br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 Besucher der Messe ermöglicht das SAiMotion-System einen effizienteren und stressärmeren Messebesuch, indem es ihn gezielt zu seinen Zielen führt und Informationsbedarf anhand von generierten Interessensprofilen antizipier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63640" y="752400"/>
            <a:ext cx="4965840" cy="3724200"/>
          </a:xfrm>
          <a:prstGeom prst="rect">
            <a:avLst/>
          </a:prstGeom>
          <a:ln w="0">
            <a:noFill/>
          </a:ln>
        </p:spPr>
      </p:sp>
      <p:sp>
        <p:nvSpPr>
          <p:cNvPr id="407"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Times New Roman"/>
              </a:rPr>
              <a:t>Es werden die Benutzer des SAiMotion-Systems mit der Information oder dem Service erreicht, den sie auch wünschen. Der Messebesucher wird schon bei der Vorbereitung der Messe am Arbeitsplatzrechner durch das SAiMotion-System unterstützt: Eine schnelle Übersicht über interessante Aussteller ist über annotierte Gelände- und Hallenpläne zugänglich. Informationen sind bereits geordnet nach den Interessen des Nutzers, die das System fortlaufend aus der tatsächlichen Navigation und den tatsächlichen Informationsaufrufen folgert. Terminvereinbarungen auf der Messe können geplant werden. Auf der Messe kann der Messebesucher sich von seinem PDA mit Ortungskomponenten zum gewünschten Aussteller leiten lassen. Er kann aber auch selbst durch die Messe streifen und sich darauf verlassen, dass das SAiMotion-System ihn auf für ihn interessante Aussteller oder Exponate (hotspots) hinweist. Das SAiMotion-System analysiert proaktiv den Informationsbedarf und macht den Messebesucher dynamisch auf Änderungen aufmerksam: eine verlegte Veranstaltung , eine Terminänderung etc.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63640" y="752400"/>
            <a:ext cx="4965840" cy="3724200"/>
          </a:xfrm>
          <a:prstGeom prst="rect">
            <a:avLst/>
          </a:prstGeom>
          <a:ln w="0">
            <a:noFill/>
          </a:ln>
        </p:spPr>
      </p:sp>
      <p:sp>
        <p:nvSpPr>
          <p:cNvPr id="409"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45 Light"/>
                <a:ea typeface="Times New Roman"/>
              </a:rPr>
              <a:t>Eine schnelle Übersicht über interessante Aussteller ist über annotierte Gelände- und Hallenpläne zugänglich.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852480" y="747720"/>
            <a:ext cx="4984920" cy="3736800"/>
          </a:xfrm>
          <a:prstGeom prst="rect">
            <a:avLst/>
          </a:prstGeom>
          <a:ln w="0">
            <a:noFill/>
          </a:ln>
        </p:spPr>
      </p:sp>
      <p:sp>
        <p:nvSpPr>
          <p:cNvPr id="411" name="PlaceHolder 2"/>
          <p:cNvSpPr>
            <a:spLocks noGrp="1"/>
          </p:cNvSpPr>
          <p:nvPr>
            <p:ph type="body"/>
          </p:nvPr>
        </p:nvSpPr>
        <p:spPr>
          <a:xfrm>
            <a:off x="890280" y="4733640"/>
            <a:ext cx="4908600" cy="4484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O Abb.2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63640" y="752400"/>
            <a:ext cx="4965840" cy="3724200"/>
          </a:xfrm>
          <a:prstGeom prst="rect">
            <a:avLst/>
          </a:prstGeom>
          <a:ln w="0">
            <a:noFill/>
          </a:ln>
        </p:spPr>
      </p:sp>
      <p:sp>
        <p:nvSpPr>
          <p:cNvPr id="413"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45 Light"/>
                <a:ea typeface="Arial"/>
              </a:rPr>
              <a:t>Es wird ein adaptives Informationssystems entwickelt, welches den Benutzer bei der Vorbereitung, der Durchführung und der Nachbereitung von zusammenhängenden Aktivitäten an verschiedenen Orten unterstützt. Im Gegensatz zu mobilen Geräten soll in SAiMotion ein nomadisches Informationssystem entwickelt werden, das den Benutzer durchgängig, unter Verknüpfung von stationären und mobilen Endgeräten unterstützt: An seinem Arbeitsplatzrechner, an seinem heimischen Rechner, an einem fremden Rechner und mobil auf dem PDA („Personal Digital Assistant“). Im Vergleich zu bekannten Ansätzen des</a:t>
            </a:r>
            <a:r>
              <a:rPr b="0" i="1" lang="de-DE" sz="1200" spc="-1" strike="noStrike">
                <a:solidFill>
                  <a:srgbClr val="000000"/>
                </a:solidFill>
                <a:latin typeface="Frutiger 45 Light"/>
                <a:ea typeface="Arial"/>
              </a:rPr>
              <a:t> location-aware</a:t>
            </a:r>
            <a:r>
              <a:rPr b="0" lang="de-DE" sz="1200" spc="-1" strike="noStrike">
                <a:solidFill>
                  <a:srgbClr val="000000"/>
                </a:solidFill>
                <a:latin typeface="Frutiger 45 Light"/>
                <a:ea typeface="Arial"/>
              </a:rPr>
              <a:t> </a:t>
            </a:r>
            <a:r>
              <a:rPr b="0" i="1" lang="de-DE" sz="1200" spc="-1" strike="noStrike">
                <a:solidFill>
                  <a:srgbClr val="000000"/>
                </a:solidFill>
                <a:latin typeface="Frutiger 45 Light"/>
                <a:ea typeface="Arial"/>
              </a:rPr>
              <a:t>computing</a:t>
            </a:r>
            <a:r>
              <a:rPr b="0" lang="de-DE" sz="1200" spc="-1" strike="noStrike">
                <a:solidFill>
                  <a:srgbClr val="000000"/>
                </a:solidFill>
                <a:latin typeface="Frutiger 45 Light"/>
                <a:ea typeface="Arial"/>
              </a:rPr>
              <a:t>, bei denen primär der </a:t>
            </a:r>
            <a:r>
              <a:rPr b="0" i="1" lang="de-DE" sz="1200" spc="-1" strike="noStrike">
                <a:solidFill>
                  <a:srgbClr val="000000"/>
                </a:solidFill>
                <a:latin typeface="Frutiger 45 Light"/>
                <a:ea typeface="Arial"/>
              </a:rPr>
              <a:t>Aufenthaltsort</a:t>
            </a:r>
            <a:r>
              <a:rPr b="0" lang="de-DE" sz="1200" spc="-1" strike="noStrike">
                <a:solidFill>
                  <a:srgbClr val="000000"/>
                </a:solidFill>
                <a:latin typeface="Frutiger 45 Light"/>
                <a:ea typeface="Arial"/>
              </a:rPr>
              <a:t> des Nutzers berücksichtigt wird, hat SAiMotion das Ziel, ein</a:t>
            </a:r>
            <a:r>
              <a:rPr b="0" i="1" lang="de-DE" sz="1200" spc="-1" strike="noStrike">
                <a:solidFill>
                  <a:srgbClr val="000000"/>
                </a:solidFill>
                <a:latin typeface="Frutiger 45 Light"/>
                <a:ea typeface="Arial"/>
              </a:rPr>
              <a:t> umfassendes </a:t>
            </a:r>
            <a:r>
              <a:rPr b="0" lang="de-DE" sz="1200" spc="-1" strike="noStrike">
                <a:solidFill>
                  <a:srgbClr val="000000"/>
                </a:solidFill>
                <a:latin typeface="Frutiger 45 Light"/>
                <a:ea typeface="Arial"/>
              </a:rPr>
              <a:t>Situationsmodell bereitzustellen, das </a:t>
            </a:r>
            <a:r>
              <a:rPr b="0" i="1" lang="de-DE" sz="1200" spc="-1" strike="noStrike">
                <a:solidFill>
                  <a:srgbClr val="000000"/>
                </a:solidFill>
                <a:latin typeface="Frutiger 45 Light"/>
                <a:ea typeface="Arial"/>
              </a:rPr>
              <a:t>alle </a:t>
            </a:r>
            <a:r>
              <a:rPr b="0" lang="de-DE" sz="1200" spc="-1" strike="noStrike">
                <a:solidFill>
                  <a:srgbClr val="000000"/>
                </a:solidFill>
                <a:latin typeface="Frutiger 45 Light"/>
                <a:ea typeface="Arial"/>
              </a:rPr>
              <a:t>relevanten Situationsparameter (Benutzer-, Orts-, Umgebungs- und Aufgaben-Merkmale) identifiziert und proaktiv für die Interaktion mit dem Benutzer und zur Darbietung der Information nutzbar mach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63640" y="752400"/>
            <a:ext cx="4965840" cy="3724200"/>
          </a:xfrm>
          <a:prstGeom prst="rect">
            <a:avLst/>
          </a:prstGeom>
          <a:ln w="0">
            <a:noFill/>
          </a:ln>
        </p:spPr>
      </p:sp>
      <p:sp>
        <p:nvSpPr>
          <p:cNvPr id="415" name="PlaceHolder 2"/>
          <p:cNvSpPr>
            <a:spLocks noGrp="1"/>
          </p:cNvSpPr>
          <p:nvPr>
            <p:ph type="body"/>
          </p:nvPr>
        </p:nvSpPr>
        <p:spPr>
          <a:xfrm>
            <a:off x="892080" y="4732200"/>
            <a:ext cx="4905360" cy="4486320"/>
          </a:xfrm>
          <a:prstGeom prst="rect">
            <a:avLst/>
          </a:prstGeom>
          <a:solidFill>
            <a:srgbClr val="ffffff"/>
          </a:solidFill>
          <a:ln w="9360">
            <a:solidFill>
              <a:srgbClr val="000000"/>
            </a:solidFill>
            <a:miter/>
          </a:ln>
        </p:spPr>
        <p:txBody>
          <a:bodyPr lIns="89640" rIns="8964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deoff between explicit and implicit 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re is a tradeoff between Normans position (1998) of designing specialized and simplified interfaces and complex interfaces for a generic device that could be solved by taking context into acc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 of succesful integration of contex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gramming by example -  Mondrian (Lieberman, 199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CH (Selker,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 Univesal Controller (P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305160" y="228240"/>
            <a:ext cx="561024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1" lang="en-US" sz="3300" spc="-1" strike="noStrike">
              <a:solidFill>
                <a:srgbClr val="00a886"/>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lick to edit the title text format</a:t>
            </a:r>
            <a:endParaRPr b="1" lang="en-US" sz="3300" spc="-1" strike="noStrike">
              <a:solidFill>
                <a:srgbClr val="00a886"/>
              </a:solidFill>
              <a:latin typeface="Arial"/>
            </a:endParaRPr>
          </a:p>
        </p:txBody>
      </p:sp>
      <p:sp>
        <p:nvSpPr>
          <p:cNvPr id="2" name=""/>
          <p:cNvSpPr/>
          <p:nvPr/>
        </p:nvSpPr>
        <p:spPr>
          <a:xfrm>
            <a:off x="0" y="6553080"/>
            <a:ext cx="9144000" cy="304920"/>
          </a:xfrm>
          <a:prstGeom prst="rect">
            <a:avLst/>
          </a:prstGeom>
          <a:solidFill>
            <a:srgbClr val="00a8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88960" y="6632640"/>
            <a:ext cx="8524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ebebeb"/>
                </a:solidFill>
                <a:latin typeface="Arial"/>
              </a:rPr>
              <a:t>EUD-Kick Off</a:t>
            </a:r>
            <a:r>
              <a:rPr b="0" lang="de-DE" sz="900" spc="-1" strike="noStrike">
                <a:solidFill>
                  <a:srgbClr val="ebebeb"/>
                </a:solidFill>
                <a:latin typeface="Arial"/>
              </a:rPr>
              <a:t>	</a:t>
            </a:r>
            <a:r>
              <a:rPr b="0" lang="de-DE" sz="900" spc="-1" strike="noStrike">
                <a:solidFill>
                  <a:srgbClr val="ebebeb"/>
                </a:solidFill>
                <a:latin typeface="Arial"/>
              </a:rPr>
              <a:t>                                                                  — </a:t>
            </a:r>
            <a:fld id="{37ED6FA7-2DF9-4EA2-8B63-CAD99B59D2D0}" type="slidenum">
              <a:rPr b="0" lang="de-DE" sz="900" spc="-1" strike="noStrike">
                <a:solidFill>
                  <a:srgbClr val="ebebeb"/>
                </a:solidFill>
                <a:latin typeface="Arial"/>
              </a:rPr>
              <a:t>&lt;number&gt;</a:t>
            </a:fld>
            <a:r>
              <a:rPr b="0" lang="de-DE" sz="900" spc="-1" strike="noStrike">
                <a:solidFill>
                  <a:srgbClr val="ebebeb"/>
                </a:solidFill>
                <a:latin typeface="Arial"/>
              </a:rPr>
              <a:t> —</a:t>
            </a:r>
            <a:r>
              <a:rPr b="0" lang="de-DE" sz="900" spc="-1" strike="noStrike">
                <a:solidFill>
                  <a:srgbClr val="ebebeb"/>
                </a:solidFill>
                <a:latin typeface="Arial"/>
              </a:rPr>
              <a:t>	</a:t>
            </a:r>
            <a:r>
              <a:rPr b="0" lang="de-DE" sz="900" spc="-1" strike="noStrike">
                <a:solidFill>
                  <a:srgbClr val="ebebeb"/>
                </a:solidFill>
                <a:latin typeface="Arial"/>
              </a:rPr>
              <a:t>                                                         © 2001, Markus Won and Volker Wulf, FhG-FI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2080" y="901440"/>
            <a:ext cx="8627760" cy="1143000"/>
          </a:xfrm>
          <a:prstGeom prst="rect">
            <a:avLst/>
          </a:prstGeom>
          <a:noFill/>
          <a:ln w="0">
            <a:noFill/>
          </a:ln>
        </p:spPr>
        <p:txBody>
          <a:bodyPr lIns="96840" rIns="96840" tIns="47520" bIns="47520" anchor="ctr">
            <a:noAutofit/>
          </a:bodyPr>
          <a:p>
            <a:pPr indent="0" algn="ct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4000" spc="-1" strike="noStrike">
                <a:solidFill>
                  <a:srgbClr val="00a886"/>
                </a:solidFill>
                <a:latin typeface="Arial"/>
              </a:rPr>
              <a:t>Supporting End-User Tailoring: </a:t>
            </a:r>
            <a:br>
              <a:rPr sz="4000"/>
            </a:br>
            <a:r>
              <a:rPr b="1" lang="en-US" sz="4000" spc="-1" strike="noStrike">
                <a:solidFill>
                  <a:srgbClr val="00a886"/>
                </a:solidFill>
                <a:latin typeface="Arial"/>
              </a:rPr>
              <a:t>Component-Based Approaches</a:t>
            </a:r>
            <a:r>
              <a:rPr b="1" lang="en-US" sz="3300" spc="-1" strike="noStrike">
                <a:solidFill>
                  <a:srgbClr val="00a886"/>
                </a:solidFill>
                <a:latin typeface="Arial"/>
              </a:rPr>
              <a:t> </a:t>
            </a:r>
            <a:endParaRPr b="1" lang="en-US" sz="3300" spc="-1" strike="noStrike">
              <a:solidFill>
                <a:srgbClr val="00a886"/>
              </a:solidFill>
              <a:latin typeface="Arial"/>
            </a:endParaRPr>
          </a:p>
        </p:txBody>
      </p:sp>
      <p:sp>
        <p:nvSpPr>
          <p:cNvPr id="44" name=""/>
          <p:cNvSpPr/>
          <p:nvPr/>
        </p:nvSpPr>
        <p:spPr>
          <a:xfrm>
            <a:off x="1800360" y="3069720"/>
            <a:ext cx="5556600" cy="30157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rkus Won and Volker Wu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titut für Angewandte Informationstechnolog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Fraunhofer Gesellschaft (FhG-F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SEC, University of Bon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0360" y="228240"/>
            <a:ext cx="64850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he </a:t>
            </a:r>
            <a:r>
              <a:rPr b="1" lang="de-DE" sz="3300" spc="-1" strike="noStrike">
                <a:solidFill>
                  <a:srgbClr val="00a886"/>
                </a:solidFill>
                <a:latin typeface="Arial"/>
              </a:rPr>
              <a:t>F</a:t>
            </a:r>
            <a:r>
              <a:rPr b="1" lang="de-DE" sz="2500" spc="-1" strike="noStrike">
                <a:solidFill>
                  <a:srgbClr val="00a886"/>
                </a:solidFill>
                <a:latin typeface="Arial"/>
              </a:rPr>
              <a:t>RE</a:t>
            </a:r>
            <a:r>
              <a:rPr b="1" lang="de-DE" sz="3300" spc="-1" strike="noStrike">
                <a:solidFill>
                  <a:srgbClr val="00a886"/>
                </a:solidFill>
                <a:latin typeface="Arial"/>
              </a:rPr>
              <a:t>E</a:t>
            </a:r>
            <a:r>
              <a:rPr b="1" lang="de-DE" sz="2500" spc="-1" strike="noStrike">
                <a:solidFill>
                  <a:srgbClr val="00a886"/>
                </a:solidFill>
                <a:latin typeface="Arial"/>
              </a:rPr>
              <a:t>VOLVE</a:t>
            </a:r>
            <a:r>
              <a:rPr b="1" lang="en-US" sz="3300" spc="-1" strike="noStrike">
                <a:solidFill>
                  <a:srgbClr val="00a886"/>
                </a:solidFill>
                <a:latin typeface="Arial"/>
              </a:rPr>
              <a:t> Platform: An architectural overview (2)</a:t>
            </a:r>
            <a:endParaRPr b="1" lang="en-US" sz="3300" spc="-1" strike="noStrike">
              <a:solidFill>
                <a:srgbClr val="00a886"/>
              </a:solidFill>
              <a:latin typeface="Arial"/>
            </a:endParaRPr>
          </a:p>
        </p:txBody>
      </p:sp>
      <p:sp>
        <p:nvSpPr>
          <p:cNvPr id="160" name="PlaceHolder 2"/>
          <p:cNvSpPr>
            <a:spLocks noGrp="1"/>
          </p:cNvSpPr>
          <p:nvPr>
            <p:ph/>
          </p:nvPr>
        </p:nvSpPr>
        <p:spPr>
          <a:xfrm>
            <a:off x="685800" y="3970080"/>
            <a:ext cx="4734000" cy="1576440"/>
          </a:xfrm>
          <a:prstGeom prst="rect">
            <a:avLst/>
          </a:prstGeom>
          <a:noFill/>
          <a:ln w="0">
            <a:noFill/>
          </a:ln>
        </p:spPr>
        <p:txBody>
          <a:bodyPr lIns="90360" rIns="90360" tIns="44280" bIns="44280" anchor="t">
            <a:normAutofit fontScale="77000"/>
          </a:bodyPr>
          <a:p>
            <a:pPr marL="263880" indent="-263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ilor one application on the Client‘s or the Server‘s side</a:t>
            </a:r>
            <a:endParaRPr b="0" lang="en-US" sz="2400" spc="-1" strike="noStrike">
              <a:solidFill>
                <a:srgbClr val="000000"/>
              </a:solidFill>
              <a:latin typeface="Arial"/>
            </a:endParaRPr>
          </a:p>
          <a:p>
            <a:pPr lvl="1" marL="572040" indent="-21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 Direct impact</a:t>
            </a:r>
            <a:endParaRPr b="0" lang="en-US" sz="2000" spc="-1" strike="noStrike">
              <a:solidFill>
                <a:srgbClr val="000000"/>
              </a:solidFill>
              <a:latin typeface="Arial"/>
            </a:endParaRPr>
          </a:p>
          <a:p>
            <a:pPr lvl="1" marL="572040" indent="-21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ver: Next start</a:t>
            </a:r>
            <a:endParaRPr b="0" lang="en-US" sz="2000" spc="-1" strike="noStrike">
              <a:solidFill>
                <a:srgbClr val="000000"/>
              </a:solidFill>
              <a:latin typeface="Arial"/>
            </a:endParaRPr>
          </a:p>
          <a:p>
            <a:pPr marL="263880" indent="-263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ave changes for next use</a:t>
            </a:r>
            <a:endParaRPr b="0" lang="en-US" sz="2400" spc="-1" strike="noStrike">
              <a:solidFill>
                <a:srgbClr val="000000"/>
              </a:solidFill>
              <a:latin typeface="Arial"/>
            </a:endParaRPr>
          </a:p>
        </p:txBody>
      </p:sp>
      <p:sp>
        <p:nvSpPr>
          <p:cNvPr id="161" name=""/>
          <p:cNvSpPr/>
          <p:nvPr/>
        </p:nvSpPr>
        <p:spPr>
          <a:xfrm>
            <a:off x="2070000" y="1676520"/>
            <a:ext cx="2895840" cy="190476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2" name=""/>
          <p:cNvSpPr/>
          <p:nvPr/>
        </p:nvSpPr>
        <p:spPr>
          <a:xfrm>
            <a:off x="5803920" y="1676520"/>
            <a:ext cx="2895480" cy="190476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3" name=""/>
          <p:cNvSpPr/>
          <p:nvPr/>
        </p:nvSpPr>
        <p:spPr>
          <a:xfrm>
            <a:off x="2222640" y="2133720"/>
            <a:ext cx="259056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Server)</a:t>
            </a:r>
            <a:endParaRPr b="0" lang="en-US" sz="1700" spc="-1" strike="noStrike">
              <a:solidFill>
                <a:srgbClr val="000000"/>
              </a:solidFill>
              <a:latin typeface="Times New Roman"/>
            </a:endParaRPr>
          </a:p>
        </p:txBody>
      </p:sp>
      <p:sp>
        <p:nvSpPr>
          <p:cNvPr id="164" name=""/>
          <p:cNvSpPr/>
          <p:nvPr/>
        </p:nvSpPr>
        <p:spPr>
          <a:xfrm>
            <a:off x="5956200" y="213372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nvGrpSpPr>
          <p:cNvPr id="165" name=""/>
          <p:cNvGrpSpPr/>
          <p:nvPr/>
        </p:nvGrpSpPr>
        <p:grpSpPr>
          <a:xfrm>
            <a:off x="3137040" y="2437920"/>
            <a:ext cx="812160" cy="609840"/>
            <a:chOff x="3137040" y="2437920"/>
            <a:chExt cx="812160" cy="609840"/>
          </a:xfrm>
        </p:grpSpPr>
        <p:sp>
          <p:nvSpPr>
            <p:cNvPr id="166" name=""/>
            <p:cNvSpPr/>
            <p:nvPr/>
          </p:nvSpPr>
          <p:spPr>
            <a:xfrm flipV="1">
              <a:off x="3213000" y="2437560"/>
              <a:ext cx="50760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flipV="1">
              <a:off x="3365280" y="2971440"/>
              <a:ext cx="304560" cy="763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flipV="1">
              <a:off x="3441600" y="2743920"/>
              <a:ext cx="50760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9" name=""/>
            <p:cNvSpPr/>
            <p:nvPr/>
          </p:nvSpPr>
          <p:spPr>
            <a:xfrm flipV="1">
              <a:off x="3137040" y="2704320"/>
              <a:ext cx="20304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0" name=""/>
            <p:cNvCxnSpPr>
              <a:stCxn id="166" idx="1"/>
              <a:endCxn id="169" idx="3"/>
            </p:cNvCxnSpPr>
            <p:nvPr/>
          </p:nvCxnSpPr>
          <p:spPr>
            <a:xfrm flipH="1">
              <a:off x="3236400" y="2514240"/>
              <a:ext cx="228960" cy="191520"/>
            </a:xfrm>
            <a:prstGeom prst="straightConnector1">
              <a:avLst/>
            </a:prstGeom>
            <a:ln w="15840">
              <a:solidFill>
                <a:srgbClr val="ffffff"/>
              </a:solidFill>
              <a:miter/>
            </a:ln>
          </p:spPr>
        </p:cxnSp>
        <p:cxnSp>
          <p:nvCxnSpPr>
            <p:cNvPr id="171" name=""/>
            <p:cNvCxnSpPr>
              <a:stCxn id="166" idx="3"/>
              <a:endCxn id="168" idx="4"/>
            </p:cNvCxnSpPr>
            <p:nvPr/>
          </p:nvCxnSpPr>
          <p:spPr>
            <a:xfrm flipH="1">
              <a:off x="3693600" y="2476080"/>
              <a:ext cx="25920" cy="270360"/>
            </a:xfrm>
            <a:prstGeom prst="straightConnector1">
              <a:avLst/>
            </a:prstGeom>
            <a:ln w="15840">
              <a:solidFill>
                <a:srgbClr val="ffffff"/>
              </a:solidFill>
              <a:miter/>
            </a:ln>
          </p:spPr>
        </p:cxnSp>
        <p:cxnSp>
          <p:nvCxnSpPr>
            <p:cNvPr id="172" name=""/>
            <p:cNvCxnSpPr>
              <a:stCxn id="169" idx="3"/>
              <a:endCxn id="167" idx="3"/>
            </p:cNvCxnSpPr>
            <p:nvPr/>
          </p:nvCxnSpPr>
          <p:spPr>
            <a:xfrm>
              <a:off x="3338280" y="2799720"/>
              <a:ext cx="72000" cy="183240"/>
            </a:xfrm>
            <a:prstGeom prst="straightConnector1">
              <a:avLst/>
            </a:prstGeom>
            <a:ln w="15840">
              <a:solidFill>
                <a:srgbClr val="ffffff"/>
              </a:solidFill>
              <a:miter/>
            </a:ln>
          </p:spPr>
        </p:cxnSp>
      </p:grpSp>
      <p:grpSp>
        <p:nvGrpSpPr>
          <p:cNvPr id="173" name=""/>
          <p:cNvGrpSpPr/>
          <p:nvPr/>
        </p:nvGrpSpPr>
        <p:grpSpPr>
          <a:xfrm>
            <a:off x="6642000" y="2437920"/>
            <a:ext cx="1219320" cy="686160"/>
            <a:chOff x="6642000" y="2437920"/>
            <a:chExt cx="1219320" cy="686160"/>
          </a:xfrm>
        </p:grpSpPr>
        <p:sp>
          <p:nvSpPr>
            <p:cNvPr id="174" name=""/>
            <p:cNvSpPr/>
            <p:nvPr/>
          </p:nvSpPr>
          <p:spPr>
            <a:xfrm flipV="1">
              <a:off x="7327800" y="251388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flipV="1">
              <a:off x="7175520" y="2971080"/>
              <a:ext cx="30456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 name=""/>
            <p:cNvSpPr/>
            <p:nvPr/>
          </p:nvSpPr>
          <p:spPr>
            <a:xfrm flipV="1">
              <a:off x="6642000" y="243756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 name=""/>
            <p:cNvSpPr/>
            <p:nvPr/>
          </p:nvSpPr>
          <p:spPr>
            <a:xfrm flipV="1">
              <a:off x="6794280" y="2819160"/>
              <a:ext cx="203400" cy="19080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4" idx="1"/>
              <a:endCxn id="177" idx="3"/>
            </p:cNvCxnSpPr>
            <p:nvPr/>
          </p:nvCxnSpPr>
          <p:spPr>
            <a:xfrm flipH="1">
              <a:off x="6893640" y="2590200"/>
              <a:ext cx="686520" cy="229320"/>
            </a:xfrm>
            <a:prstGeom prst="straightConnector1">
              <a:avLst/>
            </a:prstGeom>
            <a:ln w="15840">
              <a:solidFill>
                <a:srgbClr val="ffffff"/>
              </a:solidFill>
              <a:miter/>
            </a:ln>
          </p:spPr>
        </p:cxnSp>
        <p:cxnSp>
          <p:nvCxnSpPr>
            <p:cNvPr id="179" name=""/>
            <p:cNvCxnSpPr>
              <a:stCxn id="174" idx="1"/>
              <a:endCxn id="176" idx="0"/>
            </p:cNvCxnSpPr>
            <p:nvPr/>
          </p:nvCxnSpPr>
          <p:spPr>
            <a:xfrm flipH="1" flipV="1">
              <a:off x="6894000" y="2514240"/>
              <a:ext cx="434160" cy="38880"/>
            </a:xfrm>
            <a:prstGeom prst="straightConnector1">
              <a:avLst/>
            </a:prstGeom>
            <a:ln w="15840">
              <a:solidFill>
                <a:srgbClr val="ffffff"/>
              </a:solidFill>
              <a:miter/>
            </a:ln>
          </p:spPr>
        </p:cxnSp>
        <p:cxnSp>
          <p:nvCxnSpPr>
            <p:cNvPr id="180" name=""/>
            <p:cNvCxnSpPr>
              <a:stCxn id="177" idx="3"/>
              <a:endCxn id="175" idx="3"/>
            </p:cNvCxnSpPr>
            <p:nvPr/>
          </p:nvCxnSpPr>
          <p:spPr>
            <a:xfrm>
              <a:off x="6995880" y="2914560"/>
              <a:ext cx="224640" cy="69120"/>
            </a:xfrm>
            <a:prstGeom prst="straightConnector1">
              <a:avLst/>
            </a:prstGeom>
            <a:ln w="15840">
              <a:solidFill>
                <a:srgbClr val="ffffff"/>
              </a:solidFill>
              <a:miter/>
            </a:ln>
          </p:spPr>
        </p:cxnSp>
        <p:sp>
          <p:nvSpPr>
            <p:cNvPr id="181" name=""/>
            <p:cNvSpPr/>
            <p:nvPr/>
          </p:nvSpPr>
          <p:spPr>
            <a:xfrm>
              <a:off x="7556400" y="281916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81" idx="2"/>
              <a:endCxn id="174" idx="1"/>
            </p:cNvCxnSpPr>
            <p:nvPr/>
          </p:nvCxnSpPr>
          <p:spPr>
            <a:xfrm flipV="1">
              <a:off x="7556400" y="2589840"/>
              <a:ext cx="24480" cy="381960"/>
            </a:xfrm>
            <a:prstGeom prst="straightConnector1">
              <a:avLst/>
            </a:prstGeom>
            <a:ln w="15840">
              <a:solidFill>
                <a:srgbClr val="ffffff"/>
              </a:solidFill>
              <a:miter/>
            </a:ln>
          </p:spPr>
        </p:cxnSp>
      </p:grpSp>
      <p:cxnSp>
        <p:nvCxnSpPr>
          <p:cNvPr id="183" name=""/>
          <p:cNvCxnSpPr>
            <a:stCxn id="168" idx="6"/>
            <a:endCxn id="177" idx="1"/>
          </p:cNvCxnSpPr>
          <p:nvPr/>
        </p:nvCxnSpPr>
        <p:spPr>
          <a:xfrm>
            <a:off x="3955680" y="2782800"/>
            <a:ext cx="2831040" cy="132480"/>
          </a:xfrm>
          <a:prstGeom prst="straightConnector1">
            <a:avLst/>
          </a:prstGeom>
          <a:ln w="15840">
            <a:solidFill>
              <a:srgbClr val="00ff00"/>
            </a:solidFill>
            <a:miter/>
          </a:ln>
        </p:spPr>
      </p:cxnSp>
      <p:sp>
        <p:nvSpPr>
          <p:cNvPr id="184" name=""/>
          <p:cNvSpPr/>
          <p:nvPr/>
        </p:nvSpPr>
        <p:spPr>
          <a:xfrm>
            <a:off x="5803920" y="3809880"/>
            <a:ext cx="2895480" cy="19051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85" name=""/>
          <p:cNvSpPr/>
          <p:nvPr/>
        </p:nvSpPr>
        <p:spPr>
          <a:xfrm>
            <a:off x="5956200" y="4267080"/>
            <a:ext cx="2590920" cy="129564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nvGrpSpPr>
          <p:cNvPr id="186" name=""/>
          <p:cNvGrpSpPr/>
          <p:nvPr/>
        </p:nvGrpSpPr>
        <p:grpSpPr>
          <a:xfrm>
            <a:off x="6413400" y="4571640"/>
            <a:ext cx="1219320" cy="686160"/>
            <a:chOff x="6413400" y="4571640"/>
            <a:chExt cx="1219320" cy="686160"/>
          </a:xfrm>
        </p:grpSpPr>
        <p:sp>
          <p:nvSpPr>
            <p:cNvPr id="187" name=""/>
            <p:cNvSpPr/>
            <p:nvPr/>
          </p:nvSpPr>
          <p:spPr>
            <a:xfrm flipV="1">
              <a:off x="7099200" y="464760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flipV="1">
              <a:off x="6946920" y="5104800"/>
              <a:ext cx="30456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flipV="1">
              <a:off x="6413400" y="457128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 name=""/>
            <p:cNvSpPr/>
            <p:nvPr/>
          </p:nvSpPr>
          <p:spPr>
            <a:xfrm flipV="1">
              <a:off x="6565680" y="4952880"/>
              <a:ext cx="203400" cy="19080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7" idx="1"/>
              <a:endCxn id="190" idx="3"/>
            </p:cNvCxnSpPr>
            <p:nvPr/>
          </p:nvCxnSpPr>
          <p:spPr>
            <a:xfrm flipH="1">
              <a:off x="6665040" y="4723920"/>
              <a:ext cx="686520" cy="229320"/>
            </a:xfrm>
            <a:prstGeom prst="straightConnector1">
              <a:avLst/>
            </a:prstGeom>
            <a:ln w="15840">
              <a:solidFill>
                <a:srgbClr val="ffffff"/>
              </a:solidFill>
              <a:miter/>
            </a:ln>
          </p:spPr>
        </p:cxnSp>
        <p:cxnSp>
          <p:nvCxnSpPr>
            <p:cNvPr id="192" name=""/>
            <p:cNvCxnSpPr>
              <a:stCxn id="187" idx="1"/>
              <a:endCxn id="189" idx="0"/>
            </p:cNvCxnSpPr>
            <p:nvPr/>
          </p:nvCxnSpPr>
          <p:spPr>
            <a:xfrm flipH="1" flipV="1">
              <a:off x="6665400" y="4647960"/>
              <a:ext cx="434160" cy="38880"/>
            </a:xfrm>
            <a:prstGeom prst="straightConnector1">
              <a:avLst/>
            </a:prstGeom>
            <a:ln w="15840">
              <a:solidFill>
                <a:srgbClr val="ffffff"/>
              </a:solidFill>
              <a:miter/>
            </a:ln>
          </p:spPr>
        </p:cxnSp>
        <p:cxnSp>
          <p:nvCxnSpPr>
            <p:cNvPr id="193" name=""/>
            <p:cNvCxnSpPr>
              <a:stCxn id="190" idx="3"/>
              <a:endCxn id="188" idx="3"/>
            </p:cNvCxnSpPr>
            <p:nvPr/>
          </p:nvCxnSpPr>
          <p:spPr>
            <a:xfrm>
              <a:off x="6767280" y="5048280"/>
              <a:ext cx="224640" cy="69120"/>
            </a:xfrm>
            <a:prstGeom prst="straightConnector1">
              <a:avLst/>
            </a:prstGeom>
            <a:ln w="15840">
              <a:solidFill>
                <a:srgbClr val="ffffff"/>
              </a:solidFill>
              <a:miter/>
            </a:ln>
          </p:spPr>
        </p:cxnSp>
        <p:sp>
          <p:nvSpPr>
            <p:cNvPr id="194" name=""/>
            <p:cNvSpPr/>
            <p:nvPr/>
          </p:nvSpPr>
          <p:spPr>
            <a:xfrm>
              <a:off x="7327800" y="495288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5" name=""/>
            <p:cNvCxnSpPr>
              <a:stCxn id="194" idx="2"/>
              <a:endCxn id="187" idx="1"/>
            </p:cNvCxnSpPr>
            <p:nvPr/>
          </p:nvCxnSpPr>
          <p:spPr>
            <a:xfrm flipV="1">
              <a:off x="7327800" y="4723560"/>
              <a:ext cx="24480" cy="381960"/>
            </a:xfrm>
            <a:prstGeom prst="straightConnector1">
              <a:avLst/>
            </a:prstGeom>
            <a:ln w="15840">
              <a:solidFill>
                <a:srgbClr val="ffffff"/>
              </a:solidFill>
              <a:miter/>
            </a:ln>
          </p:spPr>
        </p:cxnSp>
      </p:grpSp>
      <p:cxnSp>
        <p:nvCxnSpPr>
          <p:cNvPr id="196" name=""/>
          <p:cNvCxnSpPr>
            <a:stCxn id="168" idx="0"/>
            <a:endCxn id="190" idx="1"/>
          </p:cNvCxnSpPr>
          <p:nvPr/>
        </p:nvCxnSpPr>
        <p:spPr>
          <a:xfrm>
            <a:off x="3693960" y="2828520"/>
            <a:ext cx="2864880" cy="2220120"/>
          </a:xfrm>
          <a:prstGeom prst="straightConnector1">
            <a:avLst/>
          </a:prstGeom>
          <a:ln w="15840">
            <a:solidFill>
              <a:srgbClr val="00ff00"/>
            </a:solidFill>
            <a:miter/>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e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e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e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199" name=""/>
          <p:cNvSpPr/>
          <p:nvPr/>
        </p:nvSpPr>
        <p:spPr>
          <a:xfrm flipV="1">
            <a:off x="0" y="2690640"/>
            <a:ext cx="728640" cy="5040"/>
          </a:xfrm>
          <a:prstGeom prst="line">
            <a:avLst/>
          </a:prstGeom>
          <a:ln w="38160">
            <a:solidFill>
              <a:srgbClr val="00a886"/>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76120" y="228240"/>
            <a:ext cx="683892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Manipulating Tailored Artifacts: 2D-Environments</a:t>
            </a:r>
            <a:endParaRPr b="1" lang="en-US" sz="3300" spc="-1" strike="noStrike">
              <a:solidFill>
                <a:srgbClr val="00a88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ool for Groupware as an exampl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ing mode very similar to the run-time mod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compound) components prevent form too much complexity</a:t>
            </a:r>
            <a:endParaRPr b="0" lang="en-US" sz="2800" spc="-1" strike="noStrike">
              <a:solidFill>
                <a:srgbClr val="000000"/>
              </a:solidFill>
              <a:latin typeface="Arial"/>
            </a:endParaRPr>
          </a:p>
        </p:txBody>
      </p:sp>
      <p:pic>
        <p:nvPicPr>
          <p:cNvPr id="202" name="ST2-04R" descr=""/>
          <p:cNvPicPr/>
          <p:nvPr/>
        </p:nvPicPr>
        <p:blipFill>
          <a:blip r:embed="rId1"/>
          <a:stretch/>
        </p:blipFill>
        <p:spPr>
          <a:xfrm>
            <a:off x="1157400" y="3759120"/>
            <a:ext cx="2649600" cy="2308320"/>
          </a:xfrm>
          <a:prstGeom prst="rect">
            <a:avLst/>
          </a:prstGeom>
          <a:ln w="0">
            <a:noFill/>
          </a:ln>
        </p:spPr>
      </p:pic>
      <p:pic>
        <p:nvPicPr>
          <p:cNvPr id="203" name="ST02D" descr=""/>
          <p:cNvPicPr/>
          <p:nvPr/>
        </p:nvPicPr>
        <p:blipFill>
          <a:blip r:embed="rId2"/>
          <a:stretch/>
        </p:blipFill>
        <p:spPr>
          <a:xfrm>
            <a:off x="5257800" y="3759120"/>
            <a:ext cx="609480" cy="1400400"/>
          </a:xfrm>
          <a:prstGeom prst="rect">
            <a:avLst/>
          </a:prstGeom>
          <a:ln w="0">
            <a:noFill/>
          </a:ln>
        </p:spPr>
      </p:pic>
      <p:pic>
        <p:nvPicPr>
          <p:cNvPr id="204" name="ST2-01D" descr=""/>
          <p:cNvPicPr/>
          <p:nvPr/>
        </p:nvPicPr>
        <p:blipFill>
          <a:blip r:embed="rId3"/>
          <a:stretch/>
        </p:blipFill>
        <p:spPr>
          <a:xfrm>
            <a:off x="6095880" y="3759120"/>
            <a:ext cx="2590920" cy="2324160"/>
          </a:xfrm>
          <a:prstGeom prst="rect">
            <a:avLst/>
          </a:prstGeom>
          <a:ln w="0">
            <a:noFill/>
          </a:ln>
        </p:spPr>
      </p:pic>
      <p:sp>
        <p:nvSpPr>
          <p:cNvPr id="205" name=""/>
          <p:cNvSpPr/>
          <p:nvPr/>
        </p:nvSpPr>
        <p:spPr>
          <a:xfrm>
            <a:off x="4038480" y="4238640"/>
            <a:ext cx="1067040" cy="337320"/>
          </a:xfrm>
          <a:prstGeom prst="borderCallout1">
            <a:avLst>
              <a:gd name="adj1" fmla="val 18750"/>
              <a:gd name="adj2" fmla="val -8333"/>
              <a:gd name="adj3" fmla="val -44560"/>
              <a:gd name="adj4" fmla="val -37773"/>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time</a:t>
            </a:r>
            <a:endParaRPr b="0" lang="en-US" sz="1600" spc="-1" strike="noStrike">
              <a:solidFill>
                <a:srgbClr val="000000"/>
              </a:solidFill>
              <a:latin typeface="Times New Roman"/>
            </a:endParaRPr>
          </a:p>
        </p:txBody>
      </p:sp>
      <p:sp>
        <p:nvSpPr>
          <p:cNvPr id="206" name=""/>
          <p:cNvSpPr/>
          <p:nvPr/>
        </p:nvSpPr>
        <p:spPr>
          <a:xfrm>
            <a:off x="4191120" y="5427720"/>
            <a:ext cx="981000" cy="337320"/>
          </a:xfrm>
          <a:prstGeom prst="borderCallout1">
            <a:avLst>
              <a:gd name="adj1" fmla="val 18750"/>
              <a:gd name="adj2" fmla="val -8333"/>
              <a:gd name="adj3" fmla="val -88912"/>
              <a:gd name="adj4" fmla="val 191231"/>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228240"/>
            <a:ext cx="746748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 </a:t>
            </a:r>
            <a:r>
              <a:rPr b="1" lang="en-US" sz="3300" spc="-1" strike="noStrike">
                <a:solidFill>
                  <a:srgbClr val="00a886"/>
                </a:solidFill>
                <a:latin typeface="Arial"/>
              </a:rPr>
              <a:t>Manipulating Tailored Artifacts: 3D-Environments</a:t>
            </a:r>
            <a:endParaRPr b="1" lang="en-US" sz="3300" spc="-1" strike="noStrike">
              <a:solidFill>
                <a:srgbClr val="00a886"/>
              </a:solidFill>
              <a:latin typeface="Arial"/>
            </a:endParaRPr>
          </a:p>
        </p:txBody>
      </p:sp>
      <p:pic>
        <p:nvPicPr>
          <p:cNvPr id="208" name="cinema%20metaphor" descr=""/>
          <p:cNvPicPr/>
          <p:nvPr/>
        </p:nvPicPr>
        <p:blipFill>
          <a:blip r:embed="rId1"/>
          <a:stretch/>
        </p:blipFill>
        <p:spPr>
          <a:xfrm>
            <a:off x="2489040" y="1143000"/>
            <a:ext cx="6096240" cy="506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i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i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i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211" name=""/>
          <p:cNvSpPr/>
          <p:nvPr/>
        </p:nvSpPr>
        <p:spPr>
          <a:xfrm flipV="1">
            <a:off x="0" y="431604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71560" y="228240"/>
            <a:ext cx="71438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tegrity Checking: Ease Learning and prevention of failures</a:t>
            </a:r>
            <a:endParaRPr b="1" lang="en-US" sz="3300" spc="-1" strike="noStrike">
              <a:solidFill>
                <a:srgbClr val="00a886"/>
              </a:solidFill>
              <a:latin typeface="Arial"/>
            </a:endParaRPr>
          </a:p>
        </p:txBody>
      </p:sp>
      <p:sp>
        <p:nvSpPr>
          <p:cNvPr id="213"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2000"/>
          </a:bodyPr>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dditional Information (in XML) to</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 Set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lication templates</a:t>
            </a:r>
            <a:endParaRPr b="0" lang="en-US" sz="2000" spc="-1" strike="noStrike">
              <a:solidFill>
                <a:srgbClr val="000000"/>
              </a:solidFill>
              <a:latin typeface="Arial"/>
            </a:endParaRPr>
          </a:p>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sts on </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vent Flows </a:t>
            </a:r>
            <a:endParaRPr b="0" lang="en-US" sz="2000" spc="-1" strike="noStrike">
              <a:solidFill>
                <a:srgbClr val="000000"/>
              </a:solidFill>
              <a:latin typeface="Arial"/>
            </a:endParaRPr>
          </a:p>
          <a:p>
            <a:pPr lvl="2" marL="93708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 all that is needed produced and bound?</a:t>
            </a:r>
            <a:endParaRPr b="0" lang="en-US" sz="18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straints</a:t>
            </a:r>
            <a:endParaRPr b="0" lang="en-US" sz="2000" spc="-1" strike="noStrike">
              <a:solidFill>
                <a:srgbClr val="000000"/>
              </a:solidFill>
              <a:latin typeface="Arial"/>
            </a:endParaRPr>
          </a:p>
          <a:p>
            <a:pPr lvl="2" marL="93708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e there dependencies between component‘s parameters?</a:t>
            </a:r>
            <a:endParaRPr b="0" lang="en-US" sz="1800" spc="-1" strike="noStrike">
              <a:solidFill>
                <a:srgbClr val="000000"/>
              </a:solidFill>
              <a:latin typeface="Arial"/>
            </a:endParaRPr>
          </a:p>
          <a:p>
            <a:pPr marL="281160" indent="-28116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ssible Results</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ning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p Texts and Improving Suggestion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mi-automatic correction of failures (futu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Integrity Checking: Event Flow Integrity</a:t>
            </a:r>
            <a:endParaRPr b="1" lang="en-US" sz="3300" spc="-1" strike="noStrike">
              <a:solidFill>
                <a:srgbClr val="00a886"/>
              </a:solidFill>
              <a:latin typeface="Arial"/>
            </a:endParaRPr>
          </a:p>
        </p:txBody>
      </p:sp>
      <p:grpSp>
        <p:nvGrpSpPr>
          <p:cNvPr id="215" name=""/>
          <p:cNvGrpSpPr/>
          <p:nvPr/>
        </p:nvGrpSpPr>
        <p:grpSpPr>
          <a:xfrm>
            <a:off x="228600" y="1371600"/>
            <a:ext cx="3809880" cy="2590560"/>
            <a:chOff x="228600" y="1371600"/>
            <a:chExt cx="3809880" cy="2590560"/>
          </a:xfrm>
        </p:grpSpPr>
        <p:sp>
          <p:nvSpPr>
            <p:cNvPr id="216" name=""/>
            <p:cNvSpPr/>
            <p:nvPr/>
          </p:nvSpPr>
          <p:spPr>
            <a:xfrm>
              <a:off x="228600" y="1371600"/>
              <a:ext cx="3809880" cy="2590560"/>
            </a:xfrm>
            <a:prstGeom prst="rect">
              <a:avLst/>
            </a:prstGeom>
            <a:solidFill>
              <a:srgbClr val="eaeaea"/>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2544480" y="2361960"/>
              <a:ext cx="1344600" cy="228600"/>
              <a:chOff x="2544480" y="2361960"/>
              <a:chExt cx="1344600" cy="228600"/>
            </a:xfrm>
          </p:grpSpPr>
          <p:sp>
            <p:nvSpPr>
              <p:cNvPr id="218" name=""/>
              <p:cNvSpPr/>
              <p:nvPr/>
            </p:nvSpPr>
            <p:spPr>
              <a:xfrm>
                <a:off x="2544480" y="2361960"/>
                <a:ext cx="134460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768400" y="2399760"/>
                <a:ext cx="945720" cy="143640"/>
              </a:xfrm>
              <a:prstGeom prst="rect">
                <a:avLst/>
              </a:prstGeom>
              <a:ln w="0">
                <a:noFill/>
              </a:ln>
            </p:spPr>
          </p:pic>
          <p:sp>
            <p:nvSpPr>
              <p:cNvPr id="220" name=""/>
              <p:cNvSpPr/>
              <p:nvPr/>
            </p:nvSpPr>
            <p:spPr>
              <a:xfrm>
                <a:off x="2544480" y="2361960"/>
                <a:ext cx="13428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54440" y="2476080"/>
                <a:ext cx="134280" cy="114120"/>
              </a:xfrm>
              <a:prstGeom prst="rect">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303120" y="1447560"/>
              <a:ext cx="522720" cy="304920"/>
              <a:chOff x="303120" y="1447560"/>
              <a:chExt cx="522720" cy="304920"/>
            </a:xfrm>
          </p:grpSpPr>
          <p:sp>
            <p:nvSpPr>
              <p:cNvPr id="223" name=""/>
              <p:cNvSpPr/>
              <p:nvPr/>
            </p:nvSpPr>
            <p:spPr>
              <a:xfrm>
                <a:off x="303120" y="1447560"/>
                <a:ext cx="522720" cy="3049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5240" y="1599840"/>
                <a:ext cx="120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343080" y="1497960"/>
                <a:ext cx="331560" cy="178920"/>
              </a:xfrm>
              <a:prstGeom prst="rect">
                <a:avLst/>
              </a:prstGeom>
              <a:ln w="0">
                <a:noFill/>
              </a:ln>
            </p:spPr>
          </p:pic>
        </p:grpSp>
        <p:grpSp>
          <p:nvGrpSpPr>
            <p:cNvPr id="226" name=""/>
            <p:cNvGrpSpPr/>
            <p:nvPr/>
          </p:nvGrpSpPr>
          <p:grpSpPr>
            <a:xfrm>
              <a:off x="303120" y="2133360"/>
              <a:ext cx="1493640" cy="228600"/>
              <a:chOff x="303120" y="2133360"/>
              <a:chExt cx="1493640" cy="228600"/>
            </a:xfrm>
          </p:grpSpPr>
          <p:sp>
            <p:nvSpPr>
              <p:cNvPr id="227" name=""/>
              <p:cNvSpPr/>
              <p:nvPr/>
            </p:nvSpPr>
            <p:spPr>
              <a:xfrm>
                <a:off x="303120" y="2133360"/>
                <a:ext cx="149364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4600" y="2171520"/>
                <a:ext cx="1226160" cy="165600"/>
              </a:xfrm>
              <a:prstGeom prst="rect">
                <a:avLst/>
              </a:prstGeom>
              <a:ln w="0">
                <a:noFill/>
              </a:ln>
            </p:spPr>
          </p:pic>
          <p:sp>
            <p:nvSpPr>
              <p:cNvPr id="229" name=""/>
              <p:cNvSpPr/>
              <p:nvPr/>
            </p:nvSpPr>
            <p:spPr>
              <a:xfrm>
                <a:off x="1642320" y="2247480"/>
                <a:ext cx="15444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03120" y="2590560"/>
              <a:ext cx="1493640" cy="228600"/>
              <a:chOff x="303120" y="2590560"/>
              <a:chExt cx="1493640" cy="228600"/>
            </a:xfrm>
          </p:grpSpPr>
          <p:sp>
            <p:nvSpPr>
              <p:cNvPr id="231" name=""/>
              <p:cNvSpPr/>
              <p:nvPr/>
            </p:nvSpPr>
            <p:spPr>
              <a:xfrm>
                <a:off x="303120" y="2590560"/>
                <a:ext cx="1493640" cy="22860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4"/>
              <a:stretch/>
            </p:blipFill>
            <p:spPr>
              <a:xfrm>
                <a:off x="354600" y="2628360"/>
                <a:ext cx="1239120" cy="161280"/>
              </a:xfrm>
              <a:prstGeom prst="rect">
                <a:avLst/>
              </a:prstGeom>
              <a:ln w="0">
                <a:noFill/>
              </a:ln>
            </p:spPr>
          </p:pic>
          <p:sp>
            <p:nvSpPr>
              <p:cNvPr id="233" name=""/>
              <p:cNvSpPr/>
              <p:nvPr/>
            </p:nvSpPr>
            <p:spPr>
              <a:xfrm>
                <a:off x="1642320" y="2704680"/>
                <a:ext cx="15444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2395080" y="3047760"/>
              <a:ext cx="1568520" cy="838440"/>
              <a:chOff x="2395080" y="3047760"/>
              <a:chExt cx="1568520" cy="838440"/>
            </a:xfrm>
          </p:grpSpPr>
          <p:sp>
            <p:nvSpPr>
              <p:cNvPr id="235" name=""/>
              <p:cNvSpPr/>
              <p:nvPr/>
            </p:nvSpPr>
            <p:spPr>
              <a:xfrm>
                <a:off x="2395080" y="3047760"/>
                <a:ext cx="1568520" cy="83844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5"/>
              <a:stretch/>
            </p:blipFill>
            <p:spPr>
              <a:xfrm>
                <a:off x="2574360" y="3094200"/>
                <a:ext cx="1373400" cy="750240"/>
              </a:xfrm>
              <a:prstGeom prst="rect">
                <a:avLst/>
              </a:prstGeom>
              <a:ln w="0">
                <a:noFill/>
              </a:ln>
            </p:spPr>
          </p:pic>
          <p:sp>
            <p:nvSpPr>
              <p:cNvPr id="237" name=""/>
              <p:cNvSpPr/>
              <p:nvPr/>
            </p:nvSpPr>
            <p:spPr>
              <a:xfrm>
                <a:off x="2395080" y="3047760"/>
                <a:ext cx="126720" cy="1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826200" y="3047760"/>
              <a:ext cx="821520" cy="838440"/>
              <a:chOff x="826200" y="3047760"/>
              <a:chExt cx="821520" cy="838440"/>
            </a:xfrm>
          </p:grpSpPr>
          <p:sp>
            <p:nvSpPr>
              <p:cNvPr id="239" name=""/>
              <p:cNvSpPr/>
              <p:nvPr/>
            </p:nvSpPr>
            <p:spPr>
              <a:xfrm>
                <a:off x="826200" y="3047760"/>
                <a:ext cx="821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15920" y="3047760"/>
                <a:ext cx="6314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p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tp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st</a:t>
                </a:r>
                <a:endParaRPr b="0" lang="en-US" sz="1200" spc="-1" strike="noStrike">
                  <a:solidFill>
                    <a:srgbClr val="000000"/>
                  </a:solidFill>
                  <a:latin typeface="Times New Roman"/>
                </a:endParaRPr>
              </a:p>
            </p:txBody>
          </p:sp>
          <p:sp>
            <p:nvSpPr>
              <p:cNvPr id="241" name=""/>
              <p:cNvSpPr/>
              <p:nvPr/>
            </p:nvSpPr>
            <p:spPr>
              <a:xfrm>
                <a:off x="900360" y="3114720"/>
                <a:ext cx="14940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00360" y="3368520"/>
                <a:ext cx="149400" cy="136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26200" y="3733200"/>
                <a:ext cx="20844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44" name=""/>
            <p:cNvSpPr/>
            <p:nvPr/>
          </p:nvSpPr>
          <p:spPr>
            <a:xfrm>
              <a:off x="826200" y="1676160"/>
              <a:ext cx="171792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469240" y="2590560"/>
              <a:ext cx="134460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797120" y="2286000"/>
              <a:ext cx="7470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797120" y="2437920"/>
              <a:ext cx="7470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648320" y="1371600"/>
            <a:ext cx="4190400" cy="990360"/>
            <a:chOff x="4648320" y="1371600"/>
            <a:chExt cx="4190400" cy="990360"/>
          </a:xfrm>
        </p:grpSpPr>
        <p:sp>
          <p:nvSpPr>
            <p:cNvPr id="249" name=""/>
            <p:cNvSpPr/>
            <p:nvPr/>
          </p:nvSpPr>
          <p:spPr>
            <a:xfrm>
              <a:off x="4648320" y="1371600"/>
              <a:ext cx="4190400" cy="990360"/>
            </a:xfrm>
            <a:prstGeom prst="rect">
              <a:avLst/>
            </a:prstGeom>
            <a:solidFill>
              <a:srgbClr val="eaeaea"/>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4725360" y="1453680"/>
              <a:ext cx="1241640" cy="247320"/>
              <a:chOff x="4725360" y="1453680"/>
              <a:chExt cx="1241640" cy="247320"/>
            </a:xfrm>
          </p:grpSpPr>
          <p:sp>
            <p:nvSpPr>
              <p:cNvPr id="251" name=""/>
              <p:cNvSpPr/>
              <p:nvPr/>
            </p:nvSpPr>
            <p:spPr>
              <a:xfrm>
                <a:off x="4725360" y="1453680"/>
                <a:ext cx="1241640" cy="2473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 descr=""/>
              <p:cNvPicPr/>
              <p:nvPr/>
            </p:nvPicPr>
            <p:blipFill>
              <a:blip r:embed="rId6"/>
              <a:stretch/>
            </p:blipFill>
            <p:spPr>
              <a:xfrm>
                <a:off x="4932000" y="1494720"/>
                <a:ext cx="873360" cy="155160"/>
              </a:xfrm>
              <a:prstGeom prst="rect">
                <a:avLst/>
              </a:prstGeom>
              <a:ln w="0">
                <a:noFill/>
              </a:ln>
            </p:spPr>
          </p:pic>
          <p:sp>
            <p:nvSpPr>
              <p:cNvPr id="253" name=""/>
              <p:cNvSpPr/>
              <p:nvPr/>
            </p:nvSpPr>
            <p:spPr>
              <a:xfrm>
                <a:off x="4725360" y="1453680"/>
                <a:ext cx="12384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42800" y="1577160"/>
                <a:ext cx="123840" cy="123480"/>
              </a:xfrm>
              <a:prstGeom prst="rect">
                <a:avLst/>
              </a:prstGeom>
              <a:solidFill>
                <a:srgbClr val="333333"/>
              </a:solid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7597080" y="1453680"/>
              <a:ext cx="1163880" cy="825480"/>
              <a:chOff x="7597080" y="1453680"/>
              <a:chExt cx="1163880" cy="825480"/>
            </a:xfrm>
          </p:grpSpPr>
          <p:sp>
            <p:nvSpPr>
              <p:cNvPr id="256" name=""/>
              <p:cNvSpPr/>
              <p:nvPr/>
            </p:nvSpPr>
            <p:spPr>
              <a:xfrm>
                <a:off x="7597080" y="1453680"/>
                <a:ext cx="1163880" cy="82548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7"/>
              <a:stretch/>
            </p:blipFill>
            <p:spPr>
              <a:xfrm>
                <a:off x="7729920" y="1499400"/>
                <a:ext cx="1019160" cy="738720"/>
              </a:xfrm>
              <a:prstGeom prst="rect">
                <a:avLst/>
              </a:prstGeom>
              <a:ln w="0">
                <a:noFill/>
              </a:ln>
            </p:spPr>
          </p:pic>
          <p:sp>
            <p:nvSpPr>
              <p:cNvPr id="258" name=""/>
              <p:cNvSpPr/>
              <p:nvPr/>
            </p:nvSpPr>
            <p:spPr>
              <a:xfrm>
                <a:off x="7597080" y="1453680"/>
                <a:ext cx="93960" cy="119520"/>
              </a:xfrm>
              <a:prstGeom prst="rect">
                <a:avLst/>
              </a:prstGeom>
              <a:solidFill>
                <a:srgbClr val="ffffff"/>
              </a:solid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6278040" y="1453680"/>
              <a:ext cx="1008360" cy="247320"/>
              <a:chOff x="6278040" y="1453680"/>
              <a:chExt cx="1008360" cy="247320"/>
            </a:xfrm>
          </p:grpSpPr>
          <p:sp>
            <p:nvSpPr>
              <p:cNvPr id="260" name=""/>
              <p:cNvSpPr/>
              <p:nvPr/>
            </p:nvSpPr>
            <p:spPr>
              <a:xfrm>
                <a:off x="6278040" y="1453680"/>
                <a:ext cx="1008360" cy="247320"/>
              </a:xfrm>
              <a:prstGeom prst="rect">
                <a:avLst/>
              </a:prstGeom>
              <a:solidFill>
                <a:srgbClr val="6767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 name="Comp-Filter" descr=""/>
              <p:cNvPicPr/>
              <p:nvPr/>
            </p:nvPicPr>
            <p:blipFill>
              <a:blip r:embed="rId8"/>
              <a:stretch/>
            </p:blipFill>
            <p:spPr>
              <a:xfrm>
                <a:off x="6530040" y="1494720"/>
                <a:ext cx="554400" cy="196560"/>
              </a:xfrm>
              <a:prstGeom prst="rect">
                <a:avLst/>
              </a:prstGeom>
              <a:ln w="0">
                <a:noFill/>
              </a:ln>
            </p:spPr>
          </p:pic>
          <p:sp>
            <p:nvSpPr>
              <p:cNvPr id="262" name=""/>
              <p:cNvSpPr/>
              <p:nvPr/>
            </p:nvSpPr>
            <p:spPr>
              <a:xfrm>
                <a:off x="6278040" y="1453680"/>
                <a:ext cx="1512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135200" y="1577160"/>
                <a:ext cx="151200" cy="123480"/>
              </a:xfrm>
              <a:prstGeom prst="rect">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286400" y="1618920"/>
              <a:ext cx="310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03120" y="1866600"/>
              <a:ext cx="930960" cy="291960"/>
            </a:xfrm>
            <a:prstGeom prst="borderCallout2">
              <a:avLst>
                <a:gd name="adj1" fmla="val 18750"/>
                <a:gd name="adj2" fmla="val -8333"/>
                <a:gd name="adj3" fmla="val 38097"/>
                <a:gd name="adj4" fmla="val 113023"/>
                <a:gd name="adj5" fmla="val -48518"/>
                <a:gd name="adj6" fmla="val 117856"/>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Times New Roman"/>
              </a:endParaRPr>
            </a:p>
          </p:txBody>
        </p:sp>
        <p:sp>
          <p:nvSpPr>
            <p:cNvPr id="266" name=""/>
            <p:cNvSpPr/>
            <p:nvPr/>
          </p:nvSpPr>
          <p:spPr>
            <a:xfrm>
              <a:off x="6088680" y="1866600"/>
              <a:ext cx="1042560" cy="291960"/>
            </a:xfrm>
            <a:prstGeom prst="borderCallout2">
              <a:avLst>
                <a:gd name="adj1" fmla="val 18750"/>
                <a:gd name="adj2" fmla="val -8333"/>
                <a:gd name="adj3" fmla="val 38097"/>
                <a:gd name="adj4" fmla="val 107439"/>
                <a:gd name="adj5" fmla="val -37680"/>
                <a:gd name="adj6" fmla="val 144939"/>
              </a:avLst>
            </a:prstGeom>
            <a:solidFill>
              <a:srgbClr val="ebeb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a:t>
              </a:r>
              <a:endParaRPr b="0" lang="en-US" sz="1300" spc="-1" strike="noStrike">
                <a:solidFill>
                  <a:srgbClr val="000000"/>
                </a:solidFill>
                <a:latin typeface="Times New Roman"/>
              </a:endParaRPr>
            </a:p>
          </p:txBody>
        </p:sp>
        <p:sp>
          <p:nvSpPr>
            <p:cNvPr id="267" name=""/>
            <p:cNvSpPr/>
            <p:nvPr/>
          </p:nvSpPr>
          <p:spPr>
            <a:xfrm>
              <a:off x="5967360" y="1618920"/>
              <a:ext cx="310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2057400" y="1270080"/>
            <a:ext cx="2133720" cy="824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iation between required and optional bindings</a:t>
            </a:r>
            <a:endParaRPr b="0" lang="en-US" sz="1600" spc="-1" strike="noStrike">
              <a:solidFill>
                <a:srgbClr val="000000"/>
              </a:solidFill>
              <a:latin typeface="Times New Roman"/>
            </a:endParaRPr>
          </a:p>
        </p:txBody>
      </p:sp>
      <p:sp>
        <p:nvSpPr>
          <p:cNvPr id="269" name=""/>
          <p:cNvSpPr/>
          <p:nvPr/>
        </p:nvSpPr>
        <p:spPr>
          <a:xfrm>
            <a:off x="5715000" y="2286000"/>
            <a:ext cx="2209680" cy="824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into</a:t>
            </a:r>
            <a:r>
              <a:rPr b="0" lang="de-DE" sz="1600" spc="-1" strike="noStrike">
                <a:solidFill>
                  <a:srgbClr val="000000"/>
                </a:solidFill>
                <a:latin typeface="Arial"/>
              </a:rPr>
              <a:t> </a:t>
            </a:r>
            <a:r>
              <a:rPr b="0" lang="en-US" sz="1600" spc="-1" strike="noStrike">
                <a:solidFill>
                  <a:srgbClr val="000000"/>
                </a:solidFill>
                <a:latin typeface="Arial"/>
              </a:rPr>
              <a:t>account the </a:t>
            </a:r>
            <a:r>
              <a:rPr b="0" i="1" lang="en-US" sz="1600" spc="-1" strike="noStrike">
                <a:solidFill>
                  <a:srgbClr val="000000"/>
                </a:solidFill>
                <a:latin typeface="Arial"/>
              </a:rPr>
              <a:t>Transitivity of Connections</a:t>
            </a:r>
            <a:endParaRPr b="0" lang="en-US" sz="1600" spc="-1" strike="noStrike">
              <a:solidFill>
                <a:srgbClr val="000000"/>
              </a:solidFill>
              <a:latin typeface="Times New Roman"/>
            </a:endParaRPr>
          </a:p>
        </p:txBody>
      </p:sp>
      <p:sp>
        <p:nvSpPr>
          <p:cNvPr id="270" name="PlaceHolder 2"/>
          <p:cNvSpPr>
            <a:spLocks noGrp="1"/>
          </p:cNvSpPr>
          <p:nvPr>
            <p:ph/>
          </p:nvPr>
        </p:nvSpPr>
        <p:spPr>
          <a:xfrm>
            <a:off x="380880" y="4038480"/>
            <a:ext cx="8382240" cy="22860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vents (Tokens) have to be created or used (Producer vs. Consum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vity</a:t>
            </a:r>
            <a:r>
              <a:rPr b="0" lang="en-US" sz="1800" spc="-1" strike="noStrike">
                <a:solidFill>
                  <a:srgbClr val="000000"/>
                </a:solidFill>
                <a:latin typeface="Arial"/>
              </a:rPr>
              <a:t> of connec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d compon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s can be transformed (re-typing) within a componen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 types can be orthogonally to the existing class hierarchy  </a:t>
            </a: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etri-Net-based analysis</a:t>
            </a:r>
            <a:endParaRPr b="0" lang="en-US" sz="2000" spc="-1" strike="noStrike">
              <a:solidFill>
                <a:srgbClr val="000000"/>
              </a:solidFill>
              <a:latin typeface="Arial"/>
            </a:endParaRPr>
          </a:p>
        </p:txBody>
      </p:sp>
      <p:sp>
        <p:nvSpPr>
          <p:cNvPr id="271" name=""/>
          <p:cNvSpPr/>
          <p:nvPr/>
        </p:nvSpPr>
        <p:spPr>
          <a:xfrm>
            <a:off x="4419720" y="5943600"/>
            <a:ext cx="3200400" cy="3834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etri-Net-based analysis</a:t>
            </a:r>
            <a:endParaRPr b="0" lang="en-US" sz="1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44760" y="228240"/>
            <a:ext cx="64706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Integrity Checking: Dependent Parameters and Application Templates</a:t>
            </a:r>
            <a:endParaRPr b="1" lang="en-US" sz="3300" spc="-1" strike="noStrike">
              <a:solidFill>
                <a:srgbClr val="00a886"/>
              </a:solidFill>
              <a:latin typeface="Arial"/>
            </a:endParaRPr>
          </a:p>
        </p:txBody>
      </p:sp>
      <p:sp>
        <p:nvSpPr>
          <p:cNvPr id="273" name="PlaceHolder 2"/>
          <p:cNvSpPr>
            <a:spLocks noGrp="1"/>
          </p:cNvSpPr>
          <p:nvPr>
            <p:ph/>
          </p:nvPr>
        </p:nvSpPr>
        <p:spPr>
          <a:xfrm>
            <a:off x="241200" y="1231920"/>
            <a:ext cx="8902800" cy="411480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can be directly or functionally </a:t>
            </a:r>
            <a:br>
              <a:rPr sz="2400"/>
            </a:br>
            <a:r>
              <a:rPr b="0" lang="en-US" sz="2400" spc="-1" strike="noStrike">
                <a:solidFill>
                  <a:srgbClr val="000000"/>
                </a:solidFill>
                <a:latin typeface="Arial"/>
              </a:rPr>
              <a:t>dependent (within one component as well as between component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Look‘n Feel (c.f. Java Swing)</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put scale of serialized audio filter</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ngle components this can be done by typing (sub-typing) or in the </a:t>
            </a:r>
            <a:br>
              <a:rPr sz="2000"/>
            </a:br>
            <a:r>
              <a:rPr b="0" lang="en-US" sz="2000" spc="-1" strike="noStrike">
                <a:solidFill>
                  <a:srgbClr val="000000"/>
                </a:solidFill>
                <a:latin typeface="Arial"/>
              </a:rPr>
              <a:t>source code (complex dependencies) </a:t>
            </a:r>
            <a:r>
              <a:rPr b="1" lang="en-US" sz="2000" spc="-1" strike="noStrike">
                <a:solidFill>
                  <a:srgbClr val="000000"/>
                </a:solidFill>
                <a:latin typeface="Arial"/>
              </a:rPr>
              <a:t>But:</a:t>
            </a:r>
            <a:r>
              <a:rPr b="0" lang="en-US" sz="2000" spc="-1" strike="noStrike">
                <a:solidFill>
                  <a:srgbClr val="000000"/>
                </a:solidFill>
                <a:latin typeface="Arial"/>
              </a:rPr>
              <a:t> </a:t>
            </a:r>
            <a:endParaRPr b="0" lang="en-US" sz="2000" spc="-1" strike="noStrike">
              <a:solidFill>
                <a:srgbClr val="000000"/>
              </a:solidFill>
              <a:latin typeface="Arial"/>
            </a:endParaRPr>
          </a:p>
          <a:p>
            <a:pPr lvl="2" marL="1108800" indent="-304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constraints in changing domain contexts (Special semantic of a „standard component“)</a:t>
            </a:r>
            <a:endParaRPr b="0" lang="en-US" sz="1800" spc="-1" strike="noStrike">
              <a:solidFill>
                <a:srgbClr val="000000"/>
              </a:solidFill>
              <a:latin typeface="Arial"/>
            </a:endParaRPr>
          </a:p>
          <a:p>
            <a:pPr lvl="2" marL="1108800" indent="-304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description eases tailoring and understanding</a:t>
            </a:r>
            <a:endParaRPr b="0" lang="en-US" sz="1800" spc="-1" strike="noStrike">
              <a:solidFill>
                <a:srgbClr val="000000"/>
              </a:solidFill>
              <a:latin typeface="Arial"/>
            </a:endParaRPr>
          </a:p>
          <a:p>
            <a:pPr marL="301680" indent="-301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re</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ful if designing a special kind of application</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ly pre-defined components and their parameters</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 of particular Components (Boolean logic, according to class hierarchy)</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nections are pre-defined</a:t>
            </a:r>
            <a:endParaRPr b="0" lang="en-US" sz="2000" spc="-1" strike="noStrike">
              <a:solidFill>
                <a:srgbClr val="000000"/>
              </a:solidFill>
              <a:latin typeface="Arial"/>
            </a:endParaRPr>
          </a:p>
        </p:txBody>
      </p:sp>
      <p:sp>
        <p:nvSpPr>
          <p:cNvPr id="274" name=""/>
          <p:cNvSpPr/>
          <p:nvPr/>
        </p:nvSpPr>
        <p:spPr>
          <a:xfrm>
            <a:off x="5537160" y="5994360"/>
            <a:ext cx="3200400" cy="3834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traints and Triggers</a:t>
            </a:r>
            <a:endParaRPr b="0" lang="en-US" sz="1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F</a:t>
            </a:r>
            <a:r>
              <a:rPr b="1" lang="en-US" sz="2500" spc="-1" strike="noStrike">
                <a:solidFill>
                  <a:srgbClr val="00a886"/>
                </a:solidFill>
                <a:latin typeface="Arial"/>
              </a:rPr>
              <a:t>RE</a:t>
            </a:r>
            <a:r>
              <a:rPr b="1" lang="en-US" sz="3300" spc="-1" strike="noStrike">
                <a:solidFill>
                  <a:srgbClr val="00a886"/>
                </a:solidFill>
                <a:latin typeface="Arial"/>
              </a:rPr>
              <a:t>E</a:t>
            </a:r>
            <a:r>
              <a:rPr b="1" lang="en-US" sz="2500" spc="-1" strike="noStrike">
                <a:solidFill>
                  <a:srgbClr val="00a886"/>
                </a:solidFill>
                <a:latin typeface="Arial"/>
              </a:rPr>
              <a:t>VOLVE</a:t>
            </a:r>
            <a:r>
              <a:rPr b="1" lang="en-US" sz="3300" spc="-1" strike="noStrike">
                <a:solidFill>
                  <a:srgbClr val="00a886"/>
                </a:solidFill>
                <a:latin typeface="Arial"/>
              </a:rPr>
              <a:t>: The IntegrityTailor</a:t>
            </a:r>
            <a:r>
              <a:rPr b="1" lang="de-DE" sz="3300" spc="-1" strike="noStrike">
                <a:solidFill>
                  <a:srgbClr val="00a886"/>
                </a:solidFill>
                <a:latin typeface="Arial"/>
              </a:rPr>
              <a:t>ing</a:t>
            </a:r>
            <a:r>
              <a:rPr b="1" lang="en-US" sz="3300" spc="-1" strike="noStrike">
                <a:solidFill>
                  <a:srgbClr val="00a886"/>
                </a:solidFill>
                <a:latin typeface="Arial"/>
              </a:rPr>
              <a:t>Client</a:t>
            </a:r>
            <a:endParaRPr b="1" lang="en-US" sz="3300" spc="-1" strike="noStrike">
              <a:solidFill>
                <a:srgbClr val="00a886"/>
              </a:solidFill>
              <a:latin typeface="Arial"/>
            </a:endParaRPr>
          </a:p>
        </p:txBody>
      </p:sp>
      <p:sp>
        <p:nvSpPr>
          <p:cNvPr id="276" name="PlaceHolder 2"/>
          <p:cNvSpPr>
            <a:spLocks noGrp="1"/>
          </p:cNvSpPr>
          <p:nvPr>
            <p:ph/>
          </p:nvPr>
        </p:nvSpPr>
        <p:spPr>
          <a:xfrm>
            <a:off x="520560" y="14986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tailoring and support by interactive integrity check </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ailoring view modes (fully synchroniz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are visualiz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components or </a:t>
            </a:r>
            <a:br>
              <a:rPr sz="2000"/>
            </a:br>
            <a:r>
              <a:rPr b="0" lang="en-US" sz="2000" spc="-1" strike="noStrike">
                <a:solidFill>
                  <a:srgbClr val="000000"/>
                </a:solidFill>
                <a:latin typeface="Arial"/>
              </a:rPr>
              <a:t>compound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tical WYSIWIG view </a:t>
            </a:r>
            <a:br>
              <a:rPr sz="2000"/>
            </a:br>
            <a:r>
              <a:rPr b="0" lang="en-US" sz="2000" spc="-1" strike="noStrike">
                <a:solidFill>
                  <a:srgbClr val="000000"/>
                </a:solidFill>
                <a:latin typeface="Arial"/>
              </a:rPr>
              <a:t>of the client application</a:t>
            </a:r>
            <a:endParaRPr b="0" lang="en-US" sz="2000" spc="-1" strike="noStrike">
              <a:solidFill>
                <a:srgbClr val="000000"/>
              </a:solidFill>
              <a:latin typeface="Arial"/>
            </a:endParaRPr>
          </a:p>
        </p:txBody>
      </p:sp>
      <p:pic>
        <p:nvPicPr>
          <p:cNvPr id="277" name="" descr=""/>
          <p:cNvPicPr/>
          <p:nvPr/>
        </p:nvPicPr>
        <p:blipFill>
          <a:blip r:embed="rId1"/>
          <a:stretch/>
        </p:blipFill>
        <p:spPr>
          <a:xfrm>
            <a:off x="1905120" y="4610160"/>
            <a:ext cx="1565280" cy="1752480"/>
          </a:xfrm>
          <a:prstGeom prst="rect">
            <a:avLst/>
          </a:prstGeom>
          <a:ln w="0">
            <a:noFill/>
          </a:ln>
        </p:spPr>
      </p:pic>
      <p:pic>
        <p:nvPicPr>
          <p:cNvPr id="278" name="" descr=""/>
          <p:cNvPicPr/>
          <p:nvPr/>
        </p:nvPicPr>
        <p:blipFill>
          <a:blip r:embed="rId2"/>
          <a:stretch/>
        </p:blipFill>
        <p:spPr>
          <a:xfrm>
            <a:off x="4686480" y="3235320"/>
            <a:ext cx="4419360" cy="32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305160" y="36792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Appropriate Interfaces </a:t>
            </a:r>
            <a:endParaRPr b="1" lang="en-US" sz="3300" spc="-1" strike="noStrike">
              <a:solidFill>
                <a:srgbClr val="00a88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zualizing and manipulating tailored artifacts: 2D and 3D Interfac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cribing tailored artifacts: Annotations, attaching example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viding support for tailoring: Integrity check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erstanding tailored artifacts: Exploration Environment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cessing tailoring functions: Direct Activation</a:t>
            </a:r>
            <a:endParaRPr b="0" lang="en-US" sz="2400" spc="-1" strike="noStrike">
              <a:solidFill>
                <a:srgbClr val="000000"/>
              </a:solidFill>
              <a:latin typeface="Arial"/>
            </a:endParaRPr>
          </a:p>
        </p:txBody>
      </p:sp>
      <p:sp>
        <p:nvSpPr>
          <p:cNvPr id="281" name=""/>
          <p:cNvSpPr/>
          <p:nvPr/>
        </p:nvSpPr>
        <p:spPr>
          <a:xfrm flipV="1">
            <a:off x="0" y="473508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stitutional Setting (1)</a:t>
            </a:r>
            <a:endParaRPr b="1" lang="en-US" sz="3300" spc="-1" strike="noStrike">
              <a:solidFill>
                <a:srgbClr val="00a886"/>
              </a:solidFill>
              <a:latin typeface="Arial"/>
            </a:endParaRPr>
          </a:p>
        </p:txBody>
      </p:sp>
      <p:sp>
        <p:nvSpPr>
          <p:cNvPr id="46" name="PlaceHolder 2"/>
          <p:cNvSpPr>
            <a:spLocks noGrp="1"/>
          </p:cNvSpPr>
          <p:nvPr>
            <p:ph/>
          </p:nvPr>
        </p:nvSpPr>
        <p:spPr>
          <a:xfrm>
            <a:off x="685800" y="19558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MD-FIT (Since: early 1990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aptivity vs. Adapt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earchers: Reinhard Oppermann, Michael Paetau, Helmut Simm, Marcus Specht, Markus Eisenhau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ublic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permann, R. (ed.): Adaptive User Support – Ergonomic Design of Manually and Automatically Adaptable Software, LEA, Hillsdale, NJ 199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focus on adaptive and situation-aware systems, especially in learning and mo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2" name=""/>
          <p:cNvGraphicFramePr/>
          <p:nvPr/>
        </p:nvGraphicFramePr>
        <p:xfrm>
          <a:off x="2552760" y="1130400"/>
          <a:ext cx="5791320" cy="5313240"/>
        </p:xfrm>
        <a:graphic>
          <a:graphicData uri="http://schemas.openxmlformats.org/presentationml/2006/ole">
            <p:oleObj progId="Word.Document.12" r:id="rId1" spid="">
              <p:embed/>
              <p:pic>
                <p:nvPicPr>
                  <p:cNvPr id="283" name="" descr=""/>
                  <p:cNvPicPr/>
                  <p:nvPr/>
                </p:nvPicPr>
                <p:blipFill>
                  <a:blip r:embed="rId2"/>
                  <a:stretch/>
                </p:blipFill>
                <p:spPr>
                  <a:xfrm>
                    <a:off x="2552760" y="1130400"/>
                    <a:ext cx="5791320" cy="5313240"/>
                  </a:xfrm>
                  <a:prstGeom prst="rect">
                    <a:avLst/>
                  </a:prstGeom>
                  <a:ln w="0">
                    <a:noFill/>
                  </a:ln>
                </p:spPr>
              </p:pic>
            </p:oleObj>
          </a:graphicData>
        </a:graphic>
      </p:graphicFrame>
      <p:sp>
        <p:nvSpPr>
          <p:cNvPr id="284"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Exploration Environments</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Direct Activation</a:t>
            </a:r>
            <a:endParaRPr b="1" lang="en-US" sz="3300" spc="-1" strike="noStrike">
              <a:solidFill>
                <a:srgbClr val="00a886"/>
              </a:solidFill>
              <a:latin typeface="Arial"/>
            </a:endParaRPr>
          </a:p>
        </p:txBody>
      </p:sp>
      <p:sp>
        <p:nvSpPr>
          <p:cNvPr id="286" name=""/>
          <p:cNvSpPr/>
          <p:nvPr/>
        </p:nvSpPr>
        <p:spPr>
          <a:xfrm>
            <a:off x="1933560" y="13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volker6" descr=""/>
          <p:cNvPicPr/>
          <p:nvPr/>
        </p:nvPicPr>
        <p:blipFill>
          <a:blip r:embed="rId1"/>
          <a:stretch/>
        </p:blipFill>
        <p:spPr>
          <a:xfrm>
            <a:off x="3102120" y="1498680"/>
            <a:ext cx="5719680" cy="45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Collaborative Tailoring</a:t>
            </a:r>
            <a:endParaRPr b="1" lang="en-US" sz="3300" spc="-1" strike="noStrike">
              <a:solidFill>
                <a:srgbClr val="00a88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chnical infrastructure: Shared repository</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nding tailored artifacts: Naming and classifying</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calizing tailored artifacts: Access rights and view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Quality insurance of tailored artifacts: Identifying creators, (Collective) histories of u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807360" y="73080"/>
            <a:ext cx="4861080" cy="1099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300" spc="-1" strike="noStrike">
                <a:solidFill>
                  <a:srgbClr val="00a886"/>
                </a:solidFill>
                <a:latin typeface="Arial"/>
              </a:rPr>
              <a:t>Naming and classifying</a:t>
            </a:r>
            <a:br>
              <a:rPr sz="3300"/>
            </a:br>
            <a:r>
              <a:rPr b="1" lang="de-DE" sz="3300" spc="-1" strike="noStrike">
                <a:solidFill>
                  <a:srgbClr val="00a886"/>
                </a:solidFill>
                <a:latin typeface="Arial"/>
              </a:rPr>
              <a:t>tailored artifacts</a:t>
            </a:r>
            <a:endParaRPr b="0" lang="en-US" sz="3300" spc="-1" strike="noStrike">
              <a:solidFill>
                <a:srgbClr val="000000"/>
              </a:solidFill>
              <a:latin typeface="Times New Roman"/>
            </a:endParaRPr>
          </a:p>
        </p:txBody>
      </p:sp>
      <p:sp>
        <p:nvSpPr>
          <p:cNvPr id="291" name=""/>
          <p:cNvSpPr/>
          <p:nvPr/>
        </p:nvSpPr>
        <p:spPr>
          <a:xfrm>
            <a:off x="876240" y="1181160"/>
            <a:ext cx="8001000" cy="27432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s in a field study</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mes of the elementary components hardly indicated their meaning</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ropriate components difficult to identify</a:t>
            </a:r>
            <a:endParaRPr b="0" lang="en-US" sz="2000" spc="-1" strike="noStrike">
              <a:solidFill>
                <a:srgbClr val="000000"/>
              </a:solidFill>
              <a:latin typeface="Times New Roman"/>
            </a:endParaRPr>
          </a:p>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ign Approach</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re meaningful names for the elementary components</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ditional icons vizualizing elementary components in the menu</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assification schemes for elementary and  compound components</a:t>
            </a:r>
            <a:endParaRPr b="0" lang="en-US" sz="2000" spc="-1" strike="noStrike">
              <a:solidFill>
                <a:srgbClr val="000000"/>
              </a:solidFill>
              <a:latin typeface="Times New Roman"/>
            </a:endParaRPr>
          </a:p>
          <a:p>
            <a:pPr marL="216000" indent="-21600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periences from the field test</a:t>
            </a:r>
            <a:endParaRPr b="0" lang="en-US" sz="24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archy of the elementary components difficult to understand</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cking naming conventions for compound components</a:t>
            </a:r>
            <a:endParaRPr b="0" lang="en-US" sz="2000" spc="-1" strike="noStrike">
              <a:solidFill>
                <a:srgbClr val="000000"/>
              </a:solidFill>
              <a:latin typeface="Times New Roman"/>
            </a:endParaRPr>
          </a:p>
          <a:p>
            <a:pPr lvl="1" marL="468000" indent="-180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quirements for context specific display of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67000" y="31716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Quality insurance: Identifying creators</a:t>
            </a:r>
            <a:endParaRPr b="1" lang="en-US" sz="3300" spc="-1" strike="noStrike">
              <a:solidFill>
                <a:srgbClr val="00a886"/>
              </a:solidFill>
              <a:latin typeface="Arial"/>
            </a:endParaRPr>
          </a:p>
        </p:txBody>
      </p:sp>
      <p:graphicFrame>
        <p:nvGraphicFramePr>
          <p:cNvPr id="293" name=""/>
          <p:cNvGraphicFramePr/>
          <p:nvPr/>
        </p:nvGraphicFramePr>
        <p:xfrm>
          <a:off x="2857680" y="1447920"/>
          <a:ext cx="6040080" cy="4902120"/>
        </p:xfrm>
        <a:graphic>
          <a:graphicData uri="http://schemas.openxmlformats.org/presentationml/2006/ole">
            <p:oleObj progId="Word.Document.12" r:id="rId1" spid="">
              <p:embed/>
              <p:pic>
                <p:nvPicPr>
                  <p:cNvPr id="294" name="" descr=""/>
                  <p:cNvPicPr/>
                  <p:nvPr/>
                </p:nvPicPr>
                <p:blipFill>
                  <a:blip r:embed="rId2"/>
                  <a:stretch/>
                </p:blipFill>
                <p:spPr>
                  <a:xfrm>
                    <a:off x="2857680" y="1447920"/>
                    <a:ext cx="6040080" cy="49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16240" y="355680"/>
            <a:ext cx="5610240" cy="76176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Conclusion and Future Work</a:t>
            </a:r>
            <a:endParaRPr b="1" lang="en-US" sz="3300" spc="-1" strike="noStrike">
              <a:solidFill>
                <a:srgbClr val="00a886"/>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eEvolve: Platform for component-based tailora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tform: Research proto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pplications: Search tool, access control, chat tool, ...</a:t>
            </a:r>
            <a:endParaRPr b="0" lang="en-US" sz="20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earch challen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composition into „understandable“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ndling of complex compos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sistency of distributed tailoing activ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velopment of new applications with industry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End User Development</a:t>
            </a:r>
            <a:br>
              <a:rPr sz="3300"/>
            </a:br>
            <a:endParaRPr b="1" lang="en-US" sz="3300" spc="-1" strike="noStrike">
              <a:solidFill>
                <a:srgbClr val="00a886"/>
              </a:solidFill>
              <a:latin typeface="Arial"/>
            </a:endParaRPr>
          </a:p>
        </p:txBody>
      </p:sp>
      <p:sp>
        <p:nvSpPr>
          <p:cNvPr id="298" name="PlaceHolder 2"/>
          <p:cNvSpPr>
            <a:spLocks noGrp="1"/>
          </p:cNvSpPr>
          <p:nvPr>
            <p:ph type="subTitle"/>
          </p:nvPr>
        </p:nvSpPr>
        <p:spPr>
          <a:xfrm>
            <a:off x="1209240" y="2733840"/>
            <a:ext cx="7008840" cy="24429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User Development</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 off – Network of Excellen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or adaptive situation-aware systems</a:t>
            </a:r>
            <a:endParaRPr b="0" lang="en-US" sz="2400" spc="-1" strike="noStrike">
              <a:solidFill>
                <a:srgbClr val="000000"/>
              </a:solidFill>
              <a:latin typeface="Arial"/>
            </a:endParaRPr>
          </a:p>
          <a:p>
            <a:pPr lvl="4" marL="1828800" algn="ctr">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UMPET</a:t>
            </a:r>
            <a:endParaRPr b="0" lang="en-US" sz="1800" spc="-1" strike="noStrike">
              <a:solidFill>
                <a:srgbClr val="000000"/>
              </a:solidFill>
              <a:latin typeface="Arial"/>
            </a:endParaRPr>
          </a:p>
          <a:p>
            <a:pPr lvl="4" marL="1828800" algn="ctr">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iMotion</a:t>
            </a:r>
            <a:endParaRPr b="0" lang="en-US" sz="1800" spc="-1" strike="noStrike">
              <a:solidFill>
                <a:srgbClr val="000000"/>
              </a:solidFill>
              <a:latin typeface="Arial"/>
            </a:endParaRPr>
          </a:p>
        </p:txBody>
      </p:sp>
      <p:pic>
        <p:nvPicPr>
          <p:cNvPr id="299" name="Network%20of%20Excellence" descr=""/>
          <p:cNvPicPr/>
          <p:nvPr/>
        </p:nvPicPr>
        <p:blipFill>
          <a:blip r:embed="rId1"/>
          <a:stretch/>
        </p:blipFill>
        <p:spPr>
          <a:xfrm>
            <a:off x="1028880" y="1085760"/>
            <a:ext cx="7429320" cy="1714680"/>
          </a:xfrm>
          <a:prstGeom prst="rect">
            <a:avLst/>
          </a:prstGeom>
          <a:ln w="0">
            <a:noFill/>
          </a:ln>
        </p:spPr>
      </p:pic>
      <p:pic>
        <p:nvPicPr>
          <p:cNvPr id="300" name="EU-Logo" descr=""/>
          <p:cNvPicPr/>
          <p:nvPr/>
        </p:nvPicPr>
        <p:blipFill>
          <a:blip r:embed="rId2"/>
          <a:stretch/>
        </p:blipFill>
        <p:spPr>
          <a:xfrm>
            <a:off x="1238400" y="5830920"/>
            <a:ext cx="914400" cy="57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Crumpet</a:t>
            </a:r>
            <a:br>
              <a:rPr sz="3300"/>
            </a:br>
            <a:endParaRPr b="1" lang="en-US" sz="3300" spc="-1" strike="noStrike">
              <a:solidFill>
                <a:srgbClr val="00a886"/>
              </a:solidFill>
              <a:latin typeface="Arial"/>
            </a:endParaRPr>
          </a:p>
        </p:txBody>
      </p:sp>
      <p:sp>
        <p:nvSpPr>
          <p:cNvPr id="302" name="PlaceHolder 2"/>
          <p:cNvSpPr>
            <a:spLocks noGrp="1"/>
          </p:cNvSpPr>
          <p:nvPr>
            <p:ph type="subTitle"/>
          </p:nvPr>
        </p:nvSpPr>
        <p:spPr>
          <a:xfrm>
            <a:off x="1209240" y="2428560"/>
            <a:ext cx="6875640" cy="1033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MPET</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339966"/>
                </a:solidFill>
                <a:latin typeface="Arial"/>
              </a:rPr>
              <a:t>CR</a:t>
            </a:r>
            <a:r>
              <a:rPr b="0" lang="de-CH" sz="2100" spc="-1" strike="noStrike">
                <a:solidFill>
                  <a:srgbClr val="000000"/>
                </a:solidFill>
                <a:latin typeface="Arial"/>
              </a:rPr>
              <a:t>eation of </a:t>
            </a:r>
            <a:r>
              <a:rPr b="0" lang="de-CH" sz="2100" spc="-1" strike="noStrike">
                <a:solidFill>
                  <a:srgbClr val="339966"/>
                </a:solidFill>
                <a:latin typeface="Arial"/>
              </a:rPr>
              <a:t>U</a:t>
            </a:r>
            <a:r>
              <a:rPr b="0" lang="de-CH" sz="2100" spc="-1" strike="noStrike">
                <a:solidFill>
                  <a:srgbClr val="000000"/>
                </a:solidFill>
                <a:latin typeface="Arial"/>
              </a:rPr>
              <a:t>ser-friendly </a:t>
            </a:r>
            <a:r>
              <a:rPr b="0" lang="de-CH" sz="2100" spc="-1" strike="noStrike">
                <a:solidFill>
                  <a:srgbClr val="339966"/>
                </a:solidFill>
                <a:latin typeface="Arial"/>
              </a:rPr>
              <a:t>M</a:t>
            </a:r>
            <a:r>
              <a:rPr b="0" lang="de-CH" sz="2100" spc="-1" strike="noStrike">
                <a:solidFill>
                  <a:srgbClr val="000000"/>
                </a:solidFill>
                <a:latin typeface="Arial"/>
              </a:rPr>
              <a:t>obile services </a:t>
            </a:r>
            <a:r>
              <a:rPr b="0" lang="de-CH" sz="2100" spc="-1" strike="noStrike">
                <a:solidFill>
                  <a:srgbClr val="339966"/>
                </a:solidFill>
                <a:latin typeface="Arial"/>
              </a:rPr>
              <a:t>PE</a:t>
            </a:r>
            <a:r>
              <a:rPr b="0" lang="de-CH" sz="2100" spc="-1" strike="noStrike">
                <a:solidFill>
                  <a:srgbClr val="000000"/>
                </a:solidFill>
                <a:latin typeface="Arial"/>
              </a:rPr>
              <a:t>rsonalised for </a:t>
            </a:r>
            <a:r>
              <a:rPr b="0" lang="de-CH" sz="2100" spc="-1" strike="noStrike">
                <a:solidFill>
                  <a:srgbClr val="339966"/>
                </a:solidFill>
                <a:latin typeface="Arial"/>
              </a:rPr>
              <a:t>T</a:t>
            </a:r>
            <a:r>
              <a:rPr b="0" lang="de-CH" sz="2100" spc="-1" strike="noStrike">
                <a:solidFill>
                  <a:srgbClr val="000000"/>
                </a:solidFill>
                <a:latin typeface="Arial"/>
              </a:rPr>
              <a:t>ourism</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03" name="" descr=""/>
          <p:cNvPicPr/>
          <p:nvPr/>
        </p:nvPicPr>
        <p:blipFill>
          <a:blip r:embed="rId1"/>
          <a:stretch/>
        </p:blipFill>
        <p:spPr>
          <a:xfrm>
            <a:off x="1266840" y="1285920"/>
            <a:ext cx="2601720" cy="96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GB" sz="3100" spc="-1" strike="noStrike">
                <a:solidFill>
                  <a:srgbClr val="333333"/>
                </a:solidFill>
                <a:latin typeface="Arial"/>
              </a:rPr>
              <a:t>CRUMPET Consortium:</a:t>
            </a:r>
            <a:endParaRPr b="1" lang="en-US" sz="3100" spc="-1" strike="noStrike">
              <a:solidFill>
                <a:srgbClr val="00a886"/>
              </a:solidFill>
              <a:latin typeface="Arial"/>
            </a:endParaRPr>
          </a:p>
        </p:txBody>
      </p:sp>
      <p:sp>
        <p:nvSpPr>
          <p:cNvPr id="305" name=""/>
          <p:cNvSpPr/>
          <p:nvPr/>
        </p:nvSpPr>
        <p:spPr>
          <a:xfrm>
            <a:off x="533520" y="917640"/>
            <a:ext cx="8057880" cy="4339440"/>
          </a:xfrm>
          <a:prstGeom prst="rect">
            <a:avLst/>
          </a:prstGeom>
          <a:noFill/>
          <a:ln w="0">
            <a:noFill/>
          </a:ln>
        </p:spPr>
        <p:style>
          <a:lnRef idx="0"/>
          <a:fillRef idx="0"/>
          <a:effectRef idx="0"/>
          <a:fontRef idx="minor"/>
        </p:style>
        <p:txBody>
          <a:bodyPr lIns="90000" rIns="90000" tIns="46800" bIns="46800" anchor="t">
            <a:spAutoFit/>
          </a:bodyPr>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Queen Mary University of London, UK (CO), </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morphia Ltd (Nortel Networks), UK</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European Media Lab, Germany</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Fraunhofer FIT Inst. for Applied Information Technology, Germany</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PTIN, Portugal</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Sonera Ltd, Finland</a:t>
            </a:r>
            <a:endParaRPr b="0" lang="en-US" sz="1800" spc="-1" strike="noStrike">
              <a:solidFill>
                <a:srgbClr val="000000"/>
              </a:solidFill>
              <a:latin typeface="Times New Roman"/>
            </a:endParaRPr>
          </a:p>
          <a:p>
            <a:pPr lvl="1" marL="762120" indent="-571680">
              <a:lnSpc>
                <a:spcPct val="9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University of Helsinki, Finland</a:t>
            </a:r>
            <a:br>
              <a:rPr sz="1800"/>
            </a:br>
            <a:r>
              <a:rPr b="0" lang="en-GB" sz="1800" spc="-1" strike="noStrike">
                <a:solidFill>
                  <a:srgbClr val="333333"/>
                </a:solidFill>
                <a:latin typeface="Verdana"/>
              </a:rPr>
              <a:t> </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is an EU-funded IST 5th framework project</a:t>
            </a: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imeframe 1. Oct 2000 – 30. Sept 2002 + 2 months</a:t>
            </a:r>
            <a:endParaRPr b="0" lang="en-US" sz="1800" spc="-1" strike="noStrike">
              <a:solidFill>
                <a:srgbClr val="000000"/>
              </a:solidFill>
              <a:latin typeface="Times New Roman"/>
            </a:endParaRPr>
          </a:p>
        </p:txBody>
      </p:sp>
      <p:pic>
        <p:nvPicPr>
          <p:cNvPr id="306"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a886"/>
                </a:solidFill>
                <a:latin typeface="Arial"/>
              </a:rPr>
              <a:t>Idea:</a:t>
            </a:r>
            <a:r>
              <a:rPr b="1" lang="en-US" sz="3300" spc="-1" strike="noStrike">
                <a:solidFill>
                  <a:srgbClr val="00a886"/>
                </a:solidFill>
                <a:latin typeface="Arial"/>
              </a:rPr>
              <a:t>	</a:t>
            </a:r>
            <a:r>
              <a:rPr b="1" lang="en-US" sz="3300" spc="-1" strike="noStrike">
                <a:solidFill>
                  <a:srgbClr val="000000"/>
                </a:solidFill>
                <a:latin typeface="Arial"/>
              </a:rPr>
              <a:t>adaptive, nomadic information system for tourism</a:t>
            </a:r>
            <a:endParaRPr b="1" lang="en-US" sz="3300" spc="-1" strike="noStrike">
              <a:solidFill>
                <a:srgbClr val="00a886"/>
              </a:solidFill>
              <a:latin typeface="Arial"/>
            </a:endParaRPr>
          </a:p>
        </p:txBody>
      </p:sp>
      <p:sp>
        <p:nvSpPr>
          <p:cNvPr id="308" name=""/>
          <p:cNvSpPr/>
          <p:nvPr/>
        </p:nvSpPr>
        <p:spPr>
          <a:xfrm>
            <a:off x="457200" y="1413000"/>
            <a:ext cx="8058240" cy="2820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CRUMPET has two main objectives:</a:t>
            </a:r>
            <a:endParaRPr b="0" lang="en-US" sz="1800" spc="-1" strike="noStrike">
              <a:solidFill>
                <a:srgbClr val="000000"/>
              </a:solidFill>
              <a:latin typeface="Times New Roman"/>
            </a:endParaRPr>
          </a:p>
          <a:p>
            <a:pPr lvl="1" marL="762120" indent="-571680">
              <a:lnSpc>
                <a:spcPct val="10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implement and trial tourism-related </a:t>
            </a:r>
            <a:br>
              <a:rPr sz="1800"/>
            </a:br>
            <a:r>
              <a:rPr b="0" lang="en-GB" sz="1800" spc="-1" strike="noStrike">
                <a:solidFill>
                  <a:srgbClr val="9c9c9c"/>
                </a:solidFill>
                <a:latin typeface="Verdana"/>
              </a:rPr>
              <a:t>value-added services for nomadic users</a:t>
            </a:r>
            <a:r>
              <a:rPr b="0" lang="en-GB" sz="1800" spc="-1" strike="noStrike">
                <a:solidFill>
                  <a:srgbClr val="333333"/>
                </a:solidFill>
                <a:latin typeface="Verdana"/>
              </a:rPr>
              <a:t> </a:t>
            </a:r>
            <a:br>
              <a:rPr sz="1800"/>
            </a:br>
            <a:r>
              <a:rPr b="0" lang="en-GB" sz="1800" spc="-1" strike="noStrike">
                <a:solidFill>
                  <a:srgbClr val="333333"/>
                </a:solidFill>
                <a:latin typeface="Verdana"/>
              </a:rPr>
              <a:t>across mobile and fixed networks</a:t>
            </a:r>
            <a:endParaRPr b="0" lang="en-US" sz="1800" spc="-1" strike="noStrike">
              <a:solidFill>
                <a:srgbClr val="000000"/>
              </a:solidFill>
              <a:latin typeface="Times New Roman"/>
            </a:endParaRPr>
          </a:p>
          <a:p>
            <a:pPr lvl="1" marL="762120" indent="-571680">
              <a:lnSpc>
                <a:spcPct val="100000"/>
              </a:lnSpc>
              <a:spcBef>
                <a:spcPts val="1125"/>
              </a:spcBef>
              <a:buClr>
                <a:srgbClr val="9c9c9c"/>
              </a:buClr>
              <a:buFont typeface="Verdana"/>
              <a:buChar char="•"/>
              <a:tabLst>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33"/>
                </a:solidFill>
                <a:latin typeface="Verdana"/>
              </a:rPr>
              <a:t>To evaluate </a:t>
            </a:r>
            <a:r>
              <a:rPr b="0" lang="en-GB" sz="1800" spc="-1" strike="noStrike">
                <a:solidFill>
                  <a:srgbClr val="9c9c9c"/>
                </a:solidFill>
                <a:latin typeface="Verdana"/>
              </a:rPr>
              <a:t>agent technology</a:t>
            </a:r>
            <a:r>
              <a:rPr b="0" lang="en-GB" sz="1800" spc="-1" strike="noStrike">
                <a:solidFill>
                  <a:srgbClr val="333333"/>
                </a:solidFill>
                <a:latin typeface="Verdana"/>
              </a:rPr>
              <a:t> in terms of </a:t>
            </a:r>
            <a:br>
              <a:rPr sz="1800"/>
            </a:br>
            <a:r>
              <a:rPr b="0" lang="en-GB" sz="1800" spc="-1" strike="noStrike">
                <a:solidFill>
                  <a:srgbClr val="333333"/>
                </a:solidFill>
                <a:latin typeface="Verdana"/>
              </a:rPr>
              <a:t>user-acceptability, performance and best-practice</a:t>
            </a:r>
            <a:br>
              <a:rPr sz="1800"/>
            </a:br>
            <a:r>
              <a:rPr b="0" lang="en-GB" sz="1800" spc="-1" strike="noStrike">
                <a:solidFill>
                  <a:srgbClr val="333333"/>
                </a:solidFill>
                <a:latin typeface="Verdana"/>
              </a:rPr>
              <a:t> </a:t>
            </a:r>
            <a:br>
              <a:rPr sz="1800"/>
            </a:br>
            <a:r>
              <a:rPr b="0" lang="en-GB" sz="1800" spc="-1" strike="noStrike">
                <a:solidFill>
                  <a:srgbClr val="333333"/>
                </a:solidFill>
                <a:latin typeface="Verdana"/>
              </a:rPr>
              <a:t>as a suitable approach for fast creation of robust, scalable, seamlessly accessible nomadic services</a:t>
            </a:r>
            <a:endParaRPr b="0" lang="en-US" sz="1800" spc="-1" strike="noStrike">
              <a:solidFill>
                <a:srgbClr val="000000"/>
              </a:solidFill>
              <a:latin typeface="Times New Roman"/>
            </a:endParaRPr>
          </a:p>
        </p:txBody>
      </p:sp>
      <p:pic>
        <p:nvPicPr>
          <p:cNvPr id="309" name="" descr=""/>
          <p:cNvPicPr/>
          <p:nvPr/>
        </p:nvPicPr>
        <p:blipFill>
          <a:blip r:embed="rId1"/>
          <a:stretch/>
        </p:blipFill>
        <p:spPr>
          <a:xfrm>
            <a:off x="695160" y="5667480"/>
            <a:ext cx="195768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305160" y="-12600"/>
            <a:ext cx="5610240" cy="76176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Institutional Setting (2)</a:t>
            </a:r>
            <a:endParaRPr b="1" lang="en-US" sz="3300" spc="-1" strike="noStrike">
              <a:solidFill>
                <a:srgbClr val="00a886"/>
              </a:solidFill>
              <a:latin typeface="Arial"/>
            </a:endParaRPr>
          </a:p>
        </p:txBody>
      </p:sp>
      <p:sp>
        <p:nvSpPr>
          <p:cNvPr id="48" name="PlaceHolder 2"/>
          <p:cNvSpPr>
            <a:spLocks noGrp="1"/>
          </p:cNvSpPr>
          <p:nvPr>
            <p:ph/>
          </p:nvPr>
        </p:nvSpPr>
        <p:spPr>
          <a:xfrm>
            <a:off x="685440" y="673200"/>
            <a:ext cx="8271000" cy="4114800"/>
          </a:xfrm>
          <a:prstGeom prst="rect">
            <a:avLst/>
          </a:prstGeom>
          <a:noFill/>
          <a:ln w="0">
            <a:noFill/>
          </a:ln>
        </p:spPr>
        <p:txBody>
          <a:bodyPr lIns="90360" rIns="90360" tIns="44280" bIns="44280" anchor="t">
            <a:normAutofit fontScale="73000"/>
          </a:bodyPr>
          <a:p>
            <a:pPr marL="250200" indent="-250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SEC at the University of Bonn (since: 1994)</a:t>
            </a:r>
            <a:endParaRPr b="0" lang="en-US" sz="24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ailorability (of groupware)</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earchers: Helge Kahler, Volkmar Pipek, Oliver Stiemerling, Gunnar Stevens, Markus Won, Volker Wulf</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ublications</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ker Wulf: Design of Tailorable Groupware: Habilitation Thesis, University of Hamburg 2000</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lge Kahler: </a:t>
            </a:r>
            <a:r>
              <a:rPr b="0" lang="en-GB" sz="2000" spc="-1" strike="noStrike">
                <a:solidFill>
                  <a:srgbClr val="000000"/>
                </a:solidFill>
                <a:latin typeface="Arial"/>
                <a:ea typeface="Times New Roman"/>
              </a:rPr>
              <a:t>Supporting Collaborative Tailoring, PhD-Thesis at Roskilde University, Denmark, 2001</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liver Stiemerling: Component-based Tailorability, PhD-Thesis, University of Bonn 2000</a:t>
            </a:r>
            <a:endParaRPr b="0" lang="en-US" sz="2000" spc="-1" strike="noStrike">
              <a:solidFill>
                <a:srgbClr val="000000"/>
              </a:solidFill>
              <a:latin typeface="Arial"/>
            </a:endParaRPr>
          </a:p>
          <a:p>
            <a:pPr lvl="2" marL="834120" indent="-166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a:p>
            <a:pPr marL="250200" indent="-250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zational Rearrangements</a:t>
            </a:r>
            <a:endParaRPr b="0" lang="en-US" sz="24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aunhofer FIT</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iversity of Siegen</a:t>
            </a:r>
            <a:endParaRPr b="0" lang="en-US" sz="2000" spc="-1" strike="noStrike">
              <a:solidFill>
                <a:srgbClr val="000000"/>
              </a:solidFill>
              <a:latin typeface="Arial"/>
            </a:endParaRPr>
          </a:p>
          <a:p>
            <a:pPr lvl="1" marL="542160" indent="-20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iversity of Bonn</a:t>
            </a:r>
            <a:endParaRPr b="0" lang="en-US" sz="2000" spc="-1" strike="noStrike">
              <a:solidFill>
                <a:srgbClr val="000000"/>
              </a:solidFill>
              <a:latin typeface="Arial"/>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0000"/>
                </a:solidFill>
                <a:latin typeface="Arial"/>
              </a:rPr>
              <a:t>Combined technologies</a:t>
            </a:r>
            <a:endParaRPr b="1" lang="en-US" sz="3300" spc="-1" strike="noStrike">
              <a:solidFill>
                <a:srgbClr val="00a886"/>
              </a:solidFill>
              <a:latin typeface="Arial"/>
            </a:endParaRPr>
          </a:p>
        </p:txBody>
      </p:sp>
      <p:pic>
        <p:nvPicPr>
          <p:cNvPr id="311" name="" descr=""/>
          <p:cNvPicPr/>
          <p:nvPr/>
        </p:nvPicPr>
        <p:blipFill>
          <a:blip r:embed="rId1"/>
          <a:stretch/>
        </p:blipFill>
        <p:spPr>
          <a:xfrm>
            <a:off x="695160" y="5667480"/>
            <a:ext cx="1957680" cy="723960"/>
          </a:xfrm>
          <a:prstGeom prst="rect">
            <a:avLst/>
          </a:prstGeom>
          <a:ln w="0">
            <a:noFill/>
          </a:ln>
        </p:spPr>
      </p:pic>
      <p:grpSp>
        <p:nvGrpSpPr>
          <p:cNvPr id="312" name=""/>
          <p:cNvGrpSpPr/>
          <p:nvPr/>
        </p:nvGrpSpPr>
        <p:grpSpPr>
          <a:xfrm>
            <a:off x="1854360" y="1123920"/>
            <a:ext cx="5311080" cy="4419720"/>
            <a:chOff x="1854360" y="1123920"/>
            <a:chExt cx="5311080" cy="4419720"/>
          </a:xfrm>
        </p:grpSpPr>
        <p:sp>
          <p:nvSpPr>
            <p:cNvPr id="313"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d8eb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38440" y="1123920"/>
              <a:ext cx="2085840" cy="2355840"/>
            </a:xfrm>
            <a:custGeom>
              <a:avLst/>
              <a:gdLst/>
              <a:ahLst/>
              <a:rect l="l" t="t" r="r" b="b"/>
              <a:pathLst>
                <a:path w="1314" h="1237">
                  <a:moveTo>
                    <a:pt x="397" y="1192"/>
                  </a:moveTo>
                  <a:lnTo>
                    <a:pt x="427" y="1200"/>
                  </a:lnTo>
                  <a:lnTo>
                    <a:pt x="452" y="1204"/>
                  </a:lnTo>
                  <a:lnTo>
                    <a:pt x="476" y="1205"/>
                  </a:lnTo>
                  <a:lnTo>
                    <a:pt x="496" y="1205"/>
                  </a:lnTo>
                  <a:lnTo>
                    <a:pt x="514" y="1202"/>
                  </a:lnTo>
                  <a:lnTo>
                    <a:pt x="531" y="1199"/>
                  </a:lnTo>
                  <a:lnTo>
                    <a:pt x="543" y="1192"/>
                  </a:lnTo>
                  <a:lnTo>
                    <a:pt x="551" y="1185"/>
                  </a:lnTo>
                  <a:lnTo>
                    <a:pt x="560" y="1176"/>
                  </a:lnTo>
                  <a:lnTo>
                    <a:pt x="564" y="1167"/>
                  </a:lnTo>
                  <a:lnTo>
                    <a:pt x="566" y="1158"/>
                  </a:lnTo>
                  <a:lnTo>
                    <a:pt x="566" y="1147"/>
                  </a:lnTo>
                  <a:lnTo>
                    <a:pt x="562" y="1136"/>
                  </a:lnTo>
                  <a:lnTo>
                    <a:pt x="555" y="1126"/>
                  </a:lnTo>
                  <a:lnTo>
                    <a:pt x="548" y="1116"/>
                  </a:lnTo>
                  <a:lnTo>
                    <a:pt x="537" y="1106"/>
                  </a:lnTo>
                  <a:lnTo>
                    <a:pt x="521" y="1093"/>
                  </a:lnTo>
                  <a:lnTo>
                    <a:pt x="508" y="1078"/>
                  </a:lnTo>
                  <a:lnTo>
                    <a:pt x="498" y="1063"/>
                  </a:lnTo>
                  <a:lnTo>
                    <a:pt x="489" y="1047"/>
                  </a:lnTo>
                  <a:lnTo>
                    <a:pt x="483" y="1030"/>
                  </a:lnTo>
                  <a:lnTo>
                    <a:pt x="481" y="1012"/>
                  </a:lnTo>
                  <a:lnTo>
                    <a:pt x="481" y="996"/>
                  </a:lnTo>
                  <a:lnTo>
                    <a:pt x="483" y="979"/>
                  </a:lnTo>
                  <a:lnTo>
                    <a:pt x="489" y="965"/>
                  </a:lnTo>
                  <a:lnTo>
                    <a:pt x="498" y="951"/>
                  </a:lnTo>
                  <a:lnTo>
                    <a:pt x="503" y="944"/>
                  </a:lnTo>
                  <a:lnTo>
                    <a:pt x="510" y="936"/>
                  </a:lnTo>
                  <a:lnTo>
                    <a:pt x="518" y="931"/>
                  </a:lnTo>
                  <a:lnTo>
                    <a:pt x="526" y="924"/>
                  </a:lnTo>
                  <a:lnTo>
                    <a:pt x="535" y="920"/>
                  </a:lnTo>
                  <a:lnTo>
                    <a:pt x="545" y="916"/>
                  </a:lnTo>
                  <a:lnTo>
                    <a:pt x="558" y="912"/>
                  </a:lnTo>
                  <a:lnTo>
                    <a:pt x="568" y="907"/>
                  </a:lnTo>
                  <a:lnTo>
                    <a:pt x="582" y="906"/>
                  </a:lnTo>
                  <a:lnTo>
                    <a:pt x="595" y="903"/>
                  </a:lnTo>
                  <a:lnTo>
                    <a:pt x="612" y="902"/>
                  </a:lnTo>
                  <a:lnTo>
                    <a:pt x="627" y="902"/>
                  </a:lnTo>
                  <a:lnTo>
                    <a:pt x="647" y="902"/>
                  </a:lnTo>
                  <a:lnTo>
                    <a:pt x="664" y="902"/>
                  </a:lnTo>
                  <a:lnTo>
                    <a:pt x="681" y="903"/>
                  </a:lnTo>
                  <a:lnTo>
                    <a:pt x="697" y="906"/>
                  </a:lnTo>
                  <a:lnTo>
                    <a:pt x="711" y="909"/>
                  </a:lnTo>
                  <a:lnTo>
                    <a:pt x="726" y="912"/>
                  </a:lnTo>
                  <a:lnTo>
                    <a:pt x="738" y="916"/>
                  </a:lnTo>
                  <a:lnTo>
                    <a:pt x="751" y="920"/>
                  </a:lnTo>
                  <a:lnTo>
                    <a:pt x="763" y="924"/>
                  </a:lnTo>
                  <a:lnTo>
                    <a:pt x="772" y="931"/>
                  </a:lnTo>
                  <a:lnTo>
                    <a:pt x="780" y="936"/>
                  </a:lnTo>
                  <a:lnTo>
                    <a:pt x="788" y="942"/>
                  </a:lnTo>
                  <a:lnTo>
                    <a:pt x="801" y="954"/>
                  </a:lnTo>
                  <a:lnTo>
                    <a:pt x="812" y="969"/>
                  </a:lnTo>
                  <a:lnTo>
                    <a:pt x="817" y="984"/>
                  </a:lnTo>
                  <a:lnTo>
                    <a:pt x="822" y="1000"/>
                  </a:lnTo>
                  <a:lnTo>
                    <a:pt x="822" y="1016"/>
                  </a:lnTo>
                  <a:lnTo>
                    <a:pt x="817" y="1031"/>
                  </a:lnTo>
                  <a:lnTo>
                    <a:pt x="812" y="1045"/>
                  </a:lnTo>
                  <a:lnTo>
                    <a:pt x="803" y="1060"/>
                  </a:lnTo>
                  <a:lnTo>
                    <a:pt x="793" y="1073"/>
                  </a:lnTo>
                  <a:lnTo>
                    <a:pt x="778" y="1086"/>
                  </a:lnTo>
                  <a:lnTo>
                    <a:pt x="751" y="1107"/>
                  </a:lnTo>
                  <a:lnTo>
                    <a:pt x="733" y="1126"/>
                  </a:lnTo>
                  <a:lnTo>
                    <a:pt x="726" y="1133"/>
                  </a:lnTo>
                  <a:lnTo>
                    <a:pt x="720" y="1142"/>
                  </a:lnTo>
                  <a:lnTo>
                    <a:pt x="718" y="1149"/>
                  </a:lnTo>
                  <a:lnTo>
                    <a:pt x="718" y="1157"/>
                  </a:lnTo>
                  <a:lnTo>
                    <a:pt x="718" y="1164"/>
                  </a:lnTo>
                  <a:lnTo>
                    <a:pt x="722" y="1169"/>
                  </a:lnTo>
                  <a:lnTo>
                    <a:pt x="728" y="1175"/>
                  </a:lnTo>
                  <a:lnTo>
                    <a:pt x="736" y="1181"/>
                  </a:lnTo>
                  <a:lnTo>
                    <a:pt x="745" y="1186"/>
                  </a:lnTo>
                  <a:lnTo>
                    <a:pt x="758" y="1192"/>
                  </a:lnTo>
                  <a:lnTo>
                    <a:pt x="772" y="1199"/>
                  </a:lnTo>
                  <a:lnTo>
                    <a:pt x="790" y="1204"/>
                  </a:lnTo>
                  <a:lnTo>
                    <a:pt x="812" y="1209"/>
                  </a:lnTo>
                  <a:lnTo>
                    <a:pt x="840" y="1216"/>
                  </a:lnTo>
                  <a:lnTo>
                    <a:pt x="867" y="1221"/>
                  </a:lnTo>
                  <a:lnTo>
                    <a:pt x="894" y="1225"/>
                  </a:lnTo>
                  <a:lnTo>
                    <a:pt x="926" y="1230"/>
                  </a:lnTo>
                  <a:lnTo>
                    <a:pt x="957" y="1233"/>
                  </a:lnTo>
                  <a:lnTo>
                    <a:pt x="990" y="1236"/>
                  </a:lnTo>
                  <a:lnTo>
                    <a:pt x="1022" y="1237"/>
                  </a:lnTo>
                  <a:lnTo>
                    <a:pt x="1055" y="1237"/>
                  </a:lnTo>
                  <a:lnTo>
                    <a:pt x="1088" y="1237"/>
                  </a:lnTo>
                  <a:lnTo>
                    <a:pt x="1119" y="1236"/>
                  </a:lnTo>
                  <a:lnTo>
                    <a:pt x="1148" y="1231"/>
                  </a:lnTo>
                  <a:lnTo>
                    <a:pt x="1176" y="1227"/>
                  </a:lnTo>
                  <a:lnTo>
                    <a:pt x="1203" y="1221"/>
                  </a:lnTo>
                  <a:lnTo>
                    <a:pt x="1225" y="1214"/>
                  </a:lnTo>
                  <a:lnTo>
                    <a:pt x="1246" y="1204"/>
                  </a:lnTo>
                  <a:lnTo>
                    <a:pt x="1242" y="1186"/>
                  </a:lnTo>
                  <a:lnTo>
                    <a:pt x="1237" y="1169"/>
                  </a:lnTo>
                  <a:lnTo>
                    <a:pt x="1235" y="1150"/>
                  </a:lnTo>
                  <a:lnTo>
                    <a:pt x="1235" y="1130"/>
                  </a:lnTo>
                  <a:lnTo>
                    <a:pt x="1232" y="1089"/>
                  </a:lnTo>
                  <a:lnTo>
                    <a:pt x="1235" y="1047"/>
                  </a:lnTo>
                  <a:lnTo>
                    <a:pt x="1237" y="1006"/>
                  </a:lnTo>
                  <a:lnTo>
                    <a:pt x="1242" y="970"/>
                  </a:lnTo>
                  <a:lnTo>
                    <a:pt x="1246" y="940"/>
                  </a:lnTo>
                  <a:lnTo>
                    <a:pt x="1246" y="916"/>
                  </a:lnTo>
                  <a:lnTo>
                    <a:pt x="1246" y="907"/>
                  </a:lnTo>
                  <a:lnTo>
                    <a:pt x="1240" y="898"/>
                  </a:lnTo>
                  <a:lnTo>
                    <a:pt x="1235" y="890"/>
                  </a:lnTo>
                  <a:lnTo>
                    <a:pt x="1223" y="881"/>
                  </a:lnTo>
                  <a:lnTo>
                    <a:pt x="1213" y="875"/>
                  </a:lnTo>
                  <a:lnTo>
                    <a:pt x="1198" y="868"/>
                  </a:lnTo>
                  <a:lnTo>
                    <a:pt x="1183" y="862"/>
                  </a:lnTo>
                  <a:lnTo>
                    <a:pt x="1169" y="859"/>
                  </a:lnTo>
                  <a:lnTo>
                    <a:pt x="1153" y="855"/>
                  </a:lnTo>
                  <a:lnTo>
                    <a:pt x="1136" y="853"/>
                  </a:lnTo>
                  <a:lnTo>
                    <a:pt x="1121" y="853"/>
                  </a:lnTo>
                  <a:lnTo>
                    <a:pt x="1104" y="853"/>
                  </a:lnTo>
                  <a:lnTo>
                    <a:pt x="1090" y="855"/>
                  </a:lnTo>
                  <a:lnTo>
                    <a:pt x="1077" y="860"/>
                  </a:lnTo>
                  <a:lnTo>
                    <a:pt x="1063" y="865"/>
                  </a:lnTo>
                  <a:lnTo>
                    <a:pt x="1052" y="873"/>
                  </a:lnTo>
                  <a:lnTo>
                    <a:pt x="1040" y="880"/>
                  </a:lnTo>
                  <a:lnTo>
                    <a:pt x="1025" y="887"/>
                  </a:lnTo>
                  <a:lnTo>
                    <a:pt x="1009" y="892"/>
                  </a:lnTo>
                  <a:lnTo>
                    <a:pt x="990" y="895"/>
                  </a:lnTo>
                  <a:lnTo>
                    <a:pt x="971" y="896"/>
                  </a:lnTo>
                  <a:lnTo>
                    <a:pt x="948" y="895"/>
                  </a:lnTo>
                  <a:lnTo>
                    <a:pt x="926" y="893"/>
                  </a:lnTo>
                  <a:lnTo>
                    <a:pt x="905" y="889"/>
                  </a:lnTo>
                  <a:lnTo>
                    <a:pt x="884" y="882"/>
                  </a:lnTo>
                  <a:lnTo>
                    <a:pt x="864" y="875"/>
                  </a:lnTo>
                  <a:lnTo>
                    <a:pt x="844" y="865"/>
                  </a:lnTo>
                  <a:lnTo>
                    <a:pt x="828" y="854"/>
                  </a:lnTo>
                  <a:lnTo>
                    <a:pt x="822" y="847"/>
                  </a:lnTo>
                  <a:lnTo>
                    <a:pt x="815" y="840"/>
                  </a:lnTo>
                  <a:lnTo>
                    <a:pt x="810" y="833"/>
                  </a:lnTo>
                  <a:lnTo>
                    <a:pt x="805" y="824"/>
                  </a:lnTo>
                  <a:lnTo>
                    <a:pt x="801" y="815"/>
                  </a:lnTo>
                  <a:lnTo>
                    <a:pt x="799" y="807"/>
                  </a:lnTo>
                  <a:lnTo>
                    <a:pt x="797" y="796"/>
                  </a:lnTo>
                  <a:lnTo>
                    <a:pt x="797" y="787"/>
                  </a:lnTo>
                  <a:lnTo>
                    <a:pt x="797" y="775"/>
                  </a:lnTo>
                  <a:lnTo>
                    <a:pt x="799" y="764"/>
                  </a:lnTo>
                  <a:lnTo>
                    <a:pt x="801" y="752"/>
                  </a:lnTo>
                  <a:lnTo>
                    <a:pt x="805" y="741"/>
                  </a:lnTo>
                  <a:lnTo>
                    <a:pt x="810" y="734"/>
                  </a:lnTo>
                  <a:lnTo>
                    <a:pt x="815" y="724"/>
                  </a:lnTo>
                  <a:lnTo>
                    <a:pt x="822" y="717"/>
                  </a:lnTo>
                  <a:lnTo>
                    <a:pt x="830" y="709"/>
                  </a:lnTo>
                  <a:lnTo>
                    <a:pt x="847" y="696"/>
                  </a:lnTo>
                  <a:lnTo>
                    <a:pt x="867" y="684"/>
                  </a:lnTo>
                  <a:lnTo>
                    <a:pt x="889" y="676"/>
                  </a:lnTo>
                  <a:lnTo>
                    <a:pt x="911" y="670"/>
                  </a:lnTo>
                  <a:lnTo>
                    <a:pt x="934" y="665"/>
                  </a:lnTo>
                  <a:lnTo>
                    <a:pt x="957" y="663"/>
                  </a:lnTo>
                  <a:lnTo>
                    <a:pt x="980" y="663"/>
                  </a:lnTo>
                  <a:lnTo>
                    <a:pt x="1003" y="665"/>
                  </a:lnTo>
                  <a:lnTo>
                    <a:pt x="1025" y="668"/>
                  </a:lnTo>
                  <a:lnTo>
                    <a:pt x="1045" y="675"/>
                  </a:lnTo>
                  <a:lnTo>
                    <a:pt x="1061" y="682"/>
                  </a:lnTo>
                  <a:lnTo>
                    <a:pt x="1077" y="690"/>
                  </a:lnTo>
                  <a:lnTo>
                    <a:pt x="1084" y="696"/>
                  </a:lnTo>
                  <a:lnTo>
                    <a:pt x="1094" y="702"/>
                  </a:lnTo>
                  <a:lnTo>
                    <a:pt x="1106" y="707"/>
                  </a:lnTo>
                  <a:lnTo>
                    <a:pt x="1117" y="710"/>
                  </a:lnTo>
                  <a:lnTo>
                    <a:pt x="1131" y="715"/>
                  </a:lnTo>
                  <a:lnTo>
                    <a:pt x="1144" y="717"/>
                  </a:lnTo>
                  <a:lnTo>
                    <a:pt x="1158" y="718"/>
                  </a:lnTo>
                  <a:lnTo>
                    <a:pt x="1173" y="719"/>
                  </a:lnTo>
                  <a:lnTo>
                    <a:pt x="1188" y="719"/>
                  </a:lnTo>
                  <a:lnTo>
                    <a:pt x="1203" y="718"/>
                  </a:lnTo>
                  <a:lnTo>
                    <a:pt x="1217" y="715"/>
                  </a:lnTo>
                  <a:lnTo>
                    <a:pt x="1232" y="712"/>
                  </a:lnTo>
                  <a:lnTo>
                    <a:pt x="1246" y="709"/>
                  </a:lnTo>
                  <a:lnTo>
                    <a:pt x="1262" y="703"/>
                  </a:lnTo>
                  <a:lnTo>
                    <a:pt x="1273" y="697"/>
                  </a:lnTo>
                  <a:lnTo>
                    <a:pt x="1289" y="690"/>
                  </a:lnTo>
                  <a:lnTo>
                    <a:pt x="1292" y="685"/>
                  </a:lnTo>
                  <a:lnTo>
                    <a:pt x="1298" y="682"/>
                  </a:lnTo>
                  <a:lnTo>
                    <a:pt x="1302" y="676"/>
                  </a:lnTo>
                  <a:lnTo>
                    <a:pt x="1304" y="668"/>
                  </a:lnTo>
                  <a:lnTo>
                    <a:pt x="1311" y="654"/>
                  </a:lnTo>
                  <a:lnTo>
                    <a:pt x="1314" y="637"/>
                  </a:lnTo>
                  <a:lnTo>
                    <a:pt x="1314" y="617"/>
                  </a:lnTo>
                  <a:lnTo>
                    <a:pt x="1314" y="596"/>
                  </a:lnTo>
                  <a:lnTo>
                    <a:pt x="1309" y="575"/>
                  </a:lnTo>
                  <a:lnTo>
                    <a:pt x="1304" y="553"/>
                  </a:lnTo>
                  <a:lnTo>
                    <a:pt x="1292" y="507"/>
                  </a:lnTo>
                  <a:lnTo>
                    <a:pt x="1277" y="466"/>
                  </a:lnTo>
                  <a:lnTo>
                    <a:pt x="1262" y="428"/>
                  </a:lnTo>
                  <a:lnTo>
                    <a:pt x="1246" y="399"/>
                  </a:lnTo>
                  <a:lnTo>
                    <a:pt x="1213" y="404"/>
                  </a:lnTo>
                  <a:lnTo>
                    <a:pt x="1178" y="407"/>
                  </a:lnTo>
                  <a:lnTo>
                    <a:pt x="1142" y="410"/>
                  </a:lnTo>
                  <a:lnTo>
                    <a:pt x="1104" y="410"/>
                  </a:lnTo>
                  <a:lnTo>
                    <a:pt x="1069" y="410"/>
                  </a:lnTo>
                  <a:lnTo>
                    <a:pt x="1034" y="408"/>
                  </a:lnTo>
                  <a:lnTo>
                    <a:pt x="998" y="407"/>
                  </a:lnTo>
                  <a:lnTo>
                    <a:pt x="968" y="404"/>
                  </a:lnTo>
                  <a:lnTo>
                    <a:pt x="907" y="398"/>
                  </a:lnTo>
                  <a:lnTo>
                    <a:pt x="859" y="393"/>
                  </a:lnTo>
                  <a:lnTo>
                    <a:pt x="828" y="388"/>
                  </a:lnTo>
                  <a:lnTo>
                    <a:pt x="817" y="386"/>
                  </a:lnTo>
                  <a:lnTo>
                    <a:pt x="790" y="378"/>
                  </a:lnTo>
                  <a:lnTo>
                    <a:pt x="768" y="368"/>
                  </a:lnTo>
                  <a:lnTo>
                    <a:pt x="747" y="358"/>
                  </a:lnTo>
                  <a:lnTo>
                    <a:pt x="733" y="346"/>
                  </a:lnTo>
                  <a:lnTo>
                    <a:pt x="720" y="333"/>
                  </a:lnTo>
                  <a:lnTo>
                    <a:pt x="711" y="321"/>
                  </a:lnTo>
                  <a:lnTo>
                    <a:pt x="706" y="307"/>
                  </a:lnTo>
                  <a:lnTo>
                    <a:pt x="701" y="294"/>
                  </a:lnTo>
                  <a:lnTo>
                    <a:pt x="701" y="280"/>
                  </a:lnTo>
                  <a:lnTo>
                    <a:pt x="704" y="267"/>
                  </a:lnTo>
                  <a:lnTo>
                    <a:pt x="709" y="254"/>
                  </a:lnTo>
                  <a:lnTo>
                    <a:pt x="713" y="242"/>
                  </a:lnTo>
                  <a:lnTo>
                    <a:pt x="720" y="231"/>
                  </a:lnTo>
                  <a:lnTo>
                    <a:pt x="731" y="221"/>
                  </a:lnTo>
                  <a:lnTo>
                    <a:pt x="743" y="211"/>
                  </a:lnTo>
                  <a:lnTo>
                    <a:pt x="755" y="203"/>
                  </a:lnTo>
                  <a:lnTo>
                    <a:pt x="768" y="195"/>
                  </a:lnTo>
                  <a:lnTo>
                    <a:pt x="778" y="183"/>
                  </a:lnTo>
                  <a:lnTo>
                    <a:pt x="788" y="170"/>
                  </a:lnTo>
                  <a:lnTo>
                    <a:pt x="797" y="155"/>
                  </a:lnTo>
                  <a:lnTo>
                    <a:pt x="803" y="139"/>
                  </a:lnTo>
                  <a:lnTo>
                    <a:pt x="805" y="122"/>
                  </a:lnTo>
                  <a:lnTo>
                    <a:pt x="807" y="105"/>
                  </a:lnTo>
                  <a:lnTo>
                    <a:pt x="803" y="87"/>
                  </a:lnTo>
                  <a:lnTo>
                    <a:pt x="797" y="70"/>
                  </a:lnTo>
                  <a:lnTo>
                    <a:pt x="788" y="54"/>
                  </a:lnTo>
                  <a:lnTo>
                    <a:pt x="783" y="47"/>
                  </a:lnTo>
                  <a:lnTo>
                    <a:pt x="774" y="39"/>
                  </a:lnTo>
                  <a:lnTo>
                    <a:pt x="765" y="32"/>
                  </a:lnTo>
                  <a:lnTo>
                    <a:pt x="755" y="27"/>
                  </a:lnTo>
                  <a:lnTo>
                    <a:pt x="745" y="21"/>
                  </a:lnTo>
                  <a:lnTo>
                    <a:pt x="733" y="15"/>
                  </a:lnTo>
                  <a:lnTo>
                    <a:pt x="718" y="11"/>
                  </a:lnTo>
                  <a:lnTo>
                    <a:pt x="704" y="8"/>
                  </a:lnTo>
                  <a:lnTo>
                    <a:pt x="686" y="3"/>
                  </a:lnTo>
                  <a:lnTo>
                    <a:pt x="670" y="2"/>
                  </a:lnTo>
                  <a:lnTo>
                    <a:pt x="652" y="0"/>
                  </a:lnTo>
                  <a:lnTo>
                    <a:pt x="630" y="0"/>
                  </a:lnTo>
                  <a:lnTo>
                    <a:pt x="612" y="0"/>
                  </a:lnTo>
                  <a:lnTo>
                    <a:pt x="593" y="2"/>
                  </a:lnTo>
                  <a:lnTo>
                    <a:pt x="578" y="3"/>
                  </a:lnTo>
                  <a:lnTo>
                    <a:pt x="562" y="7"/>
                  </a:lnTo>
                  <a:lnTo>
                    <a:pt x="548" y="10"/>
                  </a:lnTo>
                  <a:lnTo>
                    <a:pt x="533" y="12"/>
                  </a:lnTo>
                  <a:lnTo>
                    <a:pt x="521" y="17"/>
                  </a:lnTo>
                  <a:lnTo>
                    <a:pt x="508" y="22"/>
                  </a:lnTo>
                  <a:lnTo>
                    <a:pt x="498" y="27"/>
                  </a:lnTo>
                  <a:lnTo>
                    <a:pt x="487" y="32"/>
                  </a:lnTo>
                  <a:lnTo>
                    <a:pt x="479" y="38"/>
                  </a:lnTo>
                  <a:lnTo>
                    <a:pt x="471" y="45"/>
                  </a:lnTo>
                  <a:lnTo>
                    <a:pt x="458" y="58"/>
                  </a:lnTo>
                  <a:lnTo>
                    <a:pt x="447" y="74"/>
                  </a:lnTo>
                  <a:lnTo>
                    <a:pt x="442" y="89"/>
                  </a:lnTo>
                  <a:lnTo>
                    <a:pt x="439" y="106"/>
                  </a:lnTo>
                  <a:lnTo>
                    <a:pt x="439" y="122"/>
                  </a:lnTo>
                  <a:lnTo>
                    <a:pt x="442" y="138"/>
                  </a:lnTo>
                  <a:lnTo>
                    <a:pt x="447" y="153"/>
                  </a:lnTo>
                  <a:lnTo>
                    <a:pt x="458" y="168"/>
                  </a:lnTo>
                  <a:lnTo>
                    <a:pt x="471" y="180"/>
                  </a:lnTo>
                  <a:lnTo>
                    <a:pt x="485" y="194"/>
                  </a:lnTo>
                  <a:lnTo>
                    <a:pt x="499" y="205"/>
                  </a:lnTo>
                  <a:lnTo>
                    <a:pt x="512" y="217"/>
                  </a:lnTo>
                  <a:lnTo>
                    <a:pt x="523" y="231"/>
                  </a:lnTo>
                  <a:lnTo>
                    <a:pt x="528" y="244"/>
                  </a:lnTo>
                  <a:lnTo>
                    <a:pt x="533" y="258"/>
                  </a:lnTo>
                  <a:lnTo>
                    <a:pt x="533" y="272"/>
                  </a:lnTo>
                  <a:lnTo>
                    <a:pt x="531" y="286"/>
                  </a:lnTo>
                  <a:lnTo>
                    <a:pt x="526" y="300"/>
                  </a:lnTo>
                  <a:lnTo>
                    <a:pt x="516" y="314"/>
                  </a:lnTo>
                  <a:lnTo>
                    <a:pt x="503" y="327"/>
                  </a:lnTo>
                  <a:lnTo>
                    <a:pt x="489" y="339"/>
                  </a:lnTo>
                  <a:lnTo>
                    <a:pt x="471" y="352"/>
                  </a:lnTo>
                  <a:lnTo>
                    <a:pt x="449" y="362"/>
                  </a:lnTo>
                  <a:lnTo>
                    <a:pt x="424" y="370"/>
                  </a:lnTo>
                  <a:lnTo>
                    <a:pt x="395" y="379"/>
                  </a:lnTo>
                  <a:lnTo>
                    <a:pt x="365" y="386"/>
                  </a:lnTo>
                  <a:lnTo>
                    <a:pt x="340" y="386"/>
                  </a:lnTo>
                  <a:lnTo>
                    <a:pt x="306" y="386"/>
                  </a:lnTo>
                  <a:lnTo>
                    <a:pt x="271" y="386"/>
                  </a:lnTo>
                  <a:lnTo>
                    <a:pt x="229" y="386"/>
                  </a:lnTo>
                  <a:lnTo>
                    <a:pt x="185" y="386"/>
                  </a:lnTo>
                  <a:lnTo>
                    <a:pt x="138" y="386"/>
                  </a:lnTo>
                  <a:lnTo>
                    <a:pt x="88" y="386"/>
                  </a:lnTo>
                  <a:lnTo>
                    <a:pt x="36" y="386"/>
                  </a:lnTo>
                  <a:lnTo>
                    <a:pt x="29" y="411"/>
                  </a:lnTo>
                  <a:lnTo>
                    <a:pt x="21" y="445"/>
                  </a:lnTo>
                  <a:lnTo>
                    <a:pt x="15" y="483"/>
                  </a:lnTo>
                  <a:lnTo>
                    <a:pt x="9" y="523"/>
                  </a:lnTo>
                  <a:lnTo>
                    <a:pt x="2" y="562"/>
                  </a:lnTo>
                  <a:lnTo>
                    <a:pt x="0" y="598"/>
                  </a:lnTo>
                  <a:lnTo>
                    <a:pt x="0" y="625"/>
                  </a:lnTo>
                  <a:lnTo>
                    <a:pt x="0" y="645"/>
                  </a:lnTo>
                  <a:lnTo>
                    <a:pt x="7" y="654"/>
                  </a:lnTo>
                  <a:lnTo>
                    <a:pt x="13" y="664"/>
                  </a:lnTo>
                  <a:lnTo>
                    <a:pt x="24" y="671"/>
                  </a:lnTo>
                  <a:lnTo>
                    <a:pt x="36" y="679"/>
                  </a:lnTo>
                  <a:lnTo>
                    <a:pt x="51" y="685"/>
                  </a:lnTo>
                  <a:lnTo>
                    <a:pt x="67" y="690"/>
                  </a:lnTo>
                  <a:lnTo>
                    <a:pt x="86" y="694"/>
                  </a:lnTo>
                  <a:lnTo>
                    <a:pt x="103" y="697"/>
                  </a:lnTo>
                  <a:lnTo>
                    <a:pt x="123" y="699"/>
                  </a:lnTo>
                  <a:lnTo>
                    <a:pt x="142" y="699"/>
                  </a:lnTo>
                  <a:lnTo>
                    <a:pt x="160" y="699"/>
                  </a:lnTo>
                  <a:lnTo>
                    <a:pt x="180" y="697"/>
                  </a:lnTo>
                  <a:lnTo>
                    <a:pt x="198" y="694"/>
                  </a:lnTo>
                  <a:lnTo>
                    <a:pt x="214" y="689"/>
                  </a:lnTo>
                  <a:lnTo>
                    <a:pt x="229" y="682"/>
                  </a:lnTo>
                  <a:lnTo>
                    <a:pt x="244" y="676"/>
                  </a:lnTo>
                  <a:lnTo>
                    <a:pt x="256" y="667"/>
                  </a:lnTo>
                  <a:lnTo>
                    <a:pt x="273" y="662"/>
                  </a:lnTo>
                  <a:lnTo>
                    <a:pt x="289" y="657"/>
                  </a:lnTo>
                  <a:lnTo>
                    <a:pt x="308" y="655"/>
                  </a:lnTo>
                  <a:lnTo>
                    <a:pt x="329" y="654"/>
                  </a:lnTo>
                  <a:lnTo>
                    <a:pt x="348" y="655"/>
                  </a:lnTo>
                  <a:lnTo>
                    <a:pt x="368" y="659"/>
                  </a:lnTo>
                  <a:lnTo>
                    <a:pt x="390" y="664"/>
                  </a:lnTo>
                  <a:lnTo>
                    <a:pt x="408" y="671"/>
                  </a:lnTo>
                  <a:lnTo>
                    <a:pt x="427" y="680"/>
                  </a:lnTo>
                  <a:lnTo>
                    <a:pt x="442" y="690"/>
                  </a:lnTo>
                  <a:lnTo>
                    <a:pt x="456" y="703"/>
                  </a:lnTo>
                  <a:lnTo>
                    <a:pt x="469" y="718"/>
                  </a:lnTo>
                  <a:lnTo>
                    <a:pt x="476" y="734"/>
                  </a:lnTo>
                  <a:lnTo>
                    <a:pt x="483" y="752"/>
                  </a:lnTo>
                  <a:lnTo>
                    <a:pt x="485" y="771"/>
                  </a:lnTo>
                  <a:lnTo>
                    <a:pt x="483" y="785"/>
                  </a:lnTo>
                  <a:lnTo>
                    <a:pt x="476" y="798"/>
                  </a:lnTo>
                  <a:lnTo>
                    <a:pt x="469" y="811"/>
                  </a:lnTo>
                  <a:lnTo>
                    <a:pt x="456" y="821"/>
                  </a:lnTo>
                  <a:lnTo>
                    <a:pt x="442" y="831"/>
                  </a:lnTo>
                  <a:lnTo>
                    <a:pt x="427" y="840"/>
                  </a:lnTo>
                  <a:lnTo>
                    <a:pt x="408" y="847"/>
                  </a:lnTo>
                  <a:lnTo>
                    <a:pt x="390" y="853"/>
                  </a:lnTo>
                  <a:lnTo>
                    <a:pt x="368" y="857"/>
                  </a:lnTo>
                  <a:lnTo>
                    <a:pt x="348" y="860"/>
                  </a:lnTo>
                  <a:lnTo>
                    <a:pt x="329" y="860"/>
                  </a:lnTo>
                  <a:lnTo>
                    <a:pt x="308" y="859"/>
                  </a:lnTo>
                  <a:lnTo>
                    <a:pt x="289" y="855"/>
                  </a:lnTo>
                  <a:lnTo>
                    <a:pt x="273" y="850"/>
                  </a:lnTo>
                  <a:lnTo>
                    <a:pt x="256" y="843"/>
                  </a:lnTo>
                  <a:lnTo>
                    <a:pt x="244" y="833"/>
                  </a:lnTo>
                  <a:lnTo>
                    <a:pt x="232" y="823"/>
                  </a:lnTo>
                  <a:lnTo>
                    <a:pt x="217" y="815"/>
                  </a:lnTo>
                  <a:lnTo>
                    <a:pt x="202" y="809"/>
                  </a:lnTo>
                  <a:lnTo>
                    <a:pt x="187" y="806"/>
                  </a:lnTo>
                  <a:lnTo>
                    <a:pt x="171" y="804"/>
                  </a:lnTo>
                  <a:lnTo>
                    <a:pt x="155" y="804"/>
                  </a:lnTo>
                  <a:lnTo>
                    <a:pt x="138" y="806"/>
                  </a:lnTo>
                  <a:lnTo>
                    <a:pt x="121" y="808"/>
                  </a:lnTo>
                  <a:lnTo>
                    <a:pt x="104" y="813"/>
                  </a:lnTo>
                  <a:lnTo>
                    <a:pt x="88" y="820"/>
                  </a:lnTo>
                  <a:lnTo>
                    <a:pt x="73" y="826"/>
                  </a:lnTo>
                  <a:lnTo>
                    <a:pt x="59" y="835"/>
                  </a:lnTo>
                  <a:lnTo>
                    <a:pt x="46" y="844"/>
                  </a:lnTo>
                  <a:lnTo>
                    <a:pt x="34" y="854"/>
                  </a:lnTo>
                  <a:lnTo>
                    <a:pt x="24" y="865"/>
                  </a:lnTo>
                  <a:lnTo>
                    <a:pt x="17" y="879"/>
                  </a:lnTo>
                  <a:lnTo>
                    <a:pt x="11" y="892"/>
                  </a:lnTo>
                  <a:lnTo>
                    <a:pt x="9" y="907"/>
                  </a:lnTo>
                  <a:lnTo>
                    <a:pt x="11" y="926"/>
                  </a:lnTo>
                  <a:lnTo>
                    <a:pt x="13" y="945"/>
                  </a:lnTo>
                  <a:lnTo>
                    <a:pt x="24" y="989"/>
                  </a:lnTo>
                  <a:lnTo>
                    <a:pt x="36" y="1035"/>
                  </a:lnTo>
                  <a:lnTo>
                    <a:pt x="42" y="1059"/>
                  </a:lnTo>
                  <a:lnTo>
                    <a:pt x="49" y="1082"/>
                  </a:lnTo>
                  <a:lnTo>
                    <a:pt x="52" y="1106"/>
                  </a:lnTo>
                  <a:lnTo>
                    <a:pt x="54" y="1129"/>
                  </a:lnTo>
                  <a:lnTo>
                    <a:pt x="54" y="1149"/>
                  </a:lnTo>
                  <a:lnTo>
                    <a:pt x="52" y="1169"/>
                  </a:lnTo>
                  <a:lnTo>
                    <a:pt x="51" y="1179"/>
                  </a:lnTo>
                  <a:lnTo>
                    <a:pt x="46" y="1188"/>
                  </a:lnTo>
                  <a:lnTo>
                    <a:pt x="42" y="1196"/>
                  </a:lnTo>
                  <a:lnTo>
                    <a:pt x="36" y="1204"/>
                  </a:lnTo>
                  <a:lnTo>
                    <a:pt x="83" y="1199"/>
                  </a:lnTo>
                  <a:lnTo>
                    <a:pt x="133" y="1191"/>
                  </a:lnTo>
                  <a:lnTo>
                    <a:pt x="183" y="1186"/>
                  </a:lnTo>
                  <a:lnTo>
                    <a:pt x="232" y="1182"/>
                  </a:lnTo>
                  <a:lnTo>
                    <a:pt x="277" y="1181"/>
                  </a:lnTo>
                  <a:lnTo>
                    <a:pt x="321" y="1181"/>
                  </a:lnTo>
                  <a:lnTo>
                    <a:pt x="341" y="1182"/>
                  </a:lnTo>
                  <a:lnTo>
                    <a:pt x="363" y="1185"/>
                  </a:lnTo>
                  <a:lnTo>
                    <a:pt x="379" y="1188"/>
                  </a:lnTo>
                  <a:lnTo>
                    <a:pt x="397" y="1192"/>
                  </a:lnTo>
                  <a:close/>
                </a:path>
              </a:pathLst>
            </a:custGeom>
            <a:solidFill>
              <a:srgbClr val="1effb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32200" y="2826000"/>
              <a:ext cx="3333240" cy="2138040"/>
            </a:xfrm>
            <a:custGeom>
              <a:avLst/>
              <a:gdLst/>
              <a:ahLst/>
              <a:rect l="l" t="t" r="r" b="b"/>
              <a:pathLst>
                <a:path w="2100" h="1123">
                  <a:moveTo>
                    <a:pt x="412" y="642"/>
                  </a:moveTo>
                  <a:lnTo>
                    <a:pt x="401" y="648"/>
                  </a:lnTo>
                  <a:lnTo>
                    <a:pt x="389" y="653"/>
                  </a:lnTo>
                  <a:lnTo>
                    <a:pt x="377" y="656"/>
                  </a:lnTo>
                  <a:lnTo>
                    <a:pt x="365" y="660"/>
                  </a:lnTo>
                  <a:lnTo>
                    <a:pt x="353" y="660"/>
                  </a:lnTo>
                  <a:lnTo>
                    <a:pt x="341" y="660"/>
                  </a:lnTo>
                  <a:lnTo>
                    <a:pt x="330" y="658"/>
                  </a:lnTo>
                  <a:lnTo>
                    <a:pt x="318" y="655"/>
                  </a:lnTo>
                  <a:lnTo>
                    <a:pt x="293" y="649"/>
                  </a:lnTo>
                  <a:lnTo>
                    <a:pt x="270" y="641"/>
                  </a:lnTo>
                  <a:lnTo>
                    <a:pt x="245" y="631"/>
                  </a:lnTo>
                  <a:lnTo>
                    <a:pt x="222" y="623"/>
                  </a:lnTo>
                  <a:lnTo>
                    <a:pt x="197" y="614"/>
                  </a:lnTo>
                  <a:lnTo>
                    <a:pt x="171" y="606"/>
                  </a:lnTo>
                  <a:lnTo>
                    <a:pt x="158" y="606"/>
                  </a:lnTo>
                  <a:lnTo>
                    <a:pt x="146" y="604"/>
                  </a:lnTo>
                  <a:lnTo>
                    <a:pt x="133" y="604"/>
                  </a:lnTo>
                  <a:lnTo>
                    <a:pt x="120" y="604"/>
                  </a:lnTo>
                  <a:lnTo>
                    <a:pt x="108" y="606"/>
                  </a:lnTo>
                  <a:lnTo>
                    <a:pt x="93" y="609"/>
                  </a:lnTo>
                  <a:lnTo>
                    <a:pt x="80" y="614"/>
                  </a:lnTo>
                  <a:lnTo>
                    <a:pt x="68" y="621"/>
                  </a:lnTo>
                  <a:lnTo>
                    <a:pt x="53" y="628"/>
                  </a:lnTo>
                  <a:lnTo>
                    <a:pt x="41" y="638"/>
                  </a:lnTo>
                  <a:lnTo>
                    <a:pt x="25" y="651"/>
                  </a:lnTo>
                  <a:lnTo>
                    <a:pt x="13" y="665"/>
                  </a:lnTo>
                  <a:lnTo>
                    <a:pt x="7" y="673"/>
                  </a:lnTo>
                  <a:lnTo>
                    <a:pt x="2" y="683"/>
                  </a:lnTo>
                  <a:lnTo>
                    <a:pt x="0" y="695"/>
                  </a:lnTo>
                  <a:lnTo>
                    <a:pt x="0" y="709"/>
                  </a:lnTo>
                  <a:lnTo>
                    <a:pt x="2" y="721"/>
                  </a:lnTo>
                  <a:lnTo>
                    <a:pt x="9" y="735"/>
                  </a:lnTo>
                  <a:lnTo>
                    <a:pt x="17" y="749"/>
                  </a:lnTo>
                  <a:lnTo>
                    <a:pt x="27" y="761"/>
                  </a:lnTo>
                  <a:lnTo>
                    <a:pt x="43" y="772"/>
                  </a:lnTo>
                  <a:lnTo>
                    <a:pt x="59" y="782"/>
                  </a:lnTo>
                  <a:lnTo>
                    <a:pt x="70" y="786"/>
                  </a:lnTo>
                  <a:lnTo>
                    <a:pt x="80" y="791"/>
                  </a:lnTo>
                  <a:lnTo>
                    <a:pt x="91" y="794"/>
                  </a:lnTo>
                  <a:lnTo>
                    <a:pt x="104" y="797"/>
                  </a:lnTo>
                  <a:lnTo>
                    <a:pt x="116" y="798"/>
                  </a:lnTo>
                  <a:lnTo>
                    <a:pt x="130" y="799"/>
                  </a:lnTo>
                  <a:lnTo>
                    <a:pt x="146" y="799"/>
                  </a:lnTo>
                  <a:lnTo>
                    <a:pt x="162" y="799"/>
                  </a:lnTo>
                  <a:lnTo>
                    <a:pt x="180" y="798"/>
                  </a:lnTo>
                  <a:lnTo>
                    <a:pt x="197" y="797"/>
                  </a:lnTo>
                  <a:lnTo>
                    <a:pt x="215" y="792"/>
                  </a:lnTo>
                  <a:lnTo>
                    <a:pt x="235" y="787"/>
                  </a:lnTo>
                  <a:lnTo>
                    <a:pt x="266" y="781"/>
                  </a:lnTo>
                  <a:lnTo>
                    <a:pt x="291" y="775"/>
                  </a:lnTo>
                  <a:lnTo>
                    <a:pt x="316" y="771"/>
                  </a:lnTo>
                  <a:lnTo>
                    <a:pt x="340" y="769"/>
                  </a:lnTo>
                  <a:lnTo>
                    <a:pt x="350" y="771"/>
                  </a:lnTo>
                  <a:lnTo>
                    <a:pt x="361" y="772"/>
                  </a:lnTo>
                  <a:lnTo>
                    <a:pt x="369" y="775"/>
                  </a:lnTo>
                  <a:lnTo>
                    <a:pt x="380" y="779"/>
                  </a:lnTo>
                  <a:lnTo>
                    <a:pt x="389" y="784"/>
                  </a:lnTo>
                  <a:lnTo>
                    <a:pt x="397" y="792"/>
                  </a:lnTo>
                  <a:lnTo>
                    <a:pt x="405" y="801"/>
                  </a:lnTo>
                  <a:lnTo>
                    <a:pt x="412" y="812"/>
                  </a:lnTo>
                  <a:lnTo>
                    <a:pt x="419" y="824"/>
                  </a:lnTo>
                  <a:lnTo>
                    <a:pt x="426" y="839"/>
                  </a:lnTo>
                  <a:lnTo>
                    <a:pt x="430" y="855"/>
                  </a:lnTo>
                  <a:lnTo>
                    <a:pt x="437" y="870"/>
                  </a:lnTo>
                  <a:lnTo>
                    <a:pt x="442" y="888"/>
                  </a:lnTo>
                  <a:lnTo>
                    <a:pt x="444" y="907"/>
                  </a:lnTo>
                  <a:lnTo>
                    <a:pt x="445" y="927"/>
                  </a:lnTo>
                  <a:lnTo>
                    <a:pt x="445" y="946"/>
                  </a:lnTo>
                  <a:lnTo>
                    <a:pt x="445" y="966"/>
                  </a:lnTo>
                  <a:lnTo>
                    <a:pt x="445" y="987"/>
                  </a:lnTo>
                  <a:lnTo>
                    <a:pt x="442" y="1007"/>
                  </a:lnTo>
                  <a:lnTo>
                    <a:pt x="437" y="1027"/>
                  </a:lnTo>
                  <a:lnTo>
                    <a:pt x="433" y="1046"/>
                  </a:lnTo>
                  <a:lnTo>
                    <a:pt x="424" y="1065"/>
                  </a:lnTo>
                  <a:lnTo>
                    <a:pt x="416" y="1083"/>
                  </a:lnTo>
                  <a:lnTo>
                    <a:pt x="407" y="1101"/>
                  </a:lnTo>
                  <a:lnTo>
                    <a:pt x="460" y="1101"/>
                  </a:lnTo>
                  <a:lnTo>
                    <a:pt x="511" y="1101"/>
                  </a:lnTo>
                  <a:lnTo>
                    <a:pt x="561" y="1101"/>
                  </a:lnTo>
                  <a:lnTo>
                    <a:pt x="605" y="1101"/>
                  </a:lnTo>
                  <a:lnTo>
                    <a:pt x="648" y="1101"/>
                  </a:lnTo>
                  <a:lnTo>
                    <a:pt x="686" y="1101"/>
                  </a:lnTo>
                  <a:lnTo>
                    <a:pt x="719" y="1101"/>
                  </a:lnTo>
                  <a:lnTo>
                    <a:pt x="745" y="1101"/>
                  </a:lnTo>
                  <a:lnTo>
                    <a:pt x="779" y="1093"/>
                  </a:lnTo>
                  <a:lnTo>
                    <a:pt x="806" y="1086"/>
                  </a:lnTo>
                  <a:lnTo>
                    <a:pt x="832" y="1076"/>
                  </a:lnTo>
                  <a:lnTo>
                    <a:pt x="854" y="1066"/>
                  </a:lnTo>
                  <a:lnTo>
                    <a:pt x="871" y="1055"/>
                  </a:lnTo>
                  <a:lnTo>
                    <a:pt x="889" y="1042"/>
                  </a:lnTo>
                  <a:lnTo>
                    <a:pt x="899" y="1030"/>
                  </a:lnTo>
                  <a:lnTo>
                    <a:pt x="907" y="1017"/>
                  </a:lnTo>
                  <a:lnTo>
                    <a:pt x="914" y="1002"/>
                  </a:lnTo>
                  <a:lnTo>
                    <a:pt x="916" y="989"/>
                  </a:lnTo>
                  <a:lnTo>
                    <a:pt x="916" y="975"/>
                  </a:lnTo>
                  <a:lnTo>
                    <a:pt x="911" y="962"/>
                  </a:lnTo>
                  <a:lnTo>
                    <a:pt x="905" y="947"/>
                  </a:lnTo>
                  <a:lnTo>
                    <a:pt x="894" y="935"/>
                  </a:lnTo>
                  <a:lnTo>
                    <a:pt x="884" y="923"/>
                  </a:lnTo>
                  <a:lnTo>
                    <a:pt x="867" y="910"/>
                  </a:lnTo>
                  <a:lnTo>
                    <a:pt x="852" y="898"/>
                  </a:lnTo>
                  <a:lnTo>
                    <a:pt x="840" y="886"/>
                  </a:lnTo>
                  <a:lnTo>
                    <a:pt x="832" y="871"/>
                  </a:lnTo>
                  <a:lnTo>
                    <a:pt x="822" y="856"/>
                  </a:lnTo>
                  <a:lnTo>
                    <a:pt x="820" y="840"/>
                  </a:lnTo>
                  <a:lnTo>
                    <a:pt x="820" y="824"/>
                  </a:lnTo>
                  <a:lnTo>
                    <a:pt x="822" y="809"/>
                  </a:lnTo>
                  <a:lnTo>
                    <a:pt x="830" y="794"/>
                  </a:lnTo>
                  <a:lnTo>
                    <a:pt x="840" y="779"/>
                  </a:lnTo>
                  <a:lnTo>
                    <a:pt x="852" y="765"/>
                  </a:lnTo>
                  <a:lnTo>
                    <a:pt x="862" y="759"/>
                  </a:lnTo>
                  <a:lnTo>
                    <a:pt x="871" y="752"/>
                  </a:lnTo>
                  <a:lnTo>
                    <a:pt x="880" y="747"/>
                  </a:lnTo>
                  <a:lnTo>
                    <a:pt x="892" y="742"/>
                  </a:lnTo>
                  <a:lnTo>
                    <a:pt x="903" y="738"/>
                  </a:lnTo>
                  <a:lnTo>
                    <a:pt x="916" y="734"/>
                  </a:lnTo>
                  <a:lnTo>
                    <a:pt x="931" y="730"/>
                  </a:lnTo>
                  <a:lnTo>
                    <a:pt x="945" y="727"/>
                  </a:lnTo>
                  <a:lnTo>
                    <a:pt x="960" y="725"/>
                  </a:lnTo>
                  <a:lnTo>
                    <a:pt x="977" y="722"/>
                  </a:lnTo>
                  <a:lnTo>
                    <a:pt x="996" y="721"/>
                  </a:lnTo>
                  <a:lnTo>
                    <a:pt x="1015" y="721"/>
                  </a:lnTo>
                  <a:lnTo>
                    <a:pt x="1036" y="721"/>
                  </a:lnTo>
                  <a:lnTo>
                    <a:pt x="1055" y="722"/>
                  </a:lnTo>
                  <a:lnTo>
                    <a:pt x="1072" y="726"/>
                  </a:lnTo>
                  <a:lnTo>
                    <a:pt x="1089" y="729"/>
                  </a:lnTo>
                  <a:lnTo>
                    <a:pt x="1103" y="732"/>
                  </a:lnTo>
                  <a:lnTo>
                    <a:pt x="1119" y="737"/>
                  </a:lnTo>
                  <a:lnTo>
                    <a:pt x="1131" y="741"/>
                  </a:lnTo>
                  <a:lnTo>
                    <a:pt x="1141" y="747"/>
                  </a:lnTo>
                  <a:lnTo>
                    <a:pt x="1152" y="752"/>
                  </a:lnTo>
                  <a:lnTo>
                    <a:pt x="1160" y="759"/>
                  </a:lnTo>
                  <a:lnTo>
                    <a:pt x="1169" y="767"/>
                  </a:lnTo>
                  <a:lnTo>
                    <a:pt x="1176" y="774"/>
                  </a:lnTo>
                  <a:lnTo>
                    <a:pt x="1186" y="791"/>
                  </a:lnTo>
                  <a:lnTo>
                    <a:pt x="1192" y="806"/>
                  </a:lnTo>
                  <a:lnTo>
                    <a:pt x="1194" y="823"/>
                  </a:lnTo>
                  <a:lnTo>
                    <a:pt x="1194" y="840"/>
                  </a:lnTo>
                  <a:lnTo>
                    <a:pt x="1190" y="857"/>
                  </a:lnTo>
                  <a:lnTo>
                    <a:pt x="1183" y="873"/>
                  </a:lnTo>
                  <a:lnTo>
                    <a:pt x="1176" y="888"/>
                  </a:lnTo>
                  <a:lnTo>
                    <a:pt x="1167" y="901"/>
                  </a:lnTo>
                  <a:lnTo>
                    <a:pt x="1155" y="912"/>
                  </a:lnTo>
                  <a:lnTo>
                    <a:pt x="1141" y="921"/>
                  </a:lnTo>
                  <a:lnTo>
                    <a:pt x="1129" y="928"/>
                  </a:lnTo>
                  <a:lnTo>
                    <a:pt x="1116" y="937"/>
                  </a:lnTo>
                  <a:lnTo>
                    <a:pt x="1107" y="947"/>
                  </a:lnTo>
                  <a:lnTo>
                    <a:pt x="1099" y="959"/>
                  </a:lnTo>
                  <a:lnTo>
                    <a:pt x="1093" y="970"/>
                  </a:lnTo>
                  <a:lnTo>
                    <a:pt x="1089" y="982"/>
                  </a:lnTo>
                  <a:lnTo>
                    <a:pt x="1087" y="996"/>
                  </a:lnTo>
                  <a:lnTo>
                    <a:pt x="1087" y="1010"/>
                  </a:lnTo>
                  <a:lnTo>
                    <a:pt x="1091" y="1022"/>
                  </a:lnTo>
                  <a:lnTo>
                    <a:pt x="1097" y="1035"/>
                  </a:lnTo>
                  <a:lnTo>
                    <a:pt x="1105" y="1049"/>
                  </a:lnTo>
                  <a:lnTo>
                    <a:pt x="1119" y="1061"/>
                  </a:lnTo>
                  <a:lnTo>
                    <a:pt x="1135" y="1072"/>
                  </a:lnTo>
                  <a:lnTo>
                    <a:pt x="1155" y="1082"/>
                  </a:lnTo>
                  <a:lnTo>
                    <a:pt x="1178" y="1092"/>
                  </a:lnTo>
                  <a:lnTo>
                    <a:pt x="1205" y="1101"/>
                  </a:lnTo>
                  <a:lnTo>
                    <a:pt x="1218" y="1102"/>
                  </a:lnTo>
                  <a:lnTo>
                    <a:pt x="1249" y="1106"/>
                  </a:lnTo>
                  <a:lnTo>
                    <a:pt x="1295" y="1111"/>
                  </a:lnTo>
                  <a:lnTo>
                    <a:pt x="1357" y="1118"/>
                  </a:lnTo>
                  <a:lnTo>
                    <a:pt x="1391" y="1120"/>
                  </a:lnTo>
                  <a:lnTo>
                    <a:pt x="1424" y="1122"/>
                  </a:lnTo>
                  <a:lnTo>
                    <a:pt x="1460" y="1123"/>
                  </a:lnTo>
                  <a:lnTo>
                    <a:pt x="1497" y="1123"/>
                  </a:lnTo>
                  <a:lnTo>
                    <a:pt x="1534" y="1123"/>
                  </a:lnTo>
                  <a:lnTo>
                    <a:pt x="1572" y="1122"/>
                  </a:lnTo>
                  <a:lnTo>
                    <a:pt x="1605" y="1118"/>
                  </a:lnTo>
                  <a:lnTo>
                    <a:pt x="1641" y="1113"/>
                  </a:lnTo>
                  <a:lnTo>
                    <a:pt x="1635" y="1102"/>
                  </a:lnTo>
                  <a:lnTo>
                    <a:pt x="1630" y="1088"/>
                  </a:lnTo>
                  <a:lnTo>
                    <a:pt x="1627" y="1075"/>
                  </a:lnTo>
                  <a:lnTo>
                    <a:pt x="1625" y="1059"/>
                  </a:lnTo>
                  <a:lnTo>
                    <a:pt x="1623" y="1025"/>
                  </a:lnTo>
                  <a:lnTo>
                    <a:pt x="1623" y="989"/>
                  </a:lnTo>
                  <a:lnTo>
                    <a:pt x="1625" y="952"/>
                  </a:lnTo>
                  <a:lnTo>
                    <a:pt x="1628" y="915"/>
                  </a:lnTo>
                  <a:lnTo>
                    <a:pt x="1635" y="881"/>
                  </a:lnTo>
                  <a:lnTo>
                    <a:pt x="1641" y="851"/>
                  </a:lnTo>
                  <a:lnTo>
                    <a:pt x="1646" y="839"/>
                  </a:lnTo>
                  <a:lnTo>
                    <a:pt x="1653" y="829"/>
                  </a:lnTo>
                  <a:lnTo>
                    <a:pt x="1660" y="821"/>
                  </a:lnTo>
                  <a:lnTo>
                    <a:pt x="1671" y="814"/>
                  </a:lnTo>
                  <a:lnTo>
                    <a:pt x="1683" y="809"/>
                  </a:lnTo>
                  <a:lnTo>
                    <a:pt x="1696" y="806"/>
                  </a:lnTo>
                  <a:lnTo>
                    <a:pt x="1711" y="803"/>
                  </a:lnTo>
                  <a:lnTo>
                    <a:pt x="1726" y="803"/>
                  </a:lnTo>
                  <a:lnTo>
                    <a:pt x="1740" y="804"/>
                  </a:lnTo>
                  <a:lnTo>
                    <a:pt x="1756" y="807"/>
                  </a:lnTo>
                  <a:lnTo>
                    <a:pt x="1772" y="812"/>
                  </a:lnTo>
                  <a:lnTo>
                    <a:pt x="1786" y="818"/>
                  </a:lnTo>
                  <a:lnTo>
                    <a:pt x="1804" y="823"/>
                  </a:lnTo>
                  <a:lnTo>
                    <a:pt x="1818" y="830"/>
                  </a:lnTo>
                  <a:lnTo>
                    <a:pt x="1833" y="839"/>
                  </a:lnTo>
                  <a:lnTo>
                    <a:pt x="1845" y="848"/>
                  </a:lnTo>
                  <a:lnTo>
                    <a:pt x="1859" y="857"/>
                  </a:lnTo>
                  <a:lnTo>
                    <a:pt x="1875" y="864"/>
                  </a:lnTo>
                  <a:lnTo>
                    <a:pt x="1892" y="870"/>
                  </a:lnTo>
                  <a:lnTo>
                    <a:pt x="1912" y="873"/>
                  </a:lnTo>
                  <a:lnTo>
                    <a:pt x="1930" y="876"/>
                  </a:lnTo>
                  <a:lnTo>
                    <a:pt x="1949" y="877"/>
                  </a:lnTo>
                  <a:lnTo>
                    <a:pt x="1970" y="876"/>
                  </a:lnTo>
                  <a:lnTo>
                    <a:pt x="1990" y="873"/>
                  </a:lnTo>
                  <a:lnTo>
                    <a:pt x="2008" y="868"/>
                  </a:lnTo>
                  <a:lnTo>
                    <a:pt x="2027" y="861"/>
                  </a:lnTo>
                  <a:lnTo>
                    <a:pt x="2045" y="853"/>
                  </a:lnTo>
                  <a:lnTo>
                    <a:pt x="2059" y="843"/>
                  </a:lnTo>
                  <a:lnTo>
                    <a:pt x="2074" y="832"/>
                  </a:lnTo>
                  <a:lnTo>
                    <a:pt x="2084" y="818"/>
                  </a:lnTo>
                  <a:lnTo>
                    <a:pt x="2093" y="802"/>
                  </a:lnTo>
                  <a:lnTo>
                    <a:pt x="2100" y="784"/>
                  </a:lnTo>
                  <a:lnTo>
                    <a:pt x="2100" y="774"/>
                  </a:lnTo>
                  <a:lnTo>
                    <a:pt x="2100" y="765"/>
                  </a:lnTo>
                  <a:lnTo>
                    <a:pt x="2100" y="755"/>
                  </a:lnTo>
                  <a:lnTo>
                    <a:pt x="2097" y="747"/>
                  </a:lnTo>
                  <a:lnTo>
                    <a:pt x="2093" y="738"/>
                  </a:lnTo>
                  <a:lnTo>
                    <a:pt x="2089" y="730"/>
                  </a:lnTo>
                  <a:lnTo>
                    <a:pt x="2082" y="722"/>
                  </a:lnTo>
                  <a:lnTo>
                    <a:pt x="2075" y="715"/>
                  </a:lnTo>
                  <a:lnTo>
                    <a:pt x="2061" y="701"/>
                  </a:lnTo>
                  <a:lnTo>
                    <a:pt x="2045" y="690"/>
                  </a:lnTo>
                  <a:lnTo>
                    <a:pt x="2023" y="680"/>
                  </a:lnTo>
                  <a:lnTo>
                    <a:pt x="2002" y="673"/>
                  </a:lnTo>
                  <a:lnTo>
                    <a:pt x="1979" y="666"/>
                  </a:lnTo>
                  <a:lnTo>
                    <a:pt x="1956" y="663"/>
                  </a:lnTo>
                  <a:lnTo>
                    <a:pt x="1932" y="661"/>
                  </a:lnTo>
                  <a:lnTo>
                    <a:pt x="1910" y="662"/>
                  </a:lnTo>
                  <a:lnTo>
                    <a:pt x="1889" y="665"/>
                  </a:lnTo>
                  <a:lnTo>
                    <a:pt x="1869" y="670"/>
                  </a:lnTo>
                  <a:lnTo>
                    <a:pt x="1861" y="673"/>
                  </a:lnTo>
                  <a:lnTo>
                    <a:pt x="1853" y="678"/>
                  </a:lnTo>
                  <a:lnTo>
                    <a:pt x="1845" y="683"/>
                  </a:lnTo>
                  <a:lnTo>
                    <a:pt x="1838" y="689"/>
                  </a:lnTo>
                  <a:lnTo>
                    <a:pt x="1825" y="700"/>
                  </a:lnTo>
                  <a:lnTo>
                    <a:pt x="1811" y="709"/>
                  </a:lnTo>
                  <a:lnTo>
                    <a:pt x="1795" y="714"/>
                  </a:lnTo>
                  <a:lnTo>
                    <a:pt x="1779" y="718"/>
                  </a:lnTo>
                  <a:lnTo>
                    <a:pt x="1764" y="720"/>
                  </a:lnTo>
                  <a:lnTo>
                    <a:pt x="1747" y="721"/>
                  </a:lnTo>
                  <a:lnTo>
                    <a:pt x="1730" y="720"/>
                  </a:lnTo>
                  <a:lnTo>
                    <a:pt x="1715" y="717"/>
                  </a:lnTo>
                  <a:lnTo>
                    <a:pt x="1701" y="713"/>
                  </a:lnTo>
                  <a:lnTo>
                    <a:pt x="1685" y="709"/>
                  </a:lnTo>
                  <a:lnTo>
                    <a:pt x="1673" y="703"/>
                  </a:lnTo>
                  <a:lnTo>
                    <a:pt x="1662" y="695"/>
                  </a:lnTo>
                  <a:lnTo>
                    <a:pt x="1655" y="689"/>
                  </a:lnTo>
                  <a:lnTo>
                    <a:pt x="1646" y="682"/>
                  </a:lnTo>
                  <a:lnTo>
                    <a:pt x="1641" y="675"/>
                  </a:lnTo>
                  <a:lnTo>
                    <a:pt x="1641" y="668"/>
                  </a:lnTo>
                  <a:lnTo>
                    <a:pt x="1641" y="643"/>
                  </a:lnTo>
                  <a:lnTo>
                    <a:pt x="1641" y="606"/>
                  </a:lnTo>
                  <a:lnTo>
                    <a:pt x="1641" y="556"/>
                  </a:lnTo>
                  <a:lnTo>
                    <a:pt x="1641" y="500"/>
                  </a:lnTo>
                  <a:lnTo>
                    <a:pt x="1641" y="445"/>
                  </a:lnTo>
                  <a:lnTo>
                    <a:pt x="1641" y="388"/>
                  </a:lnTo>
                  <a:lnTo>
                    <a:pt x="1641" y="337"/>
                  </a:lnTo>
                  <a:lnTo>
                    <a:pt x="1641" y="297"/>
                  </a:lnTo>
                  <a:lnTo>
                    <a:pt x="1620" y="305"/>
                  </a:lnTo>
                  <a:lnTo>
                    <a:pt x="1595" y="313"/>
                  </a:lnTo>
                  <a:lnTo>
                    <a:pt x="1570" y="320"/>
                  </a:lnTo>
                  <a:lnTo>
                    <a:pt x="1540" y="324"/>
                  </a:lnTo>
                  <a:lnTo>
                    <a:pt x="1511" y="327"/>
                  </a:lnTo>
                  <a:lnTo>
                    <a:pt x="1479" y="328"/>
                  </a:lnTo>
                  <a:lnTo>
                    <a:pt x="1445" y="329"/>
                  </a:lnTo>
                  <a:lnTo>
                    <a:pt x="1414" y="329"/>
                  </a:lnTo>
                  <a:lnTo>
                    <a:pt x="1380" y="328"/>
                  </a:lnTo>
                  <a:lnTo>
                    <a:pt x="1346" y="325"/>
                  </a:lnTo>
                  <a:lnTo>
                    <a:pt x="1314" y="322"/>
                  </a:lnTo>
                  <a:lnTo>
                    <a:pt x="1283" y="319"/>
                  </a:lnTo>
                  <a:lnTo>
                    <a:pt x="1254" y="314"/>
                  </a:lnTo>
                  <a:lnTo>
                    <a:pt x="1226" y="308"/>
                  </a:lnTo>
                  <a:lnTo>
                    <a:pt x="1200" y="302"/>
                  </a:lnTo>
                  <a:lnTo>
                    <a:pt x="1178" y="297"/>
                  </a:lnTo>
                  <a:lnTo>
                    <a:pt x="1160" y="292"/>
                  </a:lnTo>
                  <a:lnTo>
                    <a:pt x="1146" y="285"/>
                  </a:lnTo>
                  <a:lnTo>
                    <a:pt x="1133" y="280"/>
                  </a:lnTo>
                  <a:lnTo>
                    <a:pt x="1123" y="275"/>
                  </a:lnTo>
                  <a:lnTo>
                    <a:pt x="1114" y="268"/>
                  </a:lnTo>
                  <a:lnTo>
                    <a:pt x="1107" y="263"/>
                  </a:lnTo>
                  <a:lnTo>
                    <a:pt x="1105" y="256"/>
                  </a:lnTo>
                  <a:lnTo>
                    <a:pt x="1103" y="250"/>
                  </a:lnTo>
                  <a:lnTo>
                    <a:pt x="1103" y="243"/>
                  </a:lnTo>
                  <a:lnTo>
                    <a:pt x="1105" y="236"/>
                  </a:lnTo>
                  <a:lnTo>
                    <a:pt x="1111" y="228"/>
                  </a:lnTo>
                  <a:lnTo>
                    <a:pt x="1119" y="219"/>
                  </a:lnTo>
                  <a:lnTo>
                    <a:pt x="1137" y="201"/>
                  </a:lnTo>
                  <a:lnTo>
                    <a:pt x="1165" y="181"/>
                  </a:lnTo>
                  <a:lnTo>
                    <a:pt x="1180" y="169"/>
                  </a:lnTo>
                  <a:lnTo>
                    <a:pt x="1190" y="156"/>
                  </a:lnTo>
                  <a:lnTo>
                    <a:pt x="1198" y="142"/>
                  </a:lnTo>
                  <a:lnTo>
                    <a:pt x="1205" y="126"/>
                  </a:lnTo>
                  <a:lnTo>
                    <a:pt x="1208" y="112"/>
                  </a:lnTo>
                  <a:lnTo>
                    <a:pt x="1208" y="97"/>
                  </a:lnTo>
                  <a:lnTo>
                    <a:pt x="1205" y="81"/>
                  </a:lnTo>
                  <a:lnTo>
                    <a:pt x="1198" y="67"/>
                  </a:lnTo>
                  <a:lnTo>
                    <a:pt x="1190" y="53"/>
                  </a:lnTo>
                  <a:lnTo>
                    <a:pt x="1176" y="40"/>
                  </a:lnTo>
                  <a:lnTo>
                    <a:pt x="1167" y="35"/>
                  </a:lnTo>
                  <a:lnTo>
                    <a:pt x="1158" y="28"/>
                  </a:lnTo>
                  <a:lnTo>
                    <a:pt x="1148" y="23"/>
                  </a:lnTo>
                  <a:lnTo>
                    <a:pt x="1137" y="18"/>
                  </a:lnTo>
                  <a:lnTo>
                    <a:pt x="1125" y="15"/>
                  </a:lnTo>
                  <a:lnTo>
                    <a:pt x="1111" y="10"/>
                  </a:lnTo>
                  <a:lnTo>
                    <a:pt x="1097" y="7"/>
                  </a:lnTo>
                  <a:lnTo>
                    <a:pt x="1082" y="4"/>
                  </a:lnTo>
                  <a:lnTo>
                    <a:pt x="1066" y="1"/>
                  </a:lnTo>
                  <a:lnTo>
                    <a:pt x="1049" y="0"/>
                  </a:lnTo>
                  <a:lnTo>
                    <a:pt x="1032" y="0"/>
                  </a:lnTo>
                  <a:lnTo>
                    <a:pt x="1010" y="0"/>
                  </a:lnTo>
                  <a:lnTo>
                    <a:pt x="996" y="0"/>
                  </a:lnTo>
                  <a:lnTo>
                    <a:pt x="979" y="1"/>
                  </a:lnTo>
                  <a:lnTo>
                    <a:pt x="967" y="3"/>
                  </a:lnTo>
                  <a:lnTo>
                    <a:pt x="951" y="5"/>
                  </a:lnTo>
                  <a:lnTo>
                    <a:pt x="941" y="10"/>
                  </a:lnTo>
                  <a:lnTo>
                    <a:pt x="928" y="13"/>
                  </a:lnTo>
                  <a:lnTo>
                    <a:pt x="919" y="18"/>
                  </a:lnTo>
                  <a:lnTo>
                    <a:pt x="909" y="23"/>
                  </a:lnTo>
                  <a:lnTo>
                    <a:pt x="901" y="28"/>
                  </a:lnTo>
                  <a:lnTo>
                    <a:pt x="892" y="35"/>
                  </a:lnTo>
                  <a:lnTo>
                    <a:pt x="886" y="40"/>
                  </a:lnTo>
                  <a:lnTo>
                    <a:pt x="880" y="47"/>
                  </a:lnTo>
                  <a:lnTo>
                    <a:pt x="871" y="61"/>
                  </a:lnTo>
                  <a:lnTo>
                    <a:pt x="866" y="77"/>
                  </a:lnTo>
                  <a:lnTo>
                    <a:pt x="864" y="92"/>
                  </a:lnTo>
                  <a:lnTo>
                    <a:pt x="864" y="109"/>
                  </a:lnTo>
                  <a:lnTo>
                    <a:pt x="866" y="126"/>
                  </a:lnTo>
                  <a:lnTo>
                    <a:pt x="871" y="142"/>
                  </a:lnTo>
                  <a:lnTo>
                    <a:pt x="880" y="159"/>
                  </a:lnTo>
                  <a:lnTo>
                    <a:pt x="891" y="174"/>
                  </a:lnTo>
                  <a:lnTo>
                    <a:pt x="903" y="188"/>
                  </a:lnTo>
                  <a:lnTo>
                    <a:pt x="919" y="201"/>
                  </a:lnTo>
                  <a:lnTo>
                    <a:pt x="931" y="211"/>
                  </a:lnTo>
                  <a:lnTo>
                    <a:pt x="939" y="221"/>
                  </a:lnTo>
                  <a:lnTo>
                    <a:pt x="945" y="231"/>
                  </a:lnTo>
                  <a:lnTo>
                    <a:pt x="949" y="240"/>
                  </a:lnTo>
                  <a:lnTo>
                    <a:pt x="949" y="250"/>
                  </a:lnTo>
                  <a:lnTo>
                    <a:pt x="947" y="260"/>
                  </a:lnTo>
                  <a:lnTo>
                    <a:pt x="943" y="270"/>
                  </a:lnTo>
                  <a:lnTo>
                    <a:pt x="935" y="279"/>
                  </a:lnTo>
                  <a:lnTo>
                    <a:pt x="926" y="285"/>
                  </a:lnTo>
                  <a:lnTo>
                    <a:pt x="914" y="292"/>
                  </a:lnTo>
                  <a:lnTo>
                    <a:pt x="896" y="296"/>
                  </a:lnTo>
                  <a:lnTo>
                    <a:pt x="880" y="299"/>
                  </a:lnTo>
                  <a:lnTo>
                    <a:pt x="859" y="299"/>
                  </a:lnTo>
                  <a:lnTo>
                    <a:pt x="834" y="297"/>
                  </a:lnTo>
                  <a:lnTo>
                    <a:pt x="808" y="293"/>
                  </a:lnTo>
                  <a:lnTo>
                    <a:pt x="779" y="285"/>
                  </a:lnTo>
                  <a:lnTo>
                    <a:pt x="761" y="282"/>
                  </a:lnTo>
                  <a:lnTo>
                    <a:pt x="743" y="279"/>
                  </a:lnTo>
                  <a:lnTo>
                    <a:pt x="721" y="276"/>
                  </a:lnTo>
                  <a:lnTo>
                    <a:pt x="703" y="275"/>
                  </a:lnTo>
                  <a:lnTo>
                    <a:pt x="656" y="275"/>
                  </a:lnTo>
                  <a:lnTo>
                    <a:pt x="610" y="276"/>
                  </a:lnTo>
                  <a:lnTo>
                    <a:pt x="561" y="279"/>
                  </a:lnTo>
                  <a:lnTo>
                    <a:pt x="511" y="285"/>
                  </a:lnTo>
                  <a:lnTo>
                    <a:pt x="460" y="290"/>
                  </a:lnTo>
                  <a:lnTo>
                    <a:pt x="412" y="297"/>
                  </a:lnTo>
                  <a:lnTo>
                    <a:pt x="407" y="305"/>
                  </a:lnTo>
                  <a:lnTo>
                    <a:pt x="407" y="321"/>
                  </a:lnTo>
                  <a:lnTo>
                    <a:pt x="407" y="339"/>
                  </a:lnTo>
                  <a:lnTo>
                    <a:pt x="409" y="361"/>
                  </a:lnTo>
                  <a:lnTo>
                    <a:pt x="419" y="411"/>
                  </a:lnTo>
                  <a:lnTo>
                    <a:pt x="426" y="468"/>
                  </a:lnTo>
                  <a:lnTo>
                    <a:pt x="430" y="497"/>
                  </a:lnTo>
                  <a:lnTo>
                    <a:pt x="433" y="525"/>
                  </a:lnTo>
                  <a:lnTo>
                    <a:pt x="435" y="552"/>
                  </a:lnTo>
                  <a:lnTo>
                    <a:pt x="437" y="576"/>
                  </a:lnTo>
                  <a:lnTo>
                    <a:pt x="435" y="599"/>
                  </a:lnTo>
                  <a:lnTo>
                    <a:pt x="430" y="617"/>
                  </a:lnTo>
                  <a:lnTo>
                    <a:pt x="426" y="625"/>
                  </a:lnTo>
                  <a:lnTo>
                    <a:pt x="422" y="632"/>
                  </a:lnTo>
                  <a:lnTo>
                    <a:pt x="419" y="638"/>
                  </a:lnTo>
                  <a:lnTo>
                    <a:pt x="412" y="642"/>
                  </a:lnTo>
                  <a:close/>
                </a:path>
              </a:pathLst>
            </a:custGeom>
            <a:solidFill>
              <a:srgbClr val="9c9c9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549520" y="2797200"/>
              <a:ext cx="2001240" cy="2746440"/>
            </a:xfrm>
            <a:custGeom>
              <a:avLst/>
              <a:gdLst/>
              <a:ahLst/>
              <a:rect l="l" t="t" r="r" b="b"/>
              <a:pathLst>
                <a:path w="1261" h="1442">
                  <a:moveTo>
                    <a:pt x="217" y="704"/>
                  </a:moveTo>
                  <a:lnTo>
                    <a:pt x="224" y="699"/>
                  </a:lnTo>
                  <a:lnTo>
                    <a:pt x="233" y="693"/>
                  </a:lnTo>
                  <a:lnTo>
                    <a:pt x="241" y="689"/>
                  </a:lnTo>
                  <a:lnTo>
                    <a:pt x="249" y="686"/>
                  </a:lnTo>
                  <a:lnTo>
                    <a:pt x="268" y="681"/>
                  </a:lnTo>
                  <a:lnTo>
                    <a:pt x="289" y="678"/>
                  </a:lnTo>
                  <a:lnTo>
                    <a:pt x="313" y="676"/>
                  </a:lnTo>
                  <a:lnTo>
                    <a:pt x="337" y="678"/>
                  </a:lnTo>
                  <a:lnTo>
                    <a:pt x="360" y="682"/>
                  </a:lnTo>
                  <a:lnTo>
                    <a:pt x="383" y="688"/>
                  </a:lnTo>
                  <a:lnTo>
                    <a:pt x="404" y="696"/>
                  </a:lnTo>
                  <a:lnTo>
                    <a:pt x="425" y="705"/>
                  </a:lnTo>
                  <a:lnTo>
                    <a:pt x="443" y="718"/>
                  </a:lnTo>
                  <a:lnTo>
                    <a:pt x="458" y="732"/>
                  </a:lnTo>
                  <a:lnTo>
                    <a:pt x="464" y="738"/>
                  </a:lnTo>
                  <a:lnTo>
                    <a:pt x="471" y="745"/>
                  </a:lnTo>
                  <a:lnTo>
                    <a:pt x="474" y="754"/>
                  </a:lnTo>
                  <a:lnTo>
                    <a:pt x="479" y="762"/>
                  </a:lnTo>
                  <a:lnTo>
                    <a:pt x="481" y="771"/>
                  </a:lnTo>
                  <a:lnTo>
                    <a:pt x="481" y="779"/>
                  </a:lnTo>
                  <a:lnTo>
                    <a:pt x="481" y="789"/>
                  </a:lnTo>
                  <a:lnTo>
                    <a:pt x="481" y="799"/>
                  </a:lnTo>
                  <a:lnTo>
                    <a:pt x="474" y="816"/>
                  </a:lnTo>
                  <a:lnTo>
                    <a:pt x="466" y="833"/>
                  </a:lnTo>
                  <a:lnTo>
                    <a:pt x="455" y="845"/>
                  </a:lnTo>
                  <a:lnTo>
                    <a:pt x="441" y="858"/>
                  </a:lnTo>
                  <a:lnTo>
                    <a:pt x="425" y="868"/>
                  </a:lnTo>
                  <a:lnTo>
                    <a:pt x="409" y="877"/>
                  </a:lnTo>
                  <a:lnTo>
                    <a:pt x="390" y="882"/>
                  </a:lnTo>
                  <a:lnTo>
                    <a:pt x="370" y="888"/>
                  </a:lnTo>
                  <a:lnTo>
                    <a:pt x="351" y="891"/>
                  </a:lnTo>
                  <a:lnTo>
                    <a:pt x="330" y="891"/>
                  </a:lnTo>
                  <a:lnTo>
                    <a:pt x="311" y="891"/>
                  </a:lnTo>
                  <a:lnTo>
                    <a:pt x="291" y="888"/>
                  </a:lnTo>
                  <a:lnTo>
                    <a:pt x="273" y="885"/>
                  </a:lnTo>
                  <a:lnTo>
                    <a:pt x="256" y="879"/>
                  </a:lnTo>
                  <a:lnTo>
                    <a:pt x="239" y="872"/>
                  </a:lnTo>
                  <a:lnTo>
                    <a:pt x="226" y="863"/>
                  </a:lnTo>
                  <a:lnTo>
                    <a:pt x="213" y="854"/>
                  </a:lnTo>
                  <a:lnTo>
                    <a:pt x="199" y="845"/>
                  </a:lnTo>
                  <a:lnTo>
                    <a:pt x="183" y="839"/>
                  </a:lnTo>
                  <a:lnTo>
                    <a:pt x="167" y="833"/>
                  </a:lnTo>
                  <a:lnTo>
                    <a:pt x="152" y="827"/>
                  </a:lnTo>
                  <a:lnTo>
                    <a:pt x="134" y="823"/>
                  </a:lnTo>
                  <a:lnTo>
                    <a:pt x="120" y="820"/>
                  </a:lnTo>
                  <a:lnTo>
                    <a:pt x="104" y="819"/>
                  </a:lnTo>
                  <a:lnTo>
                    <a:pt x="90" y="819"/>
                  </a:lnTo>
                  <a:lnTo>
                    <a:pt x="76" y="820"/>
                  </a:lnTo>
                  <a:lnTo>
                    <a:pt x="62" y="824"/>
                  </a:lnTo>
                  <a:lnTo>
                    <a:pt x="50" y="829"/>
                  </a:lnTo>
                  <a:lnTo>
                    <a:pt x="39" y="836"/>
                  </a:lnTo>
                  <a:lnTo>
                    <a:pt x="30" y="844"/>
                  </a:lnTo>
                  <a:lnTo>
                    <a:pt x="24" y="854"/>
                  </a:lnTo>
                  <a:lnTo>
                    <a:pt x="20" y="866"/>
                  </a:lnTo>
                  <a:lnTo>
                    <a:pt x="14" y="896"/>
                  </a:lnTo>
                  <a:lnTo>
                    <a:pt x="7" y="930"/>
                  </a:lnTo>
                  <a:lnTo>
                    <a:pt x="2" y="967"/>
                  </a:lnTo>
                  <a:lnTo>
                    <a:pt x="0" y="1003"/>
                  </a:lnTo>
                  <a:lnTo>
                    <a:pt x="0" y="1039"/>
                  </a:lnTo>
                  <a:lnTo>
                    <a:pt x="2" y="1074"/>
                  </a:lnTo>
                  <a:lnTo>
                    <a:pt x="4" y="1089"/>
                  </a:lnTo>
                  <a:lnTo>
                    <a:pt x="9" y="1103"/>
                  </a:lnTo>
                  <a:lnTo>
                    <a:pt x="14" y="1116"/>
                  </a:lnTo>
                  <a:lnTo>
                    <a:pt x="20" y="1127"/>
                  </a:lnTo>
                  <a:lnTo>
                    <a:pt x="58" y="1123"/>
                  </a:lnTo>
                  <a:lnTo>
                    <a:pt x="109" y="1118"/>
                  </a:lnTo>
                  <a:lnTo>
                    <a:pt x="167" y="1115"/>
                  </a:lnTo>
                  <a:lnTo>
                    <a:pt x="226" y="1111"/>
                  </a:lnTo>
                  <a:lnTo>
                    <a:pt x="288" y="1110"/>
                  </a:lnTo>
                  <a:lnTo>
                    <a:pt x="343" y="1110"/>
                  </a:lnTo>
                  <a:lnTo>
                    <a:pt x="390" y="1111"/>
                  </a:lnTo>
                  <a:lnTo>
                    <a:pt x="425" y="1115"/>
                  </a:lnTo>
                  <a:lnTo>
                    <a:pt x="460" y="1121"/>
                  </a:lnTo>
                  <a:lnTo>
                    <a:pt x="490" y="1125"/>
                  </a:lnTo>
                  <a:lnTo>
                    <a:pt x="515" y="1133"/>
                  </a:lnTo>
                  <a:lnTo>
                    <a:pt x="538" y="1142"/>
                  </a:lnTo>
                  <a:lnTo>
                    <a:pt x="555" y="1150"/>
                  </a:lnTo>
                  <a:lnTo>
                    <a:pt x="568" y="1158"/>
                  </a:lnTo>
                  <a:lnTo>
                    <a:pt x="578" y="1168"/>
                  </a:lnTo>
                  <a:lnTo>
                    <a:pt x="587" y="1177"/>
                  </a:lnTo>
                  <a:lnTo>
                    <a:pt x="590" y="1187"/>
                  </a:lnTo>
                  <a:lnTo>
                    <a:pt x="592" y="1196"/>
                  </a:lnTo>
                  <a:lnTo>
                    <a:pt x="590" y="1206"/>
                  </a:lnTo>
                  <a:lnTo>
                    <a:pt x="585" y="1216"/>
                  </a:lnTo>
                  <a:lnTo>
                    <a:pt x="578" y="1226"/>
                  </a:lnTo>
                  <a:lnTo>
                    <a:pt x="570" y="1236"/>
                  </a:lnTo>
                  <a:lnTo>
                    <a:pt x="560" y="1244"/>
                  </a:lnTo>
                  <a:lnTo>
                    <a:pt x="547" y="1252"/>
                  </a:lnTo>
                  <a:lnTo>
                    <a:pt x="534" y="1264"/>
                  </a:lnTo>
                  <a:lnTo>
                    <a:pt x="524" y="1276"/>
                  </a:lnTo>
                  <a:lnTo>
                    <a:pt x="515" y="1291"/>
                  </a:lnTo>
                  <a:lnTo>
                    <a:pt x="511" y="1306"/>
                  </a:lnTo>
                  <a:lnTo>
                    <a:pt x="508" y="1321"/>
                  </a:lnTo>
                  <a:lnTo>
                    <a:pt x="508" y="1338"/>
                  </a:lnTo>
                  <a:lnTo>
                    <a:pt x="513" y="1354"/>
                  </a:lnTo>
                  <a:lnTo>
                    <a:pt x="520" y="1370"/>
                  </a:lnTo>
                  <a:lnTo>
                    <a:pt x="530" y="1385"/>
                  </a:lnTo>
                  <a:lnTo>
                    <a:pt x="543" y="1399"/>
                  </a:lnTo>
                  <a:lnTo>
                    <a:pt x="557" y="1410"/>
                  </a:lnTo>
                  <a:lnTo>
                    <a:pt x="577" y="1422"/>
                  </a:lnTo>
                  <a:lnTo>
                    <a:pt x="587" y="1427"/>
                  </a:lnTo>
                  <a:lnTo>
                    <a:pt x="600" y="1432"/>
                  </a:lnTo>
                  <a:lnTo>
                    <a:pt x="610" y="1434"/>
                  </a:lnTo>
                  <a:lnTo>
                    <a:pt x="624" y="1437"/>
                  </a:lnTo>
                  <a:lnTo>
                    <a:pt x="638" y="1440"/>
                  </a:lnTo>
                  <a:lnTo>
                    <a:pt x="652" y="1442"/>
                  </a:lnTo>
                  <a:lnTo>
                    <a:pt x="668" y="1442"/>
                  </a:lnTo>
                  <a:lnTo>
                    <a:pt x="684" y="1442"/>
                  </a:lnTo>
                  <a:lnTo>
                    <a:pt x="712" y="1440"/>
                  </a:lnTo>
                  <a:lnTo>
                    <a:pt x="742" y="1436"/>
                  </a:lnTo>
                  <a:lnTo>
                    <a:pt x="768" y="1429"/>
                  </a:lnTo>
                  <a:lnTo>
                    <a:pt x="788" y="1420"/>
                  </a:lnTo>
                  <a:lnTo>
                    <a:pt x="808" y="1410"/>
                  </a:lnTo>
                  <a:lnTo>
                    <a:pt x="825" y="1399"/>
                  </a:lnTo>
                  <a:lnTo>
                    <a:pt x="841" y="1387"/>
                  </a:lnTo>
                  <a:lnTo>
                    <a:pt x="848" y="1373"/>
                  </a:lnTo>
                  <a:lnTo>
                    <a:pt x="857" y="1360"/>
                  </a:lnTo>
                  <a:lnTo>
                    <a:pt x="859" y="1344"/>
                  </a:lnTo>
                  <a:lnTo>
                    <a:pt x="862" y="1331"/>
                  </a:lnTo>
                  <a:lnTo>
                    <a:pt x="857" y="1315"/>
                  </a:lnTo>
                  <a:lnTo>
                    <a:pt x="851" y="1301"/>
                  </a:lnTo>
                  <a:lnTo>
                    <a:pt x="841" y="1285"/>
                  </a:lnTo>
                  <a:lnTo>
                    <a:pt x="827" y="1271"/>
                  </a:lnTo>
                  <a:lnTo>
                    <a:pt x="811" y="1259"/>
                  </a:lnTo>
                  <a:lnTo>
                    <a:pt x="795" y="1247"/>
                  </a:lnTo>
                  <a:lnTo>
                    <a:pt x="783" y="1234"/>
                  </a:lnTo>
                  <a:lnTo>
                    <a:pt x="774" y="1220"/>
                  </a:lnTo>
                  <a:lnTo>
                    <a:pt x="768" y="1207"/>
                  </a:lnTo>
                  <a:lnTo>
                    <a:pt x="763" y="1194"/>
                  </a:lnTo>
                  <a:lnTo>
                    <a:pt x="763" y="1179"/>
                  </a:lnTo>
                  <a:lnTo>
                    <a:pt x="763" y="1167"/>
                  </a:lnTo>
                  <a:lnTo>
                    <a:pt x="768" y="1154"/>
                  </a:lnTo>
                  <a:lnTo>
                    <a:pt x="772" y="1142"/>
                  </a:lnTo>
                  <a:lnTo>
                    <a:pt x="778" y="1130"/>
                  </a:lnTo>
                  <a:lnTo>
                    <a:pt x="787" y="1121"/>
                  </a:lnTo>
                  <a:lnTo>
                    <a:pt x="797" y="1111"/>
                  </a:lnTo>
                  <a:lnTo>
                    <a:pt x="808" y="1105"/>
                  </a:lnTo>
                  <a:lnTo>
                    <a:pt x="821" y="1099"/>
                  </a:lnTo>
                  <a:lnTo>
                    <a:pt x="834" y="1095"/>
                  </a:lnTo>
                  <a:lnTo>
                    <a:pt x="846" y="1093"/>
                  </a:lnTo>
                  <a:lnTo>
                    <a:pt x="867" y="1095"/>
                  </a:lnTo>
                  <a:lnTo>
                    <a:pt x="897" y="1098"/>
                  </a:lnTo>
                  <a:lnTo>
                    <a:pt x="938" y="1101"/>
                  </a:lnTo>
                  <a:lnTo>
                    <a:pt x="985" y="1105"/>
                  </a:lnTo>
                  <a:lnTo>
                    <a:pt x="1037" y="1108"/>
                  </a:lnTo>
                  <a:lnTo>
                    <a:pt x="1095" y="1110"/>
                  </a:lnTo>
                  <a:lnTo>
                    <a:pt x="1157" y="1113"/>
                  </a:lnTo>
                  <a:lnTo>
                    <a:pt x="1220" y="1115"/>
                  </a:lnTo>
                  <a:lnTo>
                    <a:pt x="1232" y="1098"/>
                  </a:lnTo>
                  <a:lnTo>
                    <a:pt x="1239" y="1079"/>
                  </a:lnTo>
                  <a:lnTo>
                    <a:pt x="1248" y="1061"/>
                  </a:lnTo>
                  <a:lnTo>
                    <a:pt x="1252" y="1041"/>
                  </a:lnTo>
                  <a:lnTo>
                    <a:pt x="1257" y="1022"/>
                  </a:lnTo>
                  <a:lnTo>
                    <a:pt x="1261" y="1001"/>
                  </a:lnTo>
                  <a:lnTo>
                    <a:pt x="1261" y="981"/>
                  </a:lnTo>
                  <a:lnTo>
                    <a:pt x="1261" y="961"/>
                  </a:lnTo>
                  <a:lnTo>
                    <a:pt x="1261" y="941"/>
                  </a:lnTo>
                  <a:lnTo>
                    <a:pt x="1259" y="921"/>
                  </a:lnTo>
                  <a:lnTo>
                    <a:pt x="1255" y="903"/>
                  </a:lnTo>
                  <a:lnTo>
                    <a:pt x="1250" y="885"/>
                  </a:lnTo>
                  <a:lnTo>
                    <a:pt x="1246" y="868"/>
                  </a:lnTo>
                  <a:lnTo>
                    <a:pt x="1239" y="853"/>
                  </a:lnTo>
                  <a:lnTo>
                    <a:pt x="1234" y="839"/>
                  </a:lnTo>
                  <a:lnTo>
                    <a:pt x="1227" y="827"/>
                  </a:lnTo>
                  <a:lnTo>
                    <a:pt x="1220" y="816"/>
                  </a:lnTo>
                  <a:lnTo>
                    <a:pt x="1212" y="808"/>
                  </a:lnTo>
                  <a:lnTo>
                    <a:pt x="1204" y="800"/>
                  </a:lnTo>
                  <a:lnTo>
                    <a:pt x="1195" y="794"/>
                  </a:lnTo>
                  <a:lnTo>
                    <a:pt x="1184" y="791"/>
                  </a:lnTo>
                  <a:lnTo>
                    <a:pt x="1176" y="788"/>
                  </a:lnTo>
                  <a:lnTo>
                    <a:pt x="1165" y="787"/>
                  </a:lnTo>
                  <a:lnTo>
                    <a:pt x="1155" y="785"/>
                  </a:lnTo>
                  <a:lnTo>
                    <a:pt x="1131" y="787"/>
                  </a:lnTo>
                  <a:lnTo>
                    <a:pt x="1105" y="791"/>
                  </a:lnTo>
                  <a:lnTo>
                    <a:pt x="1079" y="796"/>
                  </a:lnTo>
                  <a:lnTo>
                    <a:pt x="1049" y="804"/>
                  </a:lnTo>
                  <a:lnTo>
                    <a:pt x="1029" y="808"/>
                  </a:lnTo>
                  <a:lnTo>
                    <a:pt x="1010" y="812"/>
                  </a:lnTo>
                  <a:lnTo>
                    <a:pt x="993" y="813"/>
                  </a:lnTo>
                  <a:lnTo>
                    <a:pt x="975" y="814"/>
                  </a:lnTo>
                  <a:lnTo>
                    <a:pt x="959" y="814"/>
                  </a:lnTo>
                  <a:lnTo>
                    <a:pt x="945" y="814"/>
                  </a:lnTo>
                  <a:lnTo>
                    <a:pt x="931" y="813"/>
                  </a:lnTo>
                  <a:lnTo>
                    <a:pt x="917" y="812"/>
                  </a:lnTo>
                  <a:lnTo>
                    <a:pt x="904" y="809"/>
                  </a:lnTo>
                  <a:lnTo>
                    <a:pt x="894" y="807"/>
                  </a:lnTo>
                  <a:lnTo>
                    <a:pt x="883" y="802"/>
                  </a:lnTo>
                  <a:lnTo>
                    <a:pt x="871" y="797"/>
                  </a:lnTo>
                  <a:lnTo>
                    <a:pt x="855" y="788"/>
                  </a:lnTo>
                  <a:lnTo>
                    <a:pt x="841" y="776"/>
                  </a:lnTo>
                  <a:lnTo>
                    <a:pt x="829" y="764"/>
                  </a:lnTo>
                  <a:lnTo>
                    <a:pt x="821" y="751"/>
                  </a:lnTo>
                  <a:lnTo>
                    <a:pt x="816" y="737"/>
                  </a:lnTo>
                  <a:lnTo>
                    <a:pt x="813" y="724"/>
                  </a:lnTo>
                  <a:lnTo>
                    <a:pt x="813" y="712"/>
                  </a:lnTo>
                  <a:lnTo>
                    <a:pt x="815" y="699"/>
                  </a:lnTo>
                  <a:lnTo>
                    <a:pt x="818" y="689"/>
                  </a:lnTo>
                  <a:lnTo>
                    <a:pt x="825" y="679"/>
                  </a:lnTo>
                  <a:lnTo>
                    <a:pt x="838" y="666"/>
                  </a:lnTo>
                  <a:lnTo>
                    <a:pt x="853" y="653"/>
                  </a:lnTo>
                  <a:lnTo>
                    <a:pt x="866" y="644"/>
                  </a:lnTo>
                  <a:lnTo>
                    <a:pt x="881" y="635"/>
                  </a:lnTo>
                  <a:lnTo>
                    <a:pt x="894" y="630"/>
                  </a:lnTo>
                  <a:lnTo>
                    <a:pt x="906" y="626"/>
                  </a:lnTo>
                  <a:lnTo>
                    <a:pt x="921" y="621"/>
                  </a:lnTo>
                  <a:lnTo>
                    <a:pt x="933" y="620"/>
                  </a:lnTo>
                  <a:lnTo>
                    <a:pt x="947" y="619"/>
                  </a:lnTo>
                  <a:lnTo>
                    <a:pt x="959" y="620"/>
                  </a:lnTo>
                  <a:lnTo>
                    <a:pt x="973" y="621"/>
                  </a:lnTo>
                  <a:lnTo>
                    <a:pt x="985" y="623"/>
                  </a:lnTo>
                  <a:lnTo>
                    <a:pt x="1010" y="630"/>
                  </a:lnTo>
                  <a:lnTo>
                    <a:pt x="1035" y="638"/>
                  </a:lnTo>
                  <a:lnTo>
                    <a:pt x="1059" y="647"/>
                  </a:lnTo>
                  <a:lnTo>
                    <a:pt x="1084" y="656"/>
                  </a:lnTo>
                  <a:lnTo>
                    <a:pt x="1107" y="666"/>
                  </a:lnTo>
                  <a:lnTo>
                    <a:pt x="1133" y="671"/>
                  </a:lnTo>
                  <a:lnTo>
                    <a:pt x="1144" y="673"/>
                  </a:lnTo>
                  <a:lnTo>
                    <a:pt x="1157" y="675"/>
                  </a:lnTo>
                  <a:lnTo>
                    <a:pt x="1167" y="675"/>
                  </a:lnTo>
                  <a:lnTo>
                    <a:pt x="1180" y="673"/>
                  </a:lnTo>
                  <a:lnTo>
                    <a:pt x="1190" y="672"/>
                  </a:lnTo>
                  <a:lnTo>
                    <a:pt x="1204" y="669"/>
                  </a:lnTo>
                  <a:lnTo>
                    <a:pt x="1216" y="664"/>
                  </a:lnTo>
                  <a:lnTo>
                    <a:pt x="1227" y="658"/>
                  </a:lnTo>
                  <a:lnTo>
                    <a:pt x="1234" y="653"/>
                  </a:lnTo>
                  <a:lnTo>
                    <a:pt x="1237" y="648"/>
                  </a:lnTo>
                  <a:lnTo>
                    <a:pt x="1242" y="641"/>
                  </a:lnTo>
                  <a:lnTo>
                    <a:pt x="1246" y="633"/>
                  </a:lnTo>
                  <a:lnTo>
                    <a:pt x="1250" y="615"/>
                  </a:lnTo>
                  <a:lnTo>
                    <a:pt x="1250" y="592"/>
                  </a:lnTo>
                  <a:lnTo>
                    <a:pt x="1250" y="568"/>
                  </a:lnTo>
                  <a:lnTo>
                    <a:pt x="1248" y="542"/>
                  </a:lnTo>
                  <a:lnTo>
                    <a:pt x="1246" y="512"/>
                  </a:lnTo>
                  <a:lnTo>
                    <a:pt x="1242" y="485"/>
                  </a:lnTo>
                  <a:lnTo>
                    <a:pt x="1234" y="428"/>
                  </a:lnTo>
                  <a:lnTo>
                    <a:pt x="1225" y="378"/>
                  </a:lnTo>
                  <a:lnTo>
                    <a:pt x="1222" y="357"/>
                  </a:lnTo>
                  <a:lnTo>
                    <a:pt x="1222" y="338"/>
                  </a:lnTo>
                  <a:lnTo>
                    <a:pt x="1222" y="322"/>
                  </a:lnTo>
                  <a:lnTo>
                    <a:pt x="1227" y="313"/>
                  </a:lnTo>
                  <a:lnTo>
                    <a:pt x="1204" y="322"/>
                  </a:lnTo>
                  <a:lnTo>
                    <a:pt x="1174" y="332"/>
                  </a:lnTo>
                  <a:lnTo>
                    <a:pt x="1144" y="337"/>
                  </a:lnTo>
                  <a:lnTo>
                    <a:pt x="1109" y="342"/>
                  </a:lnTo>
                  <a:lnTo>
                    <a:pt x="1077" y="345"/>
                  </a:lnTo>
                  <a:lnTo>
                    <a:pt x="1040" y="349"/>
                  </a:lnTo>
                  <a:lnTo>
                    <a:pt x="1003" y="350"/>
                  </a:lnTo>
                  <a:lnTo>
                    <a:pt x="968" y="350"/>
                  </a:lnTo>
                  <a:lnTo>
                    <a:pt x="931" y="349"/>
                  </a:lnTo>
                  <a:lnTo>
                    <a:pt x="895" y="345"/>
                  </a:lnTo>
                  <a:lnTo>
                    <a:pt x="864" y="342"/>
                  </a:lnTo>
                  <a:lnTo>
                    <a:pt x="832" y="338"/>
                  </a:lnTo>
                  <a:lnTo>
                    <a:pt x="802" y="333"/>
                  </a:lnTo>
                  <a:lnTo>
                    <a:pt x="778" y="327"/>
                  </a:lnTo>
                  <a:lnTo>
                    <a:pt x="758" y="320"/>
                  </a:lnTo>
                  <a:lnTo>
                    <a:pt x="740" y="313"/>
                  </a:lnTo>
                  <a:lnTo>
                    <a:pt x="726" y="306"/>
                  </a:lnTo>
                  <a:lnTo>
                    <a:pt x="714" y="298"/>
                  </a:lnTo>
                  <a:lnTo>
                    <a:pt x="709" y="292"/>
                  </a:lnTo>
                  <a:lnTo>
                    <a:pt x="702" y="285"/>
                  </a:lnTo>
                  <a:lnTo>
                    <a:pt x="700" y="278"/>
                  </a:lnTo>
                  <a:lnTo>
                    <a:pt x="698" y="270"/>
                  </a:lnTo>
                  <a:lnTo>
                    <a:pt x="700" y="263"/>
                  </a:lnTo>
                  <a:lnTo>
                    <a:pt x="704" y="257"/>
                  </a:lnTo>
                  <a:lnTo>
                    <a:pt x="709" y="248"/>
                  </a:lnTo>
                  <a:lnTo>
                    <a:pt x="714" y="240"/>
                  </a:lnTo>
                  <a:lnTo>
                    <a:pt x="723" y="231"/>
                  </a:lnTo>
                  <a:lnTo>
                    <a:pt x="734" y="223"/>
                  </a:lnTo>
                  <a:lnTo>
                    <a:pt x="760" y="205"/>
                  </a:lnTo>
                  <a:lnTo>
                    <a:pt x="787" y="184"/>
                  </a:lnTo>
                  <a:lnTo>
                    <a:pt x="802" y="171"/>
                  </a:lnTo>
                  <a:lnTo>
                    <a:pt x="811" y="158"/>
                  </a:lnTo>
                  <a:lnTo>
                    <a:pt x="816" y="144"/>
                  </a:lnTo>
                  <a:lnTo>
                    <a:pt x="821" y="129"/>
                  </a:lnTo>
                  <a:lnTo>
                    <a:pt x="821" y="114"/>
                  </a:lnTo>
                  <a:lnTo>
                    <a:pt x="818" y="99"/>
                  </a:lnTo>
                  <a:lnTo>
                    <a:pt x="813" y="83"/>
                  </a:lnTo>
                  <a:lnTo>
                    <a:pt x="804" y="70"/>
                  </a:lnTo>
                  <a:lnTo>
                    <a:pt x="791" y="55"/>
                  </a:lnTo>
                  <a:lnTo>
                    <a:pt x="778" y="41"/>
                  </a:lnTo>
                  <a:lnTo>
                    <a:pt x="762" y="30"/>
                  </a:lnTo>
                  <a:lnTo>
                    <a:pt x="742" y="20"/>
                  </a:lnTo>
                  <a:lnTo>
                    <a:pt x="721" y="11"/>
                  </a:lnTo>
                  <a:lnTo>
                    <a:pt x="698" y="4"/>
                  </a:lnTo>
                  <a:lnTo>
                    <a:pt x="672" y="1"/>
                  </a:lnTo>
                  <a:lnTo>
                    <a:pt x="644" y="0"/>
                  </a:lnTo>
                  <a:lnTo>
                    <a:pt x="619" y="0"/>
                  </a:lnTo>
                  <a:lnTo>
                    <a:pt x="594" y="4"/>
                  </a:lnTo>
                  <a:lnTo>
                    <a:pt x="570" y="11"/>
                  </a:lnTo>
                  <a:lnTo>
                    <a:pt x="547" y="18"/>
                  </a:lnTo>
                  <a:lnTo>
                    <a:pt x="525" y="30"/>
                  </a:lnTo>
                  <a:lnTo>
                    <a:pt x="506" y="41"/>
                  </a:lnTo>
                  <a:lnTo>
                    <a:pt x="490" y="53"/>
                  </a:lnTo>
                  <a:lnTo>
                    <a:pt x="476" y="68"/>
                  </a:lnTo>
                  <a:lnTo>
                    <a:pt x="466" y="82"/>
                  </a:lnTo>
                  <a:lnTo>
                    <a:pt x="458" y="97"/>
                  </a:lnTo>
                  <a:lnTo>
                    <a:pt x="453" y="113"/>
                  </a:lnTo>
                  <a:lnTo>
                    <a:pt x="451" y="129"/>
                  </a:lnTo>
                  <a:lnTo>
                    <a:pt x="453" y="145"/>
                  </a:lnTo>
                  <a:lnTo>
                    <a:pt x="460" y="159"/>
                  </a:lnTo>
                  <a:lnTo>
                    <a:pt x="466" y="168"/>
                  </a:lnTo>
                  <a:lnTo>
                    <a:pt x="473" y="175"/>
                  </a:lnTo>
                  <a:lnTo>
                    <a:pt x="479" y="182"/>
                  </a:lnTo>
                  <a:lnTo>
                    <a:pt x="487" y="188"/>
                  </a:lnTo>
                  <a:lnTo>
                    <a:pt x="504" y="200"/>
                  </a:lnTo>
                  <a:lnTo>
                    <a:pt x="520" y="213"/>
                  </a:lnTo>
                  <a:lnTo>
                    <a:pt x="530" y="226"/>
                  </a:lnTo>
                  <a:lnTo>
                    <a:pt x="540" y="237"/>
                  </a:lnTo>
                  <a:lnTo>
                    <a:pt x="547" y="248"/>
                  </a:lnTo>
                  <a:lnTo>
                    <a:pt x="552" y="258"/>
                  </a:lnTo>
                  <a:lnTo>
                    <a:pt x="553" y="268"/>
                  </a:lnTo>
                  <a:lnTo>
                    <a:pt x="553" y="277"/>
                  </a:lnTo>
                  <a:lnTo>
                    <a:pt x="552" y="285"/>
                  </a:lnTo>
                  <a:lnTo>
                    <a:pt x="547" y="292"/>
                  </a:lnTo>
                  <a:lnTo>
                    <a:pt x="540" y="298"/>
                  </a:lnTo>
                  <a:lnTo>
                    <a:pt x="532" y="303"/>
                  </a:lnTo>
                  <a:lnTo>
                    <a:pt x="522" y="307"/>
                  </a:lnTo>
                  <a:lnTo>
                    <a:pt x="508" y="312"/>
                  </a:lnTo>
                  <a:lnTo>
                    <a:pt x="494" y="313"/>
                  </a:lnTo>
                  <a:lnTo>
                    <a:pt x="476" y="313"/>
                  </a:lnTo>
                  <a:lnTo>
                    <a:pt x="411" y="315"/>
                  </a:lnTo>
                  <a:lnTo>
                    <a:pt x="343" y="317"/>
                  </a:lnTo>
                  <a:lnTo>
                    <a:pt x="275" y="320"/>
                  </a:lnTo>
                  <a:lnTo>
                    <a:pt x="209" y="322"/>
                  </a:lnTo>
                  <a:lnTo>
                    <a:pt x="150" y="325"/>
                  </a:lnTo>
                  <a:lnTo>
                    <a:pt x="97" y="325"/>
                  </a:lnTo>
                  <a:lnTo>
                    <a:pt x="73" y="322"/>
                  </a:lnTo>
                  <a:lnTo>
                    <a:pt x="51" y="321"/>
                  </a:lnTo>
                  <a:lnTo>
                    <a:pt x="34" y="317"/>
                  </a:lnTo>
                  <a:lnTo>
                    <a:pt x="20" y="313"/>
                  </a:lnTo>
                  <a:lnTo>
                    <a:pt x="20" y="354"/>
                  </a:lnTo>
                  <a:lnTo>
                    <a:pt x="20" y="404"/>
                  </a:lnTo>
                  <a:lnTo>
                    <a:pt x="20" y="459"/>
                  </a:lnTo>
                  <a:lnTo>
                    <a:pt x="20" y="517"/>
                  </a:lnTo>
                  <a:lnTo>
                    <a:pt x="20" y="572"/>
                  </a:lnTo>
                  <a:lnTo>
                    <a:pt x="20" y="621"/>
                  </a:lnTo>
                  <a:lnTo>
                    <a:pt x="20" y="660"/>
                  </a:lnTo>
                  <a:lnTo>
                    <a:pt x="20" y="684"/>
                  </a:lnTo>
                  <a:lnTo>
                    <a:pt x="22" y="690"/>
                  </a:lnTo>
                  <a:lnTo>
                    <a:pt x="26" y="698"/>
                  </a:lnTo>
                  <a:lnTo>
                    <a:pt x="32" y="704"/>
                  </a:lnTo>
                  <a:lnTo>
                    <a:pt x="41" y="712"/>
                  </a:lnTo>
                  <a:lnTo>
                    <a:pt x="51" y="719"/>
                  </a:lnTo>
                  <a:lnTo>
                    <a:pt x="64" y="724"/>
                  </a:lnTo>
                  <a:lnTo>
                    <a:pt x="79" y="728"/>
                  </a:lnTo>
                  <a:lnTo>
                    <a:pt x="94" y="733"/>
                  </a:lnTo>
                  <a:lnTo>
                    <a:pt x="109" y="736"/>
                  </a:lnTo>
                  <a:lnTo>
                    <a:pt x="127" y="737"/>
                  </a:lnTo>
                  <a:lnTo>
                    <a:pt x="143" y="736"/>
                  </a:lnTo>
                  <a:lnTo>
                    <a:pt x="157" y="735"/>
                  </a:lnTo>
                  <a:lnTo>
                    <a:pt x="175" y="730"/>
                  </a:lnTo>
                  <a:lnTo>
                    <a:pt x="189" y="724"/>
                  </a:lnTo>
                  <a:lnTo>
                    <a:pt x="205" y="716"/>
                  </a:lnTo>
                  <a:lnTo>
                    <a:pt x="217" y="704"/>
                  </a:lnTo>
                  <a:close/>
                </a:path>
              </a:pathLst>
            </a:custGeom>
            <a:solidFill>
              <a:srgbClr val="91e1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54360" y="1820880"/>
              <a:ext cx="3377880" cy="1639800"/>
            </a:xfrm>
            <a:custGeom>
              <a:avLst/>
              <a:gdLst/>
              <a:ahLst/>
              <a:rect l="l" t="t" r="r" b="b"/>
              <a:pathLst>
                <a:path w="2128" h="861">
                  <a:moveTo>
                    <a:pt x="919" y="826"/>
                  </a:moveTo>
                  <a:lnTo>
                    <a:pt x="935" y="826"/>
                  </a:lnTo>
                  <a:lnTo>
                    <a:pt x="951" y="823"/>
                  </a:lnTo>
                  <a:lnTo>
                    <a:pt x="963" y="820"/>
                  </a:lnTo>
                  <a:lnTo>
                    <a:pt x="974" y="816"/>
                  </a:lnTo>
                  <a:lnTo>
                    <a:pt x="983" y="810"/>
                  </a:lnTo>
                  <a:lnTo>
                    <a:pt x="988" y="804"/>
                  </a:lnTo>
                  <a:lnTo>
                    <a:pt x="993" y="797"/>
                  </a:lnTo>
                  <a:lnTo>
                    <a:pt x="995" y="790"/>
                  </a:lnTo>
                  <a:lnTo>
                    <a:pt x="995" y="780"/>
                  </a:lnTo>
                  <a:lnTo>
                    <a:pt x="993" y="771"/>
                  </a:lnTo>
                  <a:lnTo>
                    <a:pt x="988" y="759"/>
                  </a:lnTo>
                  <a:lnTo>
                    <a:pt x="983" y="749"/>
                  </a:lnTo>
                  <a:lnTo>
                    <a:pt x="971" y="738"/>
                  </a:lnTo>
                  <a:lnTo>
                    <a:pt x="961" y="725"/>
                  </a:lnTo>
                  <a:lnTo>
                    <a:pt x="946" y="713"/>
                  </a:lnTo>
                  <a:lnTo>
                    <a:pt x="929" y="700"/>
                  </a:lnTo>
                  <a:lnTo>
                    <a:pt x="921" y="693"/>
                  </a:lnTo>
                  <a:lnTo>
                    <a:pt x="914" y="686"/>
                  </a:lnTo>
                  <a:lnTo>
                    <a:pt x="909" y="678"/>
                  </a:lnTo>
                  <a:lnTo>
                    <a:pt x="902" y="671"/>
                  </a:lnTo>
                  <a:lnTo>
                    <a:pt x="895" y="656"/>
                  </a:lnTo>
                  <a:lnTo>
                    <a:pt x="893" y="640"/>
                  </a:lnTo>
                  <a:lnTo>
                    <a:pt x="893" y="624"/>
                  </a:lnTo>
                  <a:lnTo>
                    <a:pt x="899" y="609"/>
                  </a:lnTo>
                  <a:lnTo>
                    <a:pt x="907" y="593"/>
                  </a:lnTo>
                  <a:lnTo>
                    <a:pt x="919" y="578"/>
                  </a:lnTo>
                  <a:lnTo>
                    <a:pt x="931" y="565"/>
                  </a:lnTo>
                  <a:lnTo>
                    <a:pt x="949" y="550"/>
                  </a:lnTo>
                  <a:lnTo>
                    <a:pt x="967" y="540"/>
                  </a:lnTo>
                  <a:lnTo>
                    <a:pt x="988" y="529"/>
                  </a:lnTo>
                  <a:lnTo>
                    <a:pt x="1010" y="521"/>
                  </a:lnTo>
                  <a:lnTo>
                    <a:pt x="1036" y="515"/>
                  </a:lnTo>
                  <a:lnTo>
                    <a:pt x="1062" y="510"/>
                  </a:lnTo>
                  <a:lnTo>
                    <a:pt x="1087" y="510"/>
                  </a:lnTo>
                  <a:lnTo>
                    <a:pt x="1114" y="510"/>
                  </a:lnTo>
                  <a:lnTo>
                    <a:pt x="1140" y="515"/>
                  </a:lnTo>
                  <a:lnTo>
                    <a:pt x="1164" y="523"/>
                  </a:lnTo>
                  <a:lnTo>
                    <a:pt x="1184" y="530"/>
                  </a:lnTo>
                  <a:lnTo>
                    <a:pt x="1203" y="541"/>
                  </a:lnTo>
                  <a:lnTo>
                    <a:pt x="1220" y="552"/>
                  </a:lnTo>
                  <a:lnTo>
                    <a:pt x="1233" y="565"/>
                  </a:lnTo>
                  <a:lnTo>
                    <a:pt x="1246" y="579"/>
                  </a:lnTo>
                  <a:lnTo>
                    <a:pt x="1254" y="595"/>
                  </a:lnTo>
                  <a:lnTo>
                    <a:pt x="1261" y="610"/>
                  </a:lnTo>
                  <a:lnTo>
                    <a:pt x="1263" y="624"/>
                  </a:lnTo>
                  <a:lnTo>
                    <a:pt x="1263" y="640"/>
                  </a:lnTo>
                  <a:lnTo>
                    <a:pt x="1258" y="656"/>
                  </a:lnTo>
                  <a:lnTo>
                    <a:pt x="1252" y="669"/>
                  </a:lnTo>
                  <a:lnTo>
                    <a:pt x="1244" y="683"/>
                  </a:lnTo>
                  <a:lnTo>
                    <a:pt x="1229" y="694"/>
                  </a:lnTo>
                  <a:lnTo>
                    <a:pt x="1201" y="715"/>
                  </a:lnTo>
                  <a:lnTo>
                    <a:pt x="1176" y="735"/>
                  </a:lnTo>
                  <a:lnTo>
                    <a:pt x="1166" y="743"/>
                  </a:lnTo>
                  <a:lnTo>
                    <a:pt x="1156" y="752"/>
                  </a:lnTo>
                  <a:lnTo>
                    <a:pt x="1150" y="760"/>
                  </a:lnTo>
                  <a:lnTo>
                    <a:pt x="1146" y="767"/>
                  </a:lnTo>
                  <a:lnTo>
                    <a:pt x="1142" y="776"/>
                  </a:lnTo>
                  <a:lnTo>
                    <a:pt x="1142" y="783"/>
                  </a:lnTo>
                  <a:lnTo>
                    <a:pt x="1142" y="791"/>
                  </a:lnTo>
                  <a:lnTo>
                    <a:pt x="1144" y="797"/>
                  </a:lnTo>
                  <a:lnTo>
                    <a:pt x="1150" y="804"/>
                  </a:lnTo>
                  <a:lnTo>
                    <a:pt x="1159" y="812"/>
                  </a:lnTo>
                  <a:lnTo>
                    <a:pt x="1168" y="819"/>
                  </a:lnTo>
                  <a:lnTo>
                    <a:pt x="1182" y="826"/>
                  </a:lnTo>
                  <a:lnTo>
                    <a:pt x="1198" y="833"/>
                  </a:lnTo>
                  <a:lnTo>
                    <a:pt x="1220" y="840"/>
                  </a:lnTo>
                  <a:lnTo>
                    <a:pt x="1244" y="845"/>
                  </a:lnTo>
                  <a:lnTo>
                    <a:pt x="1273" y="850"/>
                  </a:lnTo>
                  <a:lnTo>
                    <a:pt x="1305" y="854"/>
                  </a:lnTo>
                  <a:lnTo>
                    <a:pt x="1337" y="859"/>
                  </a:lnTo>
                  <a:lnTo>
                    <a:pt x="1374" y="860"/>
                  </a:lnTo>
                  <a:lnTo>
                    <a:pt x="1409" y="861"/>
                  </a:lnTo>
                  <a:lnTo>
                    <a:pt x="1446" y="861"/>
                  </a:lnTo>
                  <a:lnTo>
                    <a:pt x="1481" y="861"/>
                  </a:lnTo>
                  <a:lnTo>
                    <a:pt x="1518" y="859"/>
                  </a:lnTo>
                  <a:lnTo>
                    <a:pt x="1552" y="856"/>
                  </a:lnTo>
                  <a:lnTo>
                    <a:pt x="1586" y="850"/>
                  </a:lnTo>
                  <a:lnTo>
                    <a:pt x="1618" y="844"/>
                  </a:lnTo>
                  <a:lnTo>
                    <a:pt x="1646" y="836"/>
                  </a:lnTo>
                  <a:lnTo>
                    <a:pt x="1668" y="826"/>
                  </a:lnTo>
                  <a:lnTo>
                    <a:pt x="1675" y="819"/>
                  </a:lnTo>
                  <a:lnTo>
                    <a:pt x="1680" y="810"/>
                  </a:lnTo>
                  <a:lnTo>
                    <a:pt x="1684" y="802"/>
                  </a:lnTo>
                  <a:lnTo>
                    <a:pt x="1686" y="792"/>
                  </a:lnTo>
                  <a:lnTo>
                    <a:pt x="1688" y="772"/>
                  </a:lnTo>
                  <a:lnTo>
                    <a:pt x="1688" y="752"/>
                  </a:lnTo>
                  <a:lnTo>
                    <a:pt x="1686" y="729"/>
                  </a:lnTo>
                  <a:lnTo>
                    <a:pt x="1682" y="706"/>
                  </a:lnTo>
                  <a:lnTo>
                    <a:pt x="1678" y="684"/>
                  </a:lnTo>
                  <a:lnTo>
                    <a:pt x="1670" y="660"/>
                  </a:lnTo>
                  <a:lnTo>
                    <a:pt x="1656" y="615"/>
                  </a:lnTo>
                  <a:lnTo>
                    <a:pt x="1646" y="570"/>
                  </a:lnTo>
                  <a:lnTo>
                    <a:pt x="1643" y="552"/>
                  </a:lnTo>
                  <a:lnTo>
                    <a:pt x="1641" y="533"/>
                  </a:lnTo>
                  <a:lnTo>
                    <a:pt x="1643" y="518"/>
                  </a:lnTo>
                  <a:lnTo>
                    <a:pt x="1650" y="505"/>
                  </a:lnTo>
                  <a:lnTo>
                    <a:pt x="1656" y="492"/>
                  </a:lnTo>
                  <a:lnTo>
                    <a:pt x="1666" y="481"/>
                  </a:lnTo>
                  <a:lnTo>
                    <a:pt x="1680" y="471"/>
                  </a:lnTo>
                  <a:lnTo>
                    <a:pt x="1692" y="463"/>
                  </a:lnTo>
                  <a:lnTo>
                    <a:pt x="1707" y="454"/>
                  </a:lnTo>
                  <a:lnTo>
                    <a:pt x="1722" y="447"/>
                  </a:lnTo>
                  <a:lnTo>
                    <a:pt x="1740" y="441"/>
                  </a:lnTo>
                  <a:lnTo>
                    <a:pt x="1756" y="437"/>
                  </a:lnTo>
                  <a:lnTo>
                    <a:pt x="1773" y="433"/>
                  </a:lnTo>
                  <a:lnTo>
                    <a:pt x="1790" y="431"/>
                  </a:lnTo>
                  <a:lnTo>
                    <a:pt x="1807" y="431"/>
                  </a:lnTo>
                  <a:lnTo>
                    <a:pt x="1824" y="434"/>
                  </a:lnTo>
                  <a:lnTo>
                    <a:pt x="1839" y="437"/>
                  </a:lnTo>
                  <a:lnTo>
                    <a:pt x="1853" y="443"/>
                  </a:lnTo>
                  <a:lnTo>
                    <a:pt x="1869" y="450"/>
                  </a:lnTo>
                  <a:lnTo>
                    <a:pt x="1881" y="460"/>
                  </a:lnTo>
                  <a:lnTo>
                    <a:pt x="1895" y="470"/>
                  </a:lnTo>
                  <a:lnTo>
                    <a:pt x="1911" y="476"/>
                  </a:lnTo>
                  <a:lnTo>
                    <a:pt x="1927" y="483"/>
                  </a:lnTo>
                  <a:lnTo>
                    <a:pt x="1949" y="487"/>
                  </a:lnTo>
                  <a:lnTo>
                    <a:pt x="1969" y="487"/>
                  </a:lnTo>
                  <a:lnTo>
                    <a:pt x="1990" y="487"/>
                  </a:lnTo>
                  <a:lnTo>
                    <a:pt x="2011" y="484"/>
                  </a:lnTo>
                  <a:lnTo>
                    <a:pt x="2030" y="480"/>
                  </a:lnTo>
                  <a:lnTo>
                    <a:pt x="2050" y="474"/>
                  </a:lnTo>
                  <a:lnTo>
                    <a:pt x="2068" y="467"/>
                  </a:lnTo>
                  <a:lnTo>
                    <a:pt x="2085" y="458"/>
                  </a:lnTo>
                  <a:lnTo>
                    <a:pt x="2100" y="448"/>
                  </a:lnTo>
                  <a:lnTo>
                    <a:pt x="2110" y="439"/>
                  </a:lnTo>
                  <a:lnTo>
                    <a:pt x="2122" y="426"/>
                  </a:lnTo>
                  <a:lnTo>
                    <a:pt x="2126" y="413"/>
                  </a:lnTo>
                  <a:lnTo>
                    <a:pt x="2128" y="401"/>
                  </a:lnTo>
                  <a:lnTo>
                    <a:pt x="2126" y="381"/>
                  </a:lnTo>
                  <a:lnTo>
                    <a:pt x="2122" y="362"/>
                  </a:lnTo>
                  <a:lnTo>
                    <a:pt x="2110" y="347"/>
                  </a:lnTo>
                  <a:lnTo>
                    <a:pt x="2100" y="332"/>
                  </a:lnTo>
                  <a:lnTo>
                    <a:pt x="2085" y="319"/>
                  </a:lnTo>
                  <a:lnTo>
                    <a:pt x="2068" y="310"/>
                  </a:lnTo>
                  <a:lnTo>
                    <a:pt x="2050" y="300"/>
                  </a:lnTo>
                  <a:lnTo>
                    <a:pt x="2030" y="294"/>
                  </a:lnTo>
                  <a:lnTo>
                    <a:pt x="2011" y="290"/>
                  </a:lnTo>
                  <a:lnTo>
                    <a:pt x="1990" y="285"/>
                  </a:lnTo>
                  <a:lnTo>
                    <a:pt x="1969" y="284"/>
                  </a:lnTo>
                  <a:lnTo>
                    <a:pt x="1949" y="285"/>
                  </a:lnTo>
                  <a:lnTo>
                    <a:pt x="1927" y="287"/>
                  </a:lnTo>
                  <a:lnTo>
                    <a:pt x="1911" y="291"/>
                  </a:lnTo>
                  <a:lnTo>
                    <a:pt x="1895" y="297"/>
                  </a:lnTo>
                  <a:lnTo>
                    <a:pt x="1881" y="305"/>
                  </a:lnTo>
                  <a:lnTo>
                    <a:pt x="1869" y="312"/>
                  </a:lnTo>
                  <a:lnTo>
                    <a:pt x="1851" y="317"/>
                  </a:lnTo>
                  <a:lnTo>
                    <a:pt x="1835" y="324"/>
                  </a:lnTo>
                  <a:lnTo>
                    <a:pt x="1816" y="327"/>
                  </a:lnTo>
                  <a:lnTo>
                    <a:pt x="1796" y="328"/>
                  </a:lnTo>
                  <a:lnTo>
                    <a:pt x="1777" y="330"/>
                  </a:lnTo>
                  <a:lnTo>
                    <a:pt x="1758" y="330"/>
                  </a:lnTo>
                  <a:lnTo>
                    <a:pt x="1740" y="327"/>
                  </a:lnTo>
                  <a:lnTo>
                    <a:pt x="1720" y="324"/>
                  </a:lnTo>
                  <a:lnTo>
                    <a:pt x="1700" y="319"/>
                  </a:lnTo>
                  <a:lnTo>
                    <a:pt x="1684" y="315"/>
                  </a:lnTo>
                  <a:lnTo>
                    <a:pt x="1668" y="308"/>
                  </a:lnTo>
                  <a:lnTo>
                    <a:pt x="1656" y="300"/>
                  </a:lnTo>
                  <a:lnTo>
                    <a:pt x="1646" y="294"/>
                  </a:lnTo>
                  <a:lnTo>
                    <a:pt x="1638" y="284"/>
                  </a:lnTo>
                  <a:lnTo>
                    <a:pt x="1636" y="274"/>
                  </a:lnTo>
                  <a:lnTo>
                    <a:pt x="1633" y="257"/>
                  </a:lnTo>
                  <a:lnTo>
                    <a:pt x="1633" y="228"/>
                  </a:lnTo>
                  <a:lnTo>
                    <a:pt x="1636" y="194"/>
                  </a:lnTo>
                  <a:lnTo>
                    <a:pt x="1641" y="155"/>
                  </a:lnTo>
                  <a:lnTo>
                    <a:pt x="1648" y="117"/>
                  </a:lnTo>
                  <a:lnTo>
                    <a:pt x="1654" y="78"/>
                  </a:lnTo>
                  <a:lnTo>
                    <a:pt x="1662" y="45"/>
                  </a:lnTo>
                  <a:lnTo>
                    <a:pt x="1668" y="20"/>
                  </a:lnTo>
                  <a:lnTo>
                    <a:pt x="1666" y="20"/>
                  </a:lnTo>
                  <a:lnTo>
                    <a:pt x="1664" y="20"/>
                  </a:lnTo>
                  <a:lnTo>
                    <a:pt x="1599" y="18"/>
                  </a:lnTo>
                  <a:lnTo>
                    <a:pt x="1537" y="16"/>
                  </a:lnTo>
                  <a:lnTo>
                    <a:pt x="1480" y="13"/>
                  </a:lnTo>
                  <a:lnTo>
                    <a:pt x="1427" y="11"/>
                  </a:lnTo>
                  <a:lnTo>
                    <a:pt x="1379" y="6"/>
                  </a:lnTo>
                  <a:lnTo>
                    <a:pt x="1339" y="3"/>
                  </a:lnTo>
                  <a:lnTo>
                    <a:pt x="1309" y="0"/>
                  </a:lnTo>
                  <a:lnTo>
                    <a:pt x="1289" y="0"/>
                  </a:lnTo>
                  <a:lnTo>
                    <a:pt x="1275" y="0"/>
                  </a:lnTo>
                  <a:lnTo>
                    <a:pt x="1263" y="4"/>
                  </a:lnTo>
                  <a:lnTo>
                    <a:pt x="1250" y="11"/>
                  </a:lnTo>
                  <a:lnTo>
                    <a:pt x="1240" y="17"/>
                  </a:lnTo>
                  <a:lnTo>
                    <a:pt x="1229" y="26"/>
                  </a:lnTo>
                  <a:lnTo>
                    <a:pt x="1220" y="36"/>
                  </a:lnTo>
                  <a:lnTo>
                    <a:pt x="1214" y="47"/>
                  </a:lnTo>
                  <a:lnTo>
                    <a:pt x="1210" y="60"/>
                  </a:lnTo>
                  <a:lnTo>
                    <a:pt x="1206" y="73"/>
                  </a:lnTo>
                  <a:lnTo>
                    <a:pt x="1203" y="87"/>
                  </a:lnTo>
                  <a:lnTo>
                    <a:pt x="1206" y="100"/>
                  </a:lnTo>
                  <a:lnTo>
                    <a:pt x="1210" y="114"/>
                  </a:lnTo>
                  <a:lnTo>
                    <a:pt x="1216" y="128"/>
                  </a:lnTo>
                  <a:lnTo>
                    <a:pt x="1224" y="140"/>
                  </a:lnTo>
                  <a:lnTo>
                    <a:pt x="1235" y="154"/>
                  </a:lnTo>
                  <a:lnTo>
                    <a:pt x="1252" y="164"/>
                  </a:lnTo>
                  <a:lnTo>
                    <a:pt x="1270" y="177"/>
                  </a:lnTo>
                  <a:lnTo>
                    <a:pt x="1282" y="192"/>
                  </a:lnTo>
                  <a:lnTo>
                    <a:pt x="1293" y="208"/>
                  </a:lnTo>
                  <a:lnTo>
                    <a:pt x="1298" y="221"/>
                  </a:lnTo>
                  <a:lnTo>
                    <a:pt x="1303" y="237"/>
                  </a:lnTo>
                  <a:lnTo>
                    <a:pt x="1301" y="253"/>
                  </a:lnTo>
                  <a:lnTo>
                    <a:pt x="1298" y="267"/>
                  </a:lnTo>
                  <a:lnTo>
                    <a:pt x="1291" y="280"/>
                  </a:lnTo>
                  <a:lnTo>
                    <a:pt x="1282" y="294"/>
                  </a:lnTo>
                  <a:lnTo>
                    <a:pt x="1267" y="307"/>
                  </a:lnTo>
                  <a:lnTo>
                    <a:pt x="1250" y="317"/>
                  </a:lnTo>
                  <a:lnTo>
                    <a:pt x="1231" y="328"/>
                  </a:lnTo>
                  <a:lnTo>
                    <a:pt x="1210" y="336"/>
                  </a:lnTo>
                  <a:lnTo>
                    <a:pt x="1184" y="344"/>
                  </a:lnTo>
                  <a:lnTo>
                    <a:pt x="1154" y="348"/>
                  </a:lnTo>
                  <a:lnTo>
                    <a:pt x="1124" y="350"/>
                  </a:lnTo>
                  <a:lnTo>
                    <a:pt x="1108" y="350"/>
                  </a:lnTo>
                  <a:lnTo>
                    <a:pt x="1092" y="350"/>
                  </a:lnTo>
                  <a:lnTo>
                    <a:pt x="1080" y="348"/>
                  </a:lnTo>
                  <a:lnTo>
                    <a:pt x="1065" y="345"/>
                  </a:lnTo>
                  <a:lnTo>
                    <a:pt x="1052" y="342"/>
                  </a:lnTo>
                  <a:lnTo>
                    <a:pt x="1041" y="339"/>
                  </a:lnTo>
                  <a:lnTo>
                    <a:pt x="1029" y="335"/>
                  </a:lnTo>
                  <a:lnTo>
                    <a:pt x="1018" y="330"/>
                  </a:lnTo>
                  <a:lnTo>
                    <a:pt x="999" y="319"/>
                  </a:lnTo>
                  <a:lnTo>
                    <a:pt x="985" y="307"/>
                  </a:lnTo>
                  <a:lnTo>
                    <a:pt x="971" y="293"/>
                  </a:lnTo>
                  <a:lnTo>
                    <a:pt x="961" y="277"/>
                  </a:lnTo>
                  <a:lnTo>
                    <a:pt x="955" y="261"/>
                  </a:lnTo>
                  <a:lnTo>
                    <a:pt x="951" y="246"/>
                  </a:lnTo>
                  <a:lnTo>
                    <a:pt x="949" y="228"/>
                  </a:lnTo>
                  <a:lnTo>
                    <a:pt x="951" y="213"/>
                  </a:lnTo>
                  <a:lnTo>
                    <a:pt x="957" y="197"/>
                  </a:lnTo>
                  <a:lnTo>
                    <a:pt x="965" y="183"/>
                  </a:lnTo>
                  <a:lnTo>
                    <a:pt x="976" y="171"/>
                  </a:lnTo>
                  <a:lnTo>
                    <a:pt x="988" y="159"/>
                  </a:lnTo>
                  <a:lnTo>
                    <a:pt x="1001" y="151"/>
                  </a:lnTo>
                  <a:lnTo>
                    <a:pt x="1013" y="142"/>
                  </a:lnTo>
                  <a:lnTo>
                    <a:pt x="1020" y="132"/>
                  </a:lnTo>
                  <a:lnTo>
                    <a:pt x="1027" y="122"/>
                  </a:lnTo>
                  <a:lnTo>
                    <a:pt x="1031" y="112"/>
                  </a:lnTo>
                  <a:lnTo>
                    <a:pt x="1034" y="102"/>
                  </a:lnTo>
                  <a:lnTo>
                    <a:pt x="1031" y="92"/>
                  </a:lnTo>
                  <a:lnTo>
                    <a:pt x="1027" y="84"/>
                  </a:lnTo>
                  <a:lnTo>
                    <a:pt x="1020" y="74"/>
                  </a:lnTo>
                  <a:lnTo>
                    <a:pt x="1010" y="64"/>
                  </a:lnTo>
                  <a:lnTo>
                    <a:pt x="997" y="55"/>
                  </a:lnTo>
                  <a:lnTo>
                    <a:pt x="978" y="47"/>
                  </a:lnTo>
                  <a:lnTo>
                    <a:pt x="957" y="38"/>
                  </a:lnTo>
                  <a:lnTo>
                    <a:pt x="931" y="32"/>
                  </a:lnTo>
                  <a:lnTo>
                    <a:pt x="902" y="26"/>
                  </a:lnTo>
                  <a:lnTo>
                    <a:pt x="867" y="20"/>
                  </a:lnTo>
                  <a:lnTo>
                    <a:pt x="831" y="17"/>
                  </a:lnTo>
                  <a:lnTo>
                    <a:pt x="784" y="16"/>
                  </a:lnTo>
                  <a:lnTo>
                    <a:pt x="726" y="16"/>
                  </a:lnTo>
                  <a:lnTo>
                    <a:pt x="668" y="17"/>
                  </a:lnTo>
                  <a:lnTo>
                    <a:pt x="606" y="20"/>
                  </a:lnTo>
                  <a:lnTo>
                    <a:pt x="548" y="24"/>
                  </a:lnTo>
                  <a:lnTo>
                    <a:pt x="499" y="28"/>
                  </a:lnTo>
                  <a:lnTo>
                    <a:pt x="462" y="33"/>
                  </a:lnTo>
                  <a:lnTo>
                    <a:pt x="474" y="61"/>
                  </a:lnTo>
                  <a:lnTo>
                    <a:pt x="492" y="98"/>
                  </a:lnTo>
                  <a:lnTo>
                    <a:pt x="506" y="140"/>
                  </a:lnTo>
                  <a:lnTo>
                    <a:pt x="519" y="184"/>
                  </a:lnTo>
                  <a:lnTo>
                    <a:pt x="523" y="206"/>
                  </a:lnTo>
                  <a:lnTo>
                    <a:pt x="527" y="228"/>
                  </a:lnTo>
                  <a:lnTo>
                    <a:pt x="530" y="248"/>
                  </a:lnTo>
                  <a:lnTo>
                    <a:pt x="530" y="267"/>
                  </a:lnTo>
                  <a:lnTo>
                    <a:pt x="525" y="284"/>
                  </a:lnTo>
                  <a:lnTo>
                    <a:pt x="521" y="298"/>
                  </a:lnTo>
                  <a:lnTo>
                    <a:pt x="517" y="305"/>
                  </a:lnTo>
                  <a:lnTo>
                    <a:pt x="513" y="311"/>
                  </a:lnTo>
                  <a:lnTo>
                    <a:pt x="509" y="315"/>
                  </a:lnTo>
                  <a:lnTo>
                    <a:pt x="502" y="319"/>
                  </a:lnTo>
                  <a:lnTo>
                    <a:pt x="489" y="327"/>
                  </a:lnTo>
                  <a:lnTo>
                    <a:pt x="474" y="332"/>
                  </a:lnTo>
                  <a:lnTo>
                    <a:pt x="462" y="337"/>
                  </a:lnTo>
                  <a:lnTo>
                    <a:pt x="447" y="342"/>
                  </a:lnTo>
                  <a:lnTo>
                    <a:pt x="432" y="345"/>
                  </a:lnTo>
                  <a:lnTo>
                    <a:pt x="417" y="347"/>
                  </a:lnTo>
                  <a:lnTo>
                    <a:pt x="400" y="348"/>
                  </a:lnTo>
                  <a:lnTo>
                    <a:pt x="385" y="348"/>
                  </a:lnTo>
                  <a:lnTo>
                    <a:pt x="370" y="347"/>
                  </a:lnTo>
                  <a:lnTo>
                    <a:pt x="358" y="345"/>
                  </a:lnTo>
                  <a:lnTo>
                    <a:pt x="343" y="344"/>
                  </a:lnTo>
                  <a:lnTo>
                    <a:pt x="330" y="340"/>
                  </a:lnTo>
                  <a:lnTo>
                    <a:pt x="317" y="336"/>
                  </a:lnTo>
                  <a:lnTo>
                    <a:pt x="305" y="331"/>
                  </a:lnTo>
                  <a:lnTo>
                    <a:pt x="294" y="327"/>
                  </a:lnTo>
                  <a:lnTo>
                    <a:pt x="285" y="319"/>
                  </a:lnTo>
                  <a:lnTo>
                    <a:pt x="270" y="311"/>
                  </a:lnTo>
                  <a:lnTo>
                    <a:pt x="254" y="304"/>
                  </a:lnTo>
                  <a:lnTo>
                    <a:pt x="234" y="298"/>
                  </a:lnTo>
                  <a:lnTo>
                    <a:pt x="210" y="295"/>
                  </a:lnTo>
                  <a:lnTo>
                    <a:pt x="190" y="294"/>
                  </a:lnTo>
                  <a:lnTo>
                    <a:pt x="164" y="294"/>
                  </a:lnTo>
                  <a:lnTo>
                    <a:pt x="141" y="295"/>
                  </a:lnTo>
                  <a:lnTo>
                    <a:pt x="118" y="299"/>
                  </a:lnTo>
                  <a:lnTo>
                    <a:pt x="94" y="305"/>
                  </a:lnTo>
                  <a:lnTo>
                    <a:pt x="73" y="314"/>
                  </a:lnTo>
                  <a:lnTo>
                    <a:pt x="51" y="325"/>
                  </a:lnTo>
                  <a:lnTo>
                    <a:pt x="34" y="337"/>
                  </a:lnTo>
                  <a:lnTo>
                    <a:pt x="28" y="345"/>
                  </a:lnTo>
                  <a:lnTo>
                    <a:pt x="20" y="353"/>
                  </a:lnTo>
                  <a:lnTo>
                    <a:pt x="15" y="362"/>
                  </a:lnTo>
                  <a:lnTo>
                    <a:pt x="9" y="370"/>
                  </a:lnTo>
                  <a:lnTo>
                    <a:pt x="5" y="381"/>
                  </a:lnTo>
                  <a:lnTo>
                    <a:pt x="2" y="392"/>
                  </a:lnTo>
                  <a:lnTo>
                    <a:pt x="0" y="404"/>
                  </a:lnTo>
                  <a:lnTo>
                    <a:pt x="0" y="414"/>
                  </a:lnTo>
                  <a:lnTo>
                    <a:pt x="0" y="424"/>
                  </a:lnTo>
                  <a:lnTo>
                    <a:pt x="2" y="434"/>
                  </a:lnTo>
                  <a:lnTo>
                    <a:pt x="5" y="443"/>
                  </a:lnTo>
                  <a:lnTo>
                    <a:pt x="9" y="451"/>
                  </a:lnTo>
                  <a:lnTo>
                    <a:pt x="13" y="460"/>
                  </a:lnTo>
                  <a:lnTo>
                    <a:pt x="20" y="467"/>
                  </a:lnTo>
                  <a:lnTo>
                    <a:pt x="25" y="474"/>
                  </a:lnTo>
                  <a:lnTo>
                    <a:pt x="34" y="481"/>
                  </a:lnTo>
                  <a:lnTo>
                    <a:pt x="50" y="492"/>
                  </a:lnTo>
                  <a:lnTo>
                    <a:pt x="69" y="503"/>
                  </a:lnTo>
                  <a:lnTo>
                    <a:pt x="90" y="510"/>
                  </a:lnTo>
                  <a:lnTo>
                    <a:pt x="111" y="515"/>
                  </a:lnTo>
                  <a:lnTo>
                    <a:pt x="134" y="520"/>
                  </a:lnTo>
                  <a:lnTo>
                    <a:pt x="155" y="523"/>
                  </a:lnTo>
                  <a:lnTo>
                    <a:pt x="180" y="523"/>
                  </a:lnTo>
                  <a:lnTo>
                    <a:pt x="200" y="521"/>
                  </a:lnTo>
                  <a:lnTo>
                    <a:pt x="220" y="518"/>
                  </a:lnTo>
                  <a:lnTo>
                    <a:pt x="236" y="513"/>
                  </a:lnTo>
                  <a:lnTo>
                    <a:pt x="252" y="507"/>
                  </a:lnTo>
                  <a:lnTo>
                    <a:pt x="262" y="500"/>
                  </a:lnTo>
                  <a:lnTo>
                    <a:pt x="272" y="492"/>
                  </a:lnTo>
                  <a:lnTo>
                    <a:pt x="285" y="487"/>
                  </a:lnTo>
                  <a:lnTo>
                    <a:pt x="300" y="483"/>
                  </a:lnTo>
                  <a:lnTo>
                    <a:pt x="315" y="480"/>
                  </a:lnTo>
                  <a:lnTo>
                    <a:pt x="332" y="480"/>
                  </a:lnTo>
                  <a:lnTo>
                    <a:pt x="349" y="480"/>
                  </a:lnTo>
                  <a:lnTo>
                    <a:pt x="363" y="483"/>
                  </a:lnTo>
                  <a:lnTo>
                    <a:pt x="381" y="485"/>
                  </a:lnTo>
                  <a:lnTo>
                    <a:pt x="398" y="490"/>
                  </a:lnTo>
                  <a:lnTo>
                    <a:pt x="413" y="495"/>
                  </a:lnTo>
                  <a:lnTo>
                    <a:pt x="425" y="501"/>
                  </a:lnTo>
                  <a:lnTo>
                    <a:pt x="439" y="508"/>
                  </a:lnTo>
                  <a:lnTo>
                    <a:pt x="447" y="517"/>
                  </a:lnTo>
                  <a:lnTo>
                    <a:pt x="455" y="525"/>
                  </a:lnTo>
                  <a:lnTo>
                    <a:pt x="459" y="533"/>
                  </a:lnTo>
                  <a:lnTo>
                    <a:pt x="462" y="542"/>
                  </a:lnTo>
                  <a:lnTo>
                    <a:pt x="459" y="566"/>
                  </a:lnTo>
                  <a:lnTo>
                    <a:pt x="455" y="597"/>
                  </a:lnTo>
                  <a:lnTo>
                    <a:pt x="451" y="634"/>
                  </a:lnTo>
                  <a:lnTo>
                    <a:pt x="449" y="671"/>
                  </a:lnTo>
                  <a:lnTo>
                    <a:pt x="447" y="713"/>
                  </a:lnTo>
                  <a:lnTo>
                    <a:pt x="447" y="754"/>
                  </a:lnTo>
                  <a:lnTo>
                    <a:pt x="449" y="774"/>
                  </a:lnTo>
                  <a:lnTo>
                    <a:pt x="451" y="792"/>
                  </a:lnTo>
                  <a:lnTo>
                    <a:pt x="455" y="810"/>
                  </a:lnTo>
                  <a:lnTo>
                    <a:pt x="462" y="826"/>
                  </a:lnTo>
                  <a:lnTo>
                    <a:pt x="474" y="830"/>
                  </a:lnTo>
                  <a:lnTo>
                    <a:pt x="493" y="833"/>
                  </a:lnTo>
                  <a:lnTo>
                    <a:pt x="515" y="836"/>
                  </a:lnTo>
                  <a:lnTo>
                    <a:pt x="536" y="837"/>
                  </a:lnTo>
                  <a:lnTo>
                    <a:pt x="592" y="837"/>
                  </a:lnTo>
                  <a:lnTo>
                    <a:pt x="650" y="836"/>
                  </a:lnTo>
                  <a:lnTo>
                    <a:pt x="716" y="833"/>
                  </a:lnTo>
                  <a:lnTo>
                    <a:pt x="784" y="830"/>
                  </a:lnTo>
                  <a:lnTo>
                    <a:pt x="853" y="827"/>
                  </a:lnTo>
                  <a:lnTo>
                    <a:pt x="919" y="826"/>
                  </a:lnTo>
                  <a:close/>
                </a:path>
              </a:pathLst>
            </a:custGeom>
            <a:solidFill>
              <a:srgbClr val="8a37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742280" y="2038320"/>
              <a:ext cx="1425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agent</a:t>
              </a:r>
              <a:br>
                <a:rPr sz="1800"/>
              </a:br>
              <a:br>
                <a:rPr sz="1800"/>
              </a:br>
              <a:r>
                <a:rPr b="0" lang="de-DE" sz="1800" spc="-1" strike="noStrike">
                  <a:solidFill>
                    <a:srgbClr val="000000"/>
                  </a:solidFill>
                  <a:latin typeface="Comic Sans MS"/>
                </a:rPr>
                <a:t>technology</a:t>
              </a:r>
              <a:endParaRPr b="0" lang="en-US" sz="1800" spc="-1" strike="noStrike">
                <a:solidFill>
                  <a:srgbClr val="000000"/>
                </a:solidFill>
                <a:latin typeface="Times New Roman"/>
              </a:endParaRPr>
            </a:p>
          </p:txBody>
        </p:sp>
        <p:sp>
          <p:nvSpPr>
            <p:cNvPr id="324" name=""/>
            <p:cNvSpPr/>
            <p:nvPr/>
          </p:nvSpPr>
          <p:spPr>
            <a:xfrm>
              <a:off x="2228760" y="22957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Location  -   based</a:t>
              </a:r>
              <a:br>
                <a:rPr sz="1800"/>
              </a:br>
              <a:r>
                <a:rPr b="0" lang="de-DE" sz="1800" spc="-1" strike="noStrike">
                  <a:solidFill>
                    <a:srgbClr val="000000"/>
                  </a:solidFill>
                  <a:latin typeface="Comic Sans MS"/>
                </a:rPr>
                <a:t>services</a:t>
              </a:r>
              <a:endParaRPr b="0" lang="en-US" sz="1800" spc="-1" strike="noStrike">
                <a:solidFill>
                  <a:srgbClr val="000000"/>
                </a:solidFill>
                <a:latin typeface="Times New Roman"/>
              </a:endParaRPr>
            </a:p>
          </p:txBody>
        </p:sp>
        <p:sp>
          <p:nvSpPr>
            <p:cNvPr id="325" name=""/>
            <p:cNvSpPr/>
            <p:nvPr/>
          </p:nvSpPr>
          <p:spPr>
            <a:xfrm>
              <a:off x="2228760" y="3667320"/>
              <a:ext cx="259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ulti-media 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via mobile devices</a:t>
              </a:r>
              <a:endParaRPr b="0" lang="en-US" sz="1800" spc="-1" strike="noStrike">
                <a:solidFill>
                  <a:srgbClr val="000000"/>
                </a:solidFill>
                <a:latin typeface="Times New Roman"/>
              </a:endParaRPr>
            </a:p>
          </p:txBody>
        </p:sp>
        <p:sp>
          <p:nvSpPr>
            <p:cNvPr id="326" name=""/>
            <p:cNvSpPr/>
            <p:nvPr/>
          </p:nvSpPr>
          <p:spPr>
            <a:xfrm>
              <a:off x="4751280" y="350676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Personalized </a:t>
              </a:r>
              <a:br>
                <a:rPr sz="1800"/>
              </a:br>
              <a:r>
                <a:rPr b="0" lang="de-DE" sz="1800" spc="-1" strike="noStrike">
                  <a:solidFill>
                    <a:srgbClr val="000000"/>
                  </a:solidFill>
                  <a:latin typeface="Comic Sans MS"/>
                </a:rPr>
                <a:t>interac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94840"/>
            <a:ext cx="7758000" cy="37476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0000"/>
                </a:solidFill>
                <a:latin typeface="Arial"/>
              </a:rPr>
              <a:t>Vision</a:t>
            </a:r>
            <a:endParaRPr b="1" lang="en-US" sz="3300" spc="-1" strike="noStrike">
              <a:solidFill>
                <a:srgbClr val="00a886"/>
              </a:solidFill>
              <a:latin typeface="Arial"/>
            </a:endParaRPr>
          </a:p>
        </p:txBody>
      </p:sp>
      <p:pic>
        <p:nvPicPr>
          <p:cNvPr id="328" name="" descr=""/>
          <p:cNvPicPr/>
          <p:nvPr/>
        </p:nvPicPr>
        <p:blipFill>
          <a:blip r:embed="rId1"/>
          <a:stretch/>
        </p:blipFill>
        <p:spPr>
          <a:xfrm>
            <a:off x="695160" y="5667480"/>
            <a:ext cx="1957680" cy="723960"/>
          </a:xfrm>
          <a:prstGeom prst="rect">
            <a:avLst/>
          </a:prstGeom>
          <a:ln w="0">
            <a:noFill/>
          </a:ln>
        </p:spPr>
      </p:pic>
      <p:sp>
        <p:nvSpPr>
          <p:cNvPr id="329" name=""/>
          <p:cNvSpPr/>
          <p:nvPr/>
        </p:nvSpPr>
        <p:spPr>
          <a:xfrm>
            <a:off x="647640" y="1030320"/>
            <a:ext cx="7772400" cy="3355920"/>
          </a:xfrm>
          <a:prstGeom prst="rect">
            <a:avLst/>
          </a:prstGeom>
          <a:noFill/>
          <a:ln w="0">
            <a:noFill/>
          </a:ln>
        </p:spPr>
        <p:style>
          <a:lnRef idx="0"/>
          <a:fillRef idx="0"/>
          <a:effectRef idx="0"/>
          <a:fontRef idx="minor"/>
        </p:style>
        <p:txBody>
          <a:bodyPr lIns="90000" rIns="90000" tIns="46800" bIns="46800" anchor="t">
            <a:noAutofit/>
          </a:bodyPr>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Trustworthy and ambient agencies for user's world-wide, wireless access to local services;</a:t>
            </a:r>
            <a:endParaRPr b="0" lang="en-US" sz="1800" spc="-1" strike="noStrike">
              <a:solidFill>
                <a:srgbClr val="000000"/>
              </a:solidFill>
              <a:latin typeface="Times New Roman"/>
            </a:endParaRPr>
          </a:p>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Personalised support for mobile users;</a:t>
            </a:r>
            <a:endParaRPr b="0" lang="en-US" sz="1800" spc="-1" strike="noStrike">
              <a:solidFill>
                <a:srgbClr val="000000"/>
              </a:solidFill>
              <a:latin typeface="Times New Roman"/>
            </a:endParaRPr>
          </a:p>
          <a:p>
            <a:pPr marL="277920" indent="-277920">
              <a:lnSpc>
                <a:spcPct val="100000"/>
              </a:lnSpc>
              <a:spcBef>
                <a:spcPts val="1125"/>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Location-aware support;</a:t>
            </a:r>
            <a:endParaRPr b="0" lang="en-US" sz="1800" spc="-1" strike="noStrike">
              <a:solidFill>
                <a:srgbClr val="000000"/>
              </a:solidFill>
              <a:latin typeface="Times New Roman"/>
            </a:endParaRPr>
          </a:p>
          <a:p>
            <a:pPr marL="277920" indent="-277920">
              <a:lnSpc>
                <a:spcPct val="100000"/>
              </a:lnSpc>
              <a:spcBef>
                <a:spcPts val="876"/>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800" spc="-1" strike="noStrike">
                <a:solidFill>
                  <a:srgbClr val="000000"/>
                </a:solidFill>
                <a:latin typeface="Verdana"/>
              </a:rPr>
              <a:t>Exploitation of heterogeneous legacy services, which</a:t>
            </a:r>
            <a:r>
              <a:rPr b="0" lang="de-DE" sz="1400" spc="-1" strike="noStrike">
                <a:solidFill>
                  <a:srgbClr val="000000"/>
                </a:solidFill>
                <a:latin typeface="Verdana"/>
              </a:rPr>
              <a:t> </a:t>
            </a:r>
            <a:endParaRPr b="0" lang="en-US" sz="14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cover a wide range of locations, </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supply a wide range of supplementary, complementary, or even competitive services,</a:t>
            </a:r>
            <a:endParaRPr b="0" lang="en-US" sz="1600" spc="-1" strike="noStrike">
              <a:solidFill>
                <a:srgbClr val="000000"/>
              </a:solidFill>
              <a:latin typeface="Times New Roman"/>
            </a:endParaRPr>
          </a:p>
          <a:p>
            <a:pPr lvl="1" marL="600120" indent="-208080">
              <a:lnSpc>
                <a:spcPct val="100000"/>
              </a:lnSpc>
              <a:spcBef>
                <a:spcPts val="400"/>
              </a:spcBef>
              <a:buClr>
                <a:srgbClr val="000000"/>
              </a:buClr>
              <a:buFont typeface="Verdana"/>
              <a:buChar char="–"/>
              <a:tabLst>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may differ in service features and quali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1066680"/>
            <a:ext cx="6500880" cy="117648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ffffff"/>
                </a:solidFill>
                <a:latin typeface="Arial"/>
              </a:rPr>
              <a:t>SAiMotion</a:t>
            </a:r>
            <a:br>
              <a:rPr sz="3300"/>
            </a:br>
            <a:endParaRPr b="1" lang="en-US" sz="3300" spc="-1" strike="noStrike">
              <a:solidFill>
                <a:srgbClr val="00a886"/>
              </a:solidFill>
              <a:latin typeface="Arial"/>
            </a:endParaRPr>
          </a:p>
        </p:txBody>
      </p:sp>
      <p:sp>
        <p:nvSpPr>
          <p:cNvPr id="331" name="PlaceHolder 2"/>
          <p:cNvSpPr>
            <a:spLocks noGrp="1"/>
          </p:cNvSpPr>
          <p:nvPr>
            <p:ph type="subTitle"/>
          </p:nvPr>
        </p:nvSpPr>
        <p:spPr>
          <a:xfrm>
            <a:off x="1209240" y="2428560"/>
            <a:ext cx="6875640" cy="1033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uation Awareness in Motion</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generation of mobile information guide system</a:t>
            </a:r>
            <a:endParaRPr b="0" lang="en-US" sz="2400" spc="-1" strike="noStrike">
              <a:solidFill>
                <a:srgbClr val="000000"/>
              </a:solidFill>
              <a:latin typeface="Arial"/>
            </a:endParaRPr>
          </a:p>
        </p:txBody>
      </p:sp>
      <p:pic>
        <p:nvPicPr>
          <p:cNvPr id="332" name="" descr=""/>
          <p:cNvPicPr/>
          <p:nvPr/>
        </p:nvPicPr>
        <p:blipFill>
          <a:blip r:embed="rId1"/>
          <a:stretch/>
        </p:blipFill>
        <p:spPr>
          <a:xfrm>
            <a:off x="1295280" y="1143000"/>
            <a:ext cx="2343240" cy="122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Partners in SAiMotion:</a:t>
            </a:r>
            <a:endParaRPr b="1" lang="en-US" sz="3300" spc="-1" strike="noStrike">
              <a:solidFill>
                <a:srgbClr val="00a886"/>
              </a:solidFill>
              <a:latin typeface="Arial"/>
            </a:endParaRPr>
          </a:p>
        </p:txBody>
      </p:sp>
      <p:sp>
        <p:nvSpPr>
          <p:cNvPr id="334" name="PlaceHolder 2"/>
          <p:cNvSpPr>
            <a:spLocks noGrp="1"/>
          </p:cNvSpPr>
          <p:nvPr>
            <p:ph/>
          </p:nvPr>
        </p:nvSpPr>
        <p:spPr>
          <a:xfrm>
            <a:off x="1666800" y="2077560"/>
            <a:ext cx="6107040" cy="3675240"/>
          </a:xfrm>
          <a:prstGeom prst="rect">
            <a:avLst/>
          </a:prstGeom>
          <a:noFill/>
          <a:ln w="0">
            <a:noFill/>
          </a:ln>
        </p:spPr>
        <p:txBody>
          <a:bodyPr lIns="90360" rIns="90360" tIns="44280" bIns="44280" anchor="t">
            <a:normAutofit fontScale="89000"/>
          </a:bodyPr>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FIT, Sankt Augustin (Coordinatio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GD, Rostock </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AO, Stuttgart</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ZM, Berli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IS, Erlangen</a:t>
            </a:r>
            <a:endParaRPr b="0" lang="en-US" sz="2400" spc="-1" strike="noStrike">
              <a:solidFill>
                <a:srgbClr val="000000"/>
              </a:solidFill>
              <a:latin typeface="Arial"/>
            </a:endParaRPr>
          </a:p>
          <a:p>
            <a:pPr marL="305280" indent="-3052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unhofer IPSI, Darmstadt</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AiMotion is a BMB+F project</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Timeframe 1. April 2001 – 31. March 2004</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 descr=""/>
          <p:cNvPicPr/>
          <p:nvPr/>
        </p:nvPicPr>
        <p:blipFill>
          <a:blip r:embed="rId1"/>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219240"/>
            <a:ext cx="7758000" cy="374400"/>
          </a:xfrm>
          <a:prstGeom prst="rect">
            <a:avLst/>
          </a:prstGeom>
          <a:noFill/>
          <a:ln w="0">
            <a:noFill/>
          </a:ln>
        </p:spPr>
        <p:txBody>
          <a:bodyPr lIns="96840" rIns="96840" tIns="47520" bIns="47520" anchor="ctr">
            <a:noAutofit/>
          </a:bodyPr>
          <a:p>
            <a:pPr marL="851040" indent="0" algn="r">
              <a:lnSpc>
                <a:spcPct val="90000"/>
              </a:lnSpc>
              <a:buNone/>
              <a:tabLst>
                <a:tab algn="l" pos="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 algn="l" pos="10468080"/>
              </a:tabLst>
            </a:pPr>
            <a:r>
              <a:rPr b="1" lang="en-US" sz="3300" spc="-1" strike="noStrike">
                <a:solidFill>
                  <a:srgbClr val="00a886"/>
                </a:solidFill>
                <a:latin typeface="Arial"/>
              </a:rPr>
              <a:t>Idea:</a:t>
            </a:r>
            <a:r>
              <a:rPr b="1" lang="en-US" sz="3300" spc="-1" strike="noStrike">
                <a:solidFill>
                  <a:srgbClr val="00a886"/>
                </a:solidFill>
                <a:latin typeface="Arial"/>
              </a:rPr>
              <a:t>	</a:t>
            </a:r>
            <a:r>
              <a:rPr b="1" lang="en-US" sz="3300" spc="-1" strike="noStrike">
                <a:solidFill>
                  <a:srgbClr val="000000"/>
                </a:solidFill>
                <a:latin typeface="Arial"/>
              </a:rPr>
              <a:t>adaptive, nomadic information system for events (conference, fair...)</a:t>
            </a:r>
            <a:endParaRPr b="1" lang="en-US" sz="3300" spc="-1" strike="noStrike">
              <a:solidFill>
                <a:srgbClr val="00a886"/>
              </a:solidFill>
              <a:latin typeface="Arial"/>
            </a:endParaRPr>
          </a:p>
        </p:txBody>
      </p:sp>
      <p:grpSp>
        <p:nvGrpSpPr>
          <p:cNvPr id="337" name=""/>
          <p:cNvGrpSpPr/>
          <p:nvPr/>
        </p:nvGrpSpPr>
        <p:grpSpPr>
          <a:xfrm>
            <a:off x="685800" y="1428840"/>
            <a:ext cx="7886880" cy="3533400"/>
            <a:chOff x="685800" y="1428840"/>
            <a:chExt cx="7886880" cy="3533400"/>
          </a:xfrm>
        </p:grpSpPr>
        <p:pic>
          <p:nvPicPr>
            <p:cNvPr id="338" name="" descr=""/>
            <p:cNvPicPr/>
            <p:nvPr/>
          </p:nvPicPr>
          <p:blipFill>
            <a:blip r:embed="rId1"/>
            <a:stretch/>
          </p:blipFill>
          <p:spPr>
            <a:xfrm>
              <a:off x="685800" y="2248200"/>
              <a:ext cx="3513240" cy="1838160"/>
            </a:xfrm>
            <a:prstGeom prst="rect">
              <a:avLst/>
            </a:prstGeom>
            <a:ln w="0">
              <a:noFill/>
            </a:ln>
          </p:spPr>
        </p:pic>
        <p:sp>
          <p:nvSpPr>
            <p:cNvPr id="339" name=""/>
            <p:cNvSpPr/>
            <p:nvPr/>
          </p:nvSpPr>
          <p:spPr>
            <a:xfrm>
              <a:off x="3810240" y="2781360"/>
              <a:ext cx="4762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hibitors have access to valuable tracking data and are within easy reach for  the visitors</a:t>
              </a:r>
              <a:endParaRPr b="0" lang="en-US" sz="1600" spc="-1" strike="noStrike">
                <a:solidFill>
                  <a:srgbClr val="000000"/>
                </a:solidFill>
                <a:latin typeface="Times New Roman"/>
              </a:endParaRPr>
            </a:p>
          </p:txBody>
        </p:sp>
        <p:sp>
          <p:nvSpPr>
            <p:cNvPr id="340" name=""/>
            <p:cNvSpPr/>
            <p:nvPr/>
          </p:nvSpPr>
          <p:spPr>
            <a:xfrm>
              <a:off x="4172040" y="4381560"/>
              <a:ext cx="4324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Visitors manage a more efficient and and easy-going fair visit</a:t>
              </a:r>
              <a:endParaRPr b="0" lang="en-US" sz="1600" spc="-1" strike="noStrike">
                <a:solidFill>
                  <a:srgbClr val="000000"/>
                </a:solidFill>
                <a:latin typeface="Times New Roman"/>
              </a:endParaRPr>
            </a:p>
          </p:txBody>
        </p:sp>
        <p:sp>
          <p:nvSpPr>
            <p:cNvPr id="341" name=""/>
            <p:cNvSpPr/>
            <p:nvPr/>
          </p:nvSpPr>
          <p:spPr>
            <a:xfrm flipV="1">
              <a:off x="3019680" y="1773360"/>
              <a:ext cx="1944360" cy="55728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171960" y="3911760"/>
              <a:ext cx="1278000" cy="54756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029120" y="3124440"/>
              <a:ext cx="95256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619440" y="1428840"/>
              <a:ext cx="47437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Fair corporation offers innovative services for </a:t>
              </a:r>
              <a:br>
                <a:rPr sz="1600"/>
              </a:br>
              <a:r>
                <a:rPr b="0" lang="en-US" sz="1600" spc="-1" strike="noStrike">
                  <a:solidFill>
                    <a:srgbClr val="000000"/>
                  </a:solidFill>
                  <a:latin typeface="Verdana"/>
                </a:rPr>
                <a:t>exhibitors and visitors</a:t>
              </a:r>
              <a:endParaRPr b="0" lang="en-US" sz="1600" spc="-1" strike="noStrike">
                <a:solidFill>
                  <a:srgbClr val="000000"/>
                </a:solidFill>
                <a:latin typeface="Times New Roman"/>
              </a:endParaRPr>
            </a:p>
          </p:txBody>
        </p:sp>
      </p:grpSp>
      <p:pic>
        <p:nvPicPr>
          <p:cNvPr id="345"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819000" y="1009800"/>
            <a:ext cx="2343240" cy="1225440"/>
          </a:xfrm>
          <a:prstGeom prst="rect">
            <a:avLst/>
          </a:prstGeom>
          <a:ln w="0">
            <a:noFill/>
          </a:ln>
        </p:spPr>
      </p:pic>
      <p:sp>
        <p:nvSpPr>
          <p:cNvPr id="347"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SAiMotion-system</a:t>
            </a:r>
            <a:endParaRPr b="1" lang="en-US" sz="3300" spc="-1" strike="noStrike">
              <a:solidFill>
                <a:srgbClr val="00a886"/>
              </a:solidFill>
              <a:latin typeface="Arial"/>
            </a:endParaRPr>
          </a:p>
        </p:txBody>
      </p:sp>
      <p:sp>
        <p:nvSpPr>
          <p:cNvPr id="348"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0" name="Saimotion Indoor Info" descr=""/>
          <p:cNvPicPr/>
          <p:nvPr/>
        </p:nvPicPr>
        <p:blipFill>
          <a:blip r:embed="rId2"/>
          <a:stretch/>
        </p:blipFill>
        <p:spPr>
          <a:xfrm>
            <a:off x="5276880" y="2495520"/>
            <a:ext cx="1981080" cy="2743200"/>
          </a:xfrm>
          <a:prstGeom prst="rect">
            <a:avLst/>
          </a:prstGeom>
          <a:ln w="0">
            <a:noFill/>
          </a:ln>
        </p:spPr>
      </p:pic>
      <p:pic>
        <p:nvPicPr>
          <p:cNvPr id="351" name="Saimotion Outdoor" descr=""/>
          <p:cNvPicPr/>
          <p:nvPr/>
        </p:nvPicPr>
        <p:blipFill>
          <a:blip r:embed="rId3"/>
          <a:stretch/>
        </p:blipFill>
        <p:spPr>
          <a:xfrm>
            <a:off x="6381720" y="971640"/>
            <a:ext cx="1981080" cy="2971800"/>
          </a:xfrm>
          <a:prstGeom prst="rect">
            <a:avLst/>
          </a:prstGeom>
          <a:ln w="0">
            <a:noFill/>
          </a:ln>
        </p:spPr>
      </p:pic>
      <p:sp>
        <p:nvSpPr>
          <p:cNvPr id="352" name=""/>
          <p:cNvSpPr/>
          <p:nvPr/>
        </p:nvSpPr>
        <p:spPr>
          <a:xfrm>
            <a:off x="696960" y="2436840"/>
            <a:ext cx="4255920" cy="2878200"/>
          </a:xfrm>
          <a:prstGeom prst="rect">
            <a:avLst/>
          </a:prstGeom>
          <a:noFill/>
          <a:ln w="0">
            <a:noFill/>
          </a:ln>
        </p:spPr>
        <p:style>
          <a:lnRef idx="0"/>
          <a:fillRef idx="0"/>
          <a:effectRef idx="0"/>
          <a:fontRef idx="minor"/>
        </p:style>
        <p:txBody>
          <a:bodyPr lIns="74520" rIns="74520" tIns="36360" bIns="36360" anchor="t">
            <a:noAutofit/>
          </a:bodyPr>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general </a:t>
            </a:r>
            <a:r>
              <a:rPr b="0" lang="en-US" sz="1600" spc="-1" strike="noStrike">
                <a:solidFill>
                  <a:srgbClr val="000000"/>
                </a:solidFill>
                <a:latin typeface="Verdana"/>
              </a:rPr>
              <a:t>support</a:t>
            </a:r>
            <a:r>
              <a:rPr b="0" lang="de-DE" sz="1600" spc="-1" strike="noStrike">
                <a:solidFill>
                  <a:srgbClr val="000000"/>
                </a:solidFill>
                <a:latin typeface="Verdana"/>
              </a:rPr>
              <a:t> for visitors</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quick overview</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proactive information presentation</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individual tours</a:t>
            </a:r>
            <a:endParaRPr b="0" lang="en-US" sz="1600" spc="-1" strike="noStrike">
              <a:solidFill>
                <a:srgbClr val="000000"/>
              </a:solidFill>
              <a:latin typeface="Times New Roman"/>
            </a:endParaRPr>
          </a:p>
          <a:p>
            <a:pPr marL="277920" indent="-277920">
              <a:lnSpc>
                <a:spcPct val="100000"/>
              </a:lnSpc>
              <a:spcBef>
                <a:spcPts val="1001"/>
              </a:spcBef>
              <a:buClr>
                <a:srgbClr val="9c9c9c"/>
              </a:buClr>
              <a:buSzPct val="70000"/>
              <a:buFont typeface="Wingdings" charset="2"/>
              <a:buChar char=""/>
              <a:tabLst>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0" lang="de-DE" sz="1600" spc="-1" strike="noStrike">
                <a:solidFill>
                  <a:srgbClr val="000000"/>
                </a:solidFill>
                <a:latin typeface="Verdana"/>
              </a:rPr>
              <a:t>references on exhibits/ exhibitors of personal interest</a:t>
            </a:r>
            <a:endParaRPr b="0" lang="en-US" sz="1600" spc="-1" strike="noStrike">
              <a:solidFill>
                <a:srgbClr val="000000"/>
              </a:solidFill>
              <a:latin typeface="Times New Roman"/>
            </a:endParaRPr>
          </a:p>
        </p:txBody>
      </p:sp>
      <p:pic>
        <p:nvPicPr>
          <p:cNvPr id="353" name="" descr=""/>
          <p:cNvPicPr/>
          <p:nvPr/>
        </p:nvPicPr>
        <p:blipFill>
          <a:blip r:embed="rId4"/>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lageplan-für-navigation" descr=""/>
          <p:cNvPicPr/>
          <p:nvPr/>
        </p:nvPicPr>
        <p:blipFill>
          <a:blip r:embed="rId1"/>
          <a:stretch/>
        </p:blipFill>
        <p:spPr>
          <a:xfrm>
            <a:off x="571680" y="1828800"/>
            <a:ext cx="8353080" cy="4141800"/>
          </a:xfrm>
          <a:prstGeom prst="rect">
            <a:avLst/>
          </a:prstGeom>
          <a:ln w="0">
            <a:noFill/>
          </a:ln>
        </p:spPr>
      </p:pic>
      <p:pic>
        <p:nvPicPr>
          <p:cNvPr id="355" name="" descr=""/>
          <p:cNvPicPr/>
          <p:nvPr/>
        </p:nvPicPr>
        <p:blipFill>
          <a:blip r:embed="rId2"/>
          <a:stretch/>
        </p:blipFill>
        <p:spPr>
          <a:xfrm>
            <a:off x="781200" y="895320"/>
            <a:ext cx="2342880" cy="1225440"/>
          </a:xfrm>
          <a:prstGeom prst="rect">
            <a:avLst/>
          </a:prstGeom>
          <a:ln w="0">
            <a:noFill/>
          </a:ln>
        </p:spPr>
      </p:pic>
      <p:sp>
        <p:nvSpPr>
          <p:cNvPr id="356"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Example of an </a:t>
            </a:r>
            <a:r>
              <a:rPr b="1" lang="en-US" sz="3300" spc="-1" strike="noStrike">
                <a:solidFill>
                  <a:srgbClr val="000000"/>
                </a:solidFill>
                <a:latin typeface="Arial"/>
              </a:rPr>
              <a:t>interactive, annotated</a:t>
            </a:r>
            <a:r>
              <a:rPr b="0" lang="en-US" sz="2700" spc="-1" strike="noStrike">
                <a:solidFill>
                  <a:srgbClr val="000000"/>
                </a:solidFill>
                <a:latin typeface="Arial"/>
              </a:rPr>
              <a:t> </a:t>
            </a:r>
            <a:r>
              <a:rPr b="1" lang="en-US" sz="3300" spc="-1" strike="noStrike">
                <a:solidFill>
                  <a:srgbClr val="00a886"/>
                </a:solidFill>
                <a:latin typeface="Arial"/>
              </a:rPr>
              <a:t>exhibition center</a:t>
            </a:r>
            <a:endParaRPr b="1" lang="en-US" sz="3300" spc="-1" strike="noStrike">
              <a:solidFill>
                <a:srgbClr val="00a886"/>
              </a:solidFill>
              <a:latin typeface="Arial"/>
            </a:endParaRPr>
          </a:p>
        </p:txBody>
      </p:sp>
      <p:sp>
        <p:nvSpPr>
          <p:cNvPr id="357" name=""/>
          <p:cNvSpPr/>
          <p:nvPr/>
        </p:nvSpPr>
        <p:spPr>
          <a:xfrm>
            <a:off x="35812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5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354348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Frutiger 45 Light"/>
              </a:rPr>
              <a:t>Example: Informations on the </a:t>
            </a:r>
            <a:r>
              <a:rPr b="1" lang="de-DE" sz="3300" spc="-1" strike="noStrike">
                <a:solidFill>
                  <a:srgbClr val="000000"/>
                </a:solidFill>
                <a:latin typeface="Frutiger 45 Light"/>
              </a:rPr>
              <a:t>mobile device</a:t>
            </a:r>
            <a:endParaRPr b="1" lang="en-US" sz="3300" spc="-1" strike="noStrike">
              <a:solidFill>
                <a:srgbClr val="00a886"/>
              </a:solidFill>
              <a:latin typeface="Arial"/>
            </a:endParaRPr>
          </a:p>
        </p:txBody>
      </p:sp>
      <p:sp>
        <p:nvSpPr>
          <p:cNvPr id="36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363" name="Messeinfo1" descr=""/>
          <p:cNvPicPr/>
          <p:nvPr/>
        </p:nvPicPr>
        <p:blipFill>
          <a:blip r:embed="rId1"/>
          <a:stretch/>
        </p:blipFill>
        <p:spPr>
          <a:xfrm>
            <a:off x="1009800" y="966960"/>
            <a:ext cx="3095640" cy="4646520"/>
          </a:xfrm>
          <a:prstGeom prst="rect">
            <a:avLst/>
          </a:prstGeom>
          <a:ln w="0">
            <a:noFill/>
          </a:ln>
        </p:spPr>
      </p:pic>
      <p:pic>
        <p:nvPicPr>
          <p:cNvPr id="364" name="Aussteller2" descr=""/>
          <p:cNvPicPr/>
          <p:nvPr/>
        </p:nvPicPr>
        <p:blipFill>
          <a:blip r:embed="rId2"/>
          <a:stretch/>
        </p:blipFill>
        <p:spPr>
          <a:xfrm>
            <a:off x="5175360" y="966960"/>
            <a:ext cx="3095640" cy="4646520"/>
          </a:xfrm>
          <a:prstGeom prst="rect">
            <a:avLst/>
          </a:prstGeom>
          <a:ln w="0">
            <a:noFill/>
          </a:ln>
        </p:spPr>
      </p:pic>
      <p:pic>
        <p:nvPicPr>
          <p:cNvPr id="365"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Karte21" descr=""/>
          <p:cNvPicPr/>
          <p:nvPr/>
        </p:nvPicPr>
        <p:blipFill>
          <a:blip r:embed="rId1"/>
          <a:stretch/>
        </p:blipFill>
        <p:spPr>
          <a:xfrm>
            <a:off x="4859280" y="847800"/>
            <a:ext cx="2979720" cy="4473360"/>
          </a:xfrm>
          <a:prstGeom prst="rect">
            <a:avLst/>
          </a:prstGeom>
          <a:ln w="0">
            <a:noFill/>
          </a:ln>
        </p:spPr>
      </p:pic>
      <p:pic>
        <p:nvPicPr>
          <p:cNvPr id="367" name="Karte20" descr=""/>
          <p:cNvPicPr/>
          <p:nvPr/>
        </p:nvPicPr>
        <p:blipFill>
          <a:blip r:embed="rId2"/>
          <a:stretch/>
        </p:blipFill>
        <p:spPr>
          <a:xfrm>
            <a:off x="1252440" y="847800"/>
            <a:ext cx="2979720" cy="4473360"/>
          </a:xfrm>
          <a:prstGeom prst="rect">
            <a:avLst/>
          </a:prstGeom>
          <a:ln w="0">
            <a:noFill/>
          </a:ln>
        </p:spPr>
      </p:pic>
      <p:sp>
        <p:nvSpPr>
          <p:cNvPr id="36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Frutiger 45 Light"/>
              </a:rPr>
              <a:t>Example: Maps on the </a:t>
            </a:r>
            <a:r>
              <a:rPr b="1" lang="de-DE" sz="3300" spc="-1" strike="noStrike">
                <a:solidFill>
                  <a:srgbClr val="000000"/>
                </a:solidFill>
                <a:latin typeface="Frutiger 45 Light"/>
              </a:rPr>
              <a:t>mobile device</a:t>
            </a:r>
            <a:endParaRPr b="1" lang="en-US" sz="3300" spc="-1" strike="noStrike">
              <a:solidFill>
                <a:srgbClr val="00a886"/>
              </a:solidFill>
              <a:latin typeface="Arial"/>
            </a:endParaRPr>
          </a:p>
        </p:txBody>
      </p:sp>
      <p:pic>
        <p:nvPicPr>
          <p:cNvPr id="369" name="" descr=""/>
          <p:cNvPicPr/>
          <p:nvPr/>
        </p:nvPicPr>
        <p:blipFill>
          <a:blip r:embed="rId3"/>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304920"/>
            <a:ext cx="7758000" cy="37440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Performance features: </a:t>
            </a:r>
            <a:r>
              <a:rPr b="1" lang="en-US" sz="3300" spc="-1" strike="noStrike">
                <a:solidFill>
                  <a:srgbClr val="000000"/>
                </a:solidFill>
                <a:latin typeface="Arial"/>
              </a:rPr>
              <a:t>situation-adapted services</a:t>
            </a:r>
            <a:r>
              <a:rPr b="0" lang="en-US" sz="2700" spc="-1" strike="noStrike">
                <a:solidFill>
                  <a:srgbClr val="000000"/>
                </a:solidFill>
                <a:latin typeface="Arial"/>
              </a:rPr>
              <a:t> </a:t>
            </a:r>
            <a:endParaRPr b="1" lang="en-US" sz="2700" spc="-1" strike="noStrike">
              <a:solidFill>
                <a:srgbClr val="00a886"/>
              </a:solidFill>
              <a:latin typeface="Arial"/>
            </a:endParaRPr>
          </a:p>
        </p:txBody>
      </p:sp>
      <p:grpSp>
        <p:nvGrpSpPr>
          <p:cNvPr id="371" name=""/>
          <p:cNvGrpSpPr/>
          <p:nvPr/>
        </p:nvGrpSpPr>
        <p:grpSpPr>
          <a:xfrm>
            <a:off x="762120" y="838080"/>
            <a:ext cx="8381880" cy="4670280"/>
            <a:chOff x="762120" y="838080"/>
            <a:chExt cx="8381880" cy="4670280"/>
          </a:xfrm>
        </p:grpSpPr>
        <p:pic>
          <p:nvPicPr>
            <p:cNvPr id="372" name="" descr=""/>
            <p:cNvPicPr/>
            <p:nvPr/>
          </p:nvPicPr>
          <p:blipFill>
            <a:blip r:embed="rId1"/>
            <a:stretch/>
          </p:blipFill>
          <p:spPr>
            <a:xfrm>
              <a:off x="762120" y="2286000"/>
              <a:ext cx="3512880" cy="1838160"/>
            </a:xfrm>
            <a:prstGeom prst="rect">
              <a:avLst/>
            </a:prstGeom>
            <a:ln w="0">
              <a:noFill/>
            </a:ln>
          </p:spPr>
        </p:pic>
        <p:sp>
          <p:nvSpPr>
            <p:cNvPr id="373" name=""/>
            <p:cNvSpPr/>
            <p:nvPr/>
          </p:nvSpPr>
          <p:spPr>
            <a:xfrm>
              <a:off x="5715000" y="838080"/>
              <a:ext cx="3429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personalised</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ndividualized tips and tours</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4" name=""/>
            <p:cNvSpPr/>
            <p:nvPr/>
          </p:nvSpPr>
          <p:spPr>
            <a:xfrm>
              <a:off x="5715000" y="18288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interest-driven</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active information selection</a:t>
              </a:r>
              <a:endParaRPr b="0" lang="en-US" sz="1600" spc="-1" strike="noStrike">
                <a:solidFill>
                  <a:srgbClr val="000000"/>
                </a:solidFill>
                <a:latin typeface="Times New Roman"/>
              </a:endParaRPr>
            </a:p>
          </p:txBody>
        </p:sp>
        <p:sp>
          <p:nvSpPr>
            <p:cNvPr id="375" name=""/>
            <p:cNvSpPr/>
            <p:nvPr/>
          </p:nvSpPr>
          <p:spPr>
            <a:xfrm>
              <a:off x="5715000" y="2819160"/>
              <a:ext cx="3195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location-sensitive</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quick guidance and overview</a:t>
              </a:r>
              <a:endParaRPr b="0" lang="en-US" sz="1600" spc="-1" strike="noStrike">
                <a:solidFill>
                  <a:srgbClr val="000000"/>
                </a:solidFill>
                <a:latin typeface="Times New Roman"/>
              </a:endParaRPr>
            </a:p>
          </p:txBody>
        </p:sp>
        <p:sp>
          <p:nvSpPr>
            <p:cNvPr id="376" name=""/>
            <p:cNvSpPr/>
            <p:nvPr/>
          </p:nvSpPr>
          <p:spPr>
            <a:xfrm>
              <a:off x="5715000" y="3809880"/>
              <a:ext cx="30654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course-support</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general process support</a:t>
              </a:r>
              <a:endParaRPr b="0" lang="en-US" sz="1600" spc="-1" strike="noStrike">
                <a:solidFill>
                  <a:srgbClr val="000000"/>
                </a:solidFill>
                <a:latin typeface="Times New Roman"/>
              </a:endParaRPr>
            </a:p>
          </p:txBody>
        </p:sp>
        <p:sp>
          <p:nvSpPr>
            <p:cNvPr id="377" name=""/>
            <p:cNvSpPr/>
            <p:nvPr/>
          </p:nvSpPr>
          <p:spPr>
            <a:xfrm>
              <a:off x="5715000" y="4800600"/>
              <a:ext cx="342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device-independent</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tabLst>
                  <a:tab algn="l" pos="0"/>
                  <a:tab algn="l" pos="171144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optimal presentation on device</a:t>
              </a:r>
              <a:endParaRPr b="0" lang="en-US" sz="1600" spc="-1" strike="noStrike">
                <a:solidFill>
                  <a:srgbClr val="000000"/>
                </a:solidFill>
                <a:latin typeface="Times New Roman"/>
              </a:endParaRPr>
            </a:p>
          </p:txBody>
        </p:sp>
        <p:sp>
          <p:nvSpPr>
            <p:cNvPr id="378" name=""/>
            <p:cNvSpPr/>
            <p:nvPr/>
          </p:nvSpPr>
          <p:spPr>
            <a:xfrm flipV="1">
              <a:off x="3733920" y="2133360"/>
              <a:ext cx="1981080" cy="457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3076560" y="1144080"/>
              <a:ext cx="2611440" cy="120492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762360" y="3738600"/>
              <a:ext cx="1952640" cy="3762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219480" y="3935160"/>
              <a:ext cx="2495520" cy="117000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686560" y="1143000"/>
              <a:ext cx="23144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715000" y="21333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086360" y="3124080"/>
              <a:ext cx="391464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715000" y="411480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715000" y="5105160"/>
              <a:ext cx="2286000" cy="0"/>
            </a:xfrm>
            <a:prstGeom prst="line">
              <a:avLst/>
            </a:prstGeom>
            <a:ln w="28440">
              <a:solidFill>
                <a:srgbClr val="feb53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87" name="" descr=""/>
          <p:cNvPicPr/>
          <p:nvPr/>
        </p:nvPicPr>
        <p:blipFill>
          <a:blip r:embed="rId2"/>
          <a:stretch/>
        </p:blipFill>
        <p:spPr>
          <a:xfrm>
            <a:off x="711360" y="5732640"/>
            <a:ext cx="1374480" cy="71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ailorability</a:t>
            </a:r>
            <a:endParaRPr b="1" lang="en-US" sz="3300" spc="-1" strike="noStrike">
              <a:solidFill>
                <a:srgbClr val="00a886"/>
              </a:solidFill>
              <a:latin typeface="Arial"/>
            </a:endParaRPr>
          </a:p>
        </p:txBody>
      </p:sp>
      <p:sp>
        <p:nvSpPr>
          <p:cNvPr id="50" name="PlaceHolder 2"/>
          <p:cNvSpPr>
            <a:spLocks noGrp="1"/>
          </p:cNvSpPr>
          <p:nvPr>
            <p:ph/>
          </p:nvPr>
        </p:nvSpPr>
        <p:spPr>
          <a:xfrm>
            <a:off x="761760" y="1308240"/>
            <a:ext cx="8202600" cy="4114800"/>
          </a:xfrm>
          <a:prstGeom prst="rect">
            <a:avLst/>
          </a:prstGeom>
          <a:noFill/>
          <a:ln w="0">
            <a:noFill/>
          </a:ln>
        </p:spPr>
        <p:txBody>
          <a:bodyPr lIns="90360" rIns="90360" tIns="44280" bIns="44280" anchor="t">
            <a:normAutofit fontScale="87000"/>
          </a:bodyPr>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 of application are differentiated and dynamically changing</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sk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qualification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context</a:t>
            </a:r>
            <a:endParaRPr b="0" lang="en-US" sz="2000" spc="-1" strike="noStrike">
              <a:solidFill>
                <a:srgbClr val="000000"/>
              </a:solidFill>
              <a:latin typeface="Arial"/>
            </a:endParaRPr>
          </a:p>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lorability is defined</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aspects of an application‘s functionality</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ersistent way (by means of tailored artefacts) </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use of an application (at runtime)</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users or local experts</a:t>
            </a:r>
            <a:endParaRPr b="0" lang="en-US" sz="2000" spc="-1" strike="noStrike">
              <a:solidFill>
                <a:srgbClr val="000000"/>
              </a:solidFill>
              <a:latin typeface="Arial"/>
            </a:endParaRPr>
          </a:p>
          <a:p>
            <a:pPr marL="298440" indent="-2984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flexibility beyond </a:t>
            </a:r>
            <a:endParaRPr b="0" lang="en-US" sz="24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of parameters</a:t>
            </a:r>
            <a:endParaRPr b="0" lang="en-US" sz="2000" spc="-1" strike="noStrike">
              <a:solidFill>
                <a:srgbClr val="000000"/>
              </a:solidFill>
              <a:latin typeface="Arial"/>
            </a:endParaRPr>
          </a:p>
          <a:p>
            <a:pPr lvl="1" marL="712440" indent="-248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gram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Situation awareness and Context</a:t>
            </a:r>
            <a:endParaRPr b="1" lang="en-US" sz="3300" spc="-1" strike="noStrike">
              <a:solidFill>
                <a:srgbClr val="00a886"/>
              </a:solidFill>
              <a:latin typeface="Arial"/>
            </a:endParaRPr>
          </a:p>
        </p:txBody>
      </p:sp>
      <p:sp>
        <p:nvSpPr>
          <p:cNvPr id="389" name="PlaceHolder 2"/>
          <p:cNvSpPr>
            <a:spLocks noGrp="1"/>
          </p:cNvSpPr>
          <p:nvPr>
            <p:ph/>
          </p:nvPr>
        </p:nvSpPr>
        <p:spPr>
          <a:xfrm>
            <a:off x="582120" y="878040"/>
            <a:ext cx="8062920" cy="48211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text modeling is useful to reduce information overload and to adapt content and interaction</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should be taken into account? </a:t>
            </a:r>
            <a:endParaRPr b="0" lang="en-US" sz="24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imitation of the system (boundaries of context (Lieberman &amp; Selker; 2002) / purpose of system)</a:t>
            </a:r>
            <a:endParaRPr b="0" lang="en-US" sz="19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phor</a:t>
            </a:r>
            <a:endParaRPr b="0" lang="en-US" sz="18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ocatio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Task</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ocial situatio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Physical environment</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istory (of interaction/ of tasks/ knowledge)</a:t>
            </a:r>
            <a:endParaRPr b="0" lang="en-US" sz="19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ser and system adapt to each other to share a common cont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06760" y="228240"/>
            <a:ext cx="54086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Research Challenges (1)</a:t>
            </a:r>
            <a:endParaRPr b="1" lang="en-US" sz="3300" spc="-1" strike="noStrike">
              <a:solidFill>
                <a:srgbClr val="00a886"/>
              </a:solidFill>
              <a:latin typeface="Arial"/>
            </a:endParaRPr>
          </a:p>
        </p:txBody>
      </p:sp>
      <p:sp>
        <p:nvSpPr>
          <p:cNvPr id="52" name="PlaceHolder 2"/>
          <p:cNvSpPr>
            <a:spLocks noGrp="1"/>
          </p:cNvSpPr>
          <p:nvPr>
            <p:ph/>
          </p:nvPr>
        </p:nvSpPr>
        <p:spPr>
          <a:xfrm>
            <a:off x="685800" y="1816200"/>
            <a:ext cx="7772400" cy="4114800"/>
          </a:xfrm>
          <a:prstGeom prst="rect">
            <a:avLst/>
          </a:prstGeom>
          <a:noFill/>
          <a:ln w="0">
            <a:noFill/>
          </a:ln>
        </p:spPr>
        <p:txBody>
          <a:bodyPr lIns="90360" rIns="90360" tIns="44280" bIns="44280" anchor="t">
            <a:normAutofit fontScale="98000"/>
          </a:bodyPr>
          <a:p>
            <a:pPr marL="335880" indent="-335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exible Architectur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ule based architectu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onent based architectures (simple and compound components)</a:t>
            </a:r>
            <a:endParaRPr b="0" lang="en-US" sz="2000" spc="-1" strike="noStrike">
              <a:solidFill>
                <a:srgbClr val="000000"/>
              </a:solidFill>
              <a:latin typeface="Arial"/>
            </a:endParaRPr>
          </a:p>
          <a:p>
            <a:pPr marL="335880" indent="-3358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ppropriate Interf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zualizing and manipulating tailored artefacts: 2D and 3D Interfac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scribing tailored artefacts: Annotations, attaching examp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erstanding tailored artefacts: Exploration Environ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viding support for tailoring: Integrity checking</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essing tailoring functions: Direct Acti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Research Challenges (2)</a:t>
            </a:r>
            <a:endParaRPr b="1" lang="en-US" sz="3300" spc="-1" strike="noStrike">
              <a:solidFill>
                <a:srgbClr val="00a88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llaborative Tailo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cal infrastructure: Shared reposi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nding tailored artifacts: Naming and classif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izing tailored artifacts: Access rights and vie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ality insurance of tailored artifacts: Identifying creators, (Collective) histories of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3300" spc="-1" strike="noStrike">
                <a:solidFill>
                  <a:srgbClr val="00a886"/>
                </a:solidFill>
                <a:latin typeface="Arial"/>
              </a:rPr>
              <a:t>Tailorability: Flexible Architectures</a:t>
            </a:r>
            <a:endParaRPr b="1" lang="en-US" sz="3300" spc="-1" strike="noStrike">
              <a:solidFill>
                <a:srgbClr val="00a886"/>
              </a:solidFill>
              <a:latin typeface="Arial"/>
            </a:endParaRPr>
          </a:p>
        </p:txBody>
      </p:sp>
      <p:sp>
        <p:nvSpPr>
          <p:cNvPr id="56" name="PlaceHolder 2"/>
          <p:cNvSpPr>
            <a:spLocks noGrp="1"/>
          </p:cNvSpPr>
          <p:nvPr>
            <p:ph/>
          </p:nvPr>
        </p:nvSpPr>
        <p:spPr>
          <a:xfrm>
            <a:off x="685800" y="2577960"/>
            <a:ext cx="7772400" cy="1936800"/>
          </a:xfrm>
          <a:prstGeom prst="rect">
            <a:avLst/>
          </a:prstGeom>
          <a:noFill/>
          <a:ln w="0">
            <a:noFill/>
          </a:ln>
        </p:spPr>
        <p:txBody>
          <a:bodyPr lIns="90360" rIns="90360" tIns="44280" bIns="44280" anchor="t">
            <a:normAutofit fontScale="96000"/>
          </a:bodyPr>
          <a:p>
            <a:pPr marL="329040" indent="-3290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 based architectures</a:t>
            </a:r>
            <a:endParaRPr b="0" lang="en-US" sz="2400" spc="-1" strike="noStrike">
              <a:solidFill>
                <a:srgbClr val="000000"/>
              </a:solidFill>
              <a:latin typeface="Arial"/>
            </a:endParaRPr>
          </a:p>
          <a:p>
            <a:pPr marL="329040" indent="-3290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onent based architectures</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fferent tailoring mod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ple and Compound Components</a:t>
            </a:r>
            <a:endParaRPr b="0" lang="en-US" sz="2000" spc="-1" strike="noStrike">
              <a:solidFill>
                <a:srgbClr val="000000"/>
              </a:solidFill>
              <a:latin typeface="Arial"/>
            </a:endParaRPr>
          </a:p>
        </p:txBody>
      </p:sp>
      <p:sp>
        <p:nvSpPr>
          <p:cNvPr id="57" name=""/>
          <p:cNvSpPr/>
          <p:nvPr/>
        </p:nvSpPr>
        <p:spPr>
          <a:xfrm flipV="1">
            <a:off x="0" y="3274560"/>
            <a:ext cx="728640" cy="4680"/>
          </a:xfrm>
          <a:prstGeom prst="line">
            <a:avLst/>
          </a:prstGeom>
          <a:ln w="38160">
            <a:solidFill>
              <a:srgbClr val="00a886"/>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05160" y="228240"/>
            <a:ext cx="561024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Component-Based Architectures </a:t>
            </a:r>
            <a:endParaRPr b="1" lang="en-US" sz="3300" spc="-1" strike="noStrike">
              <a:solidFill>
                <a:srgbClr val="00a886"/>
              </a:solidFill>
              <a:latin typeface="Arial"/>
            </a:endParaRPr>
          </a:p>
        </p:txBody>
      </p:sp>
      <p:sp>
        <p:nvSpPr>
          <p:cNvPr id="59" name="PlaceHolder 2"/>
          <p:cNvSpPr>
            <a:spLocks noGrp="1"/>
          </p:cNvSpPr>
          <p:nvPr>
            <p:ph/>
          </p:nvPr>
        </p:nvSpPr>
        <p:spPr>
          <a:xfrm>
            <a:off x="380880" y="1218960"/>
            <a:ext cx="8382240" cy="1447560"/>
          </a:xfrm>
          <a:prstGeom prst="rect">
            <a:avLst/>
          </a:prstGeom>
          <a:noFill/>
          <a:ln w="0">
            <a:noFill/>
          </a:ln>
        </p:spPr>
        <p:txBody>
          <a:bodyPr lIns="90360" rIns="90360" tIns="44280" bIns="44280" anchor="t">
            <a:normAutofit fontScale="99000"/>
          </a:bodyPr>
          <a:p>
            <a:pPr marL="339480" indent="-3394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components</a:t>
            </a:r>
            <a:endParaRPr b="0" lang="en-US" sz="24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developed parts of software</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exchangeable</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mponents interact as one application or system</a:t>
            </a:r>
            <a:endParaRPr b="0" lang="en-US" sz="1800" spc="-1" strike="noStrike">
              <a:solidFill>
                <a:srgbClr val="000000"/>
              </a:solidFill>
              <a:latin typeface="Arial"/>
            </a:endParaRPr>
          </a:p>
        </p:txBody>
      </p:sp>
      <p:grpSp>
        <p:nvGrpSpPr>
          <p:cNvPr id="60" name=""/>
          <p:cNvGrpSpPr/>
          <p:nvPr/>
        </p:nvGrpSpPr>
        <p:grpSpPr>
          <a:xfrm>
            <a:off x="0" y="2819520"/>
            <a:ext cx="9220320" cy="3354840"/>
            <a:chOff x="0" y="2819520"/>
            <a:chExt cx="9220320" cy="3354840"/>
          </a:xfrm>
        </p:grpSpPr>
        <p:sp>
          <p:nvSpPr>
            <p:cNvPr id="61" name=""/>
            <p:cNvSpPr/>
            <p:nvPr/>
          </p:nvSpPr>
          <p:spPr>
            <a:xfrm>
              <a:off x="1676520" y="2819520"/>
              <a:ext cx="5638680" cy="320040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59280" y="3184560"/>
              <a:ext cx="20304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0120" y="3048120"/>
              <a:ext cx="254160" cy="3045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59280" y="4602240"/>
              <a:ext cx="20304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3184200">
              <a:off x="2646720" y="4529880"/>
              <a:ext cx="219240" cy="25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38840" y="3535200"/>
              <a:ext cx="241200" cy="244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83080" y="3002040"/>
              <a:ext cx="24156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64320" y="327672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267440" y="3246480"/>
              <a:ext cx="3045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02200" y="487692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407120" y="447984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788000" y="472428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0" y="4724280"/>
              <a:ext cx="22860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80200" y="3809880"/>
              <a:ext cx="228600" cy="152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02560" y="3543480"/>
              <a:ext cx="514080" cy="114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6" name=""/>
            <p:cNvSpPr/>
            <p:nvPr/>
          </p:nvSpPr>
          <p:spPr>
            <a:xfrm rot="3184200">
              <a:off x="6203520" y="4082760"/>
              <a:ext cx="163440" cy="227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9040" y="2971800"/>
              <a:ext cx="1523880" cy="15238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778720" y="5013360"/>
              <a:ext cx="241200" cy="244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16800" y="5013360"/>
              <a:ext cx="241200" cy="24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023160" y="4632120"/>
              <a:ext cx="18108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flipV="1">
              <a:off x="6632280" y="4632120"/>
              <a:ext cx="18108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24240" y="5334120"/>
              <a:ext cx="22096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the set of components within a composition</a:t>
              </a:r>
              <a:endParaRPr b="0" lang="en-US" sz="1300" spc="-1" strike="noStrike">
                <a:solidFill>
                  <a:srgbClr val="000000"/>
                </a:solidFill>
                <a:latin typeface="Times New Roman"/>
              </a:endParaRPr>
            </a:p>
          </p:txBody>
        </p:sp>
        <p:sp>
          <p:nvSpPr>
            <p:cNvPr id="83" name=""/>
            <p:cNvSpPr/>
            <p:nvPr/>
          </p:nvSpPr>
          <p:spPr>
            <a:xfrm>
              <a:off x="3657600" y="5334120"/>
              <a:ext cx="190512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the connections between components</a:t>
              </a:r>
              <a:endParaRPr b="0" lang="en-US" sz="1300" spc="-1" strike="noStrike">
                <a:solidFill>
                  <a:srgbClr val="000000"/>
                </a:solidFill>
                <a:latin typeface="Times New Roman"/>
              </a:endParaRPr>
            </a:p>
          </p:txBody>
        </p:sp>
        <p:sp>
          <p:nvSpPr>
            <p:cNvPr id="84" name=""/>
            <p:cNvSpPr/>
            <p:nvPr/>
          </p:nvSpPr>
          <p:spPr>
            <a:xfrm>
              <a:off x="5334120" y="533412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ding new components to the existing set</a:t>
              </a:r>
              <a:endParaRPr b="0" lang="en-US" sz="1300" spc="-1" strike="noStrike">
                <a:solidFill>
                  <a:srgbClr val="000000"/>
                </a:solidFill>
                <a:latin typeface="Times New Roman"/>
              </a:endParaRPr>
            </a:p>
          </p:txBody>
        </p:sp>
        <p:sp>
          <p:nvSpPr>
            <p:cNvPr id="85" name=""/>
            <p:cNvSpPr/>
            <p:nvPr/>
          </p:nvSpPr>
          <p:spPr>
            <a:xfrm flipV="1">
              <a:off x="2665440" y="3657240"/>
              <a:ext cx="180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572000" y="4038120"/>
              <a:ext cx="1800" cy="182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72200" y="3200400"/>
              <a:ext cx="45720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29400" y="4000680"/>
              <a:ext cx="171720" cy="266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67640" y="3924360"/>
              <a:ext cx="114120" cy="266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057400" y="434340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7240" y="487692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2" name=""/>
            <p:cNvSpPr/>
            <p:nvPr/>
          </p:nvSpPr>
          <p:spPr>
            <a:xfrm>
              <a:off x="2057400" y="289548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41680" y="3429000"/>
              <a:ext cx="558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4" name=""/>
            <p:cNvSpPr/>
            <p:nvPr/>
          </p:nvSpPr>
          <p:spPr>
            <a:xfrm>
              <a:off x="3962520" y="2895480"/>
              <a:ext cx="1295280" cy="103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48320" y="3733920"/>
              <a:ext cx="609480" cy="19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6" name=""/>
            <p:cNvSpPr/>
            <p:nvPr/>
          </p:nvSpPr>
          <p:spPr>
            <a:xfrm>
              <a:off x="3962520" y="43434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50292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 App</a:t>
              </a:r>
              <a:endParaRPr b="0" lang="en-US" sz="1200" spc="-1" strike="noStrike">
                <a:solidFill>
                  <a:srgbClr val="000000"/>
                </a:solidFill>
                <a:latin typeface="Times New Roman"/>
              </a:endParaRPr>
            </a:p>
          </p:txBody>
        </p:sp>
        <p:sp>
          <p:nvSpPr>
            <p:cNvPr id="98" name=""/>
            <p:cNvSpPr/>
            <p:nvPr/>
          </p:nvSpPr>
          <p:spPr>
            <a:xfrm>
              <a:off x="685800" y="3124080"/>
              <a:ext cx="381240" cy="381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572000"/>
              <a:ext cx="381240" cy="38088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914400" y="3657240"/>
              <a:ext cx="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01000" y="4572000"/>
              <a:ext cx="381240" cy="38088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8229600" y="3657240"/>
              <a:ext cx="0" cy="609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5486400"/>
              <a:ext cx="17528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Parameters</a:t>
              </a:r>
              <a:br>
                <a:rPr sz="1300"/>
              </a:br>
              <a:endParaRPr b="0" lang="en-US" sz="1300" spc="-1" strike="noStrike">
                <a:solidFill>
                  <a:srgbClr val="000000"/>
                </a:solidFill>
                <a:latin typeface="Times New Roman"/>
              </a:endParaRPr>
            </a:p>
          </p:txBody>
        </p:sp>
        <p:sp>
          <p:nvSpPr>
            <p:cNvPr id="104" name=""/>
            <p:cNvSpPr/>
            <p:nvPr/>
          </p:nvSpPr>
          <p:spPr>
            <a:xfrm>
              <a:off x="7162920" y="533412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programming a component‘s functionality</a:t>
              </a:r>
              <a:endParaRPr b="0" lang="en-US" sz="1300" spc="-1" strike="noStrike">
                <a:solidFill>
                  <a:srgbClr val="000000"/>
                </a:solidFill>
                <a:latin typeface="Times New Roman"/>
              </a:endParaRPr>
            </a:p>
          </p:txBody>
        </p:sp>
        <p:sp>
          <p:nvSpPr>
            <p:cNvPr id="105" name=""/>
            <p:cNvSpPr/>
            <p:nvPr/>
          </p:nvSpPr>
          <p:spPr>
            <a:xfrm>
              <a:off x="8001000" y="3032280"/>
              <a:ext cx="381240" cy="396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18920" y="228240"/>
            <a:ext cx="7296120" cy="762120"/>
          </a:xfrm>
          <a:prstGeom prst="rect">
            <a:avLst/>
          </a:prstGeom>
          <a:noFill/>
          <a:ln w="0">
            <a:noFill/>
          </a:ln>
        </p:spPr>
        <p:txBody>
          <a:bodyPr lIns="96840" rIns="96840" tIns="47520" bIns="47520" anchor="ctr">
            <a:noAutofit/>
          </a:bodyPr>
          <a:p>
            <a:pPr indent="0" algn="r">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3300" spc="-1" strike="noStrike">
                <a:solidFill>
                  <a:srgbClr val="00a886"/>
                </a:solidFill>
                <a:latin typeface="Arial"/>
              </a:rPr>
              <a:t>The </a:t>
            </a:r>
            <a:r>
              <a:rPr b="1" lang="de-DE" sz="3300" spc="-1" strike="noStrike">
                <a:solidFill>
                  <a:srgbClr val="00a886"/>
                </a:solidFill>
                <a:latin typeface="Arial"/>
              </a:rPr>
              <a:t>F</a:t>
            </a:r>
            <a:r>
              <a:rPr b="1" lang="de-DE" sz="2500" spc="-1" strike="noStrike">
                <a:solidFill>
                  <a:srgbClr val="00a886"/>
                </a:solidFill>
                <a:latin typeface="Arial"/>
              </a:rPr>
              <a:t>RE</a:t>
            </a:r>
            <a:r>
              <a:rPr b="1" lang="de-DE" sz="3300" spc="-1" strike="noStrike">
                <a:solidFill>
                  <a:srgbClr val="00a886"/>
                </a:solidFill>
                <a:latin typeface="Arial"/>
              </a:rPr>
              <a:t>E</a:t>
            </a:r>
            <a:r>
              <a:rPr b="1" lang="de-DE" sz="2500" spc="-1" strike="noStrike">
                <a:solidFill>
                  <a:srgbClr val="00a886"/>
                </a:solidFill>
                <a:latin typeface="Arial"/>
              </a:rPr>
              <a:t>VOLVE</a:t>
            </a:r>
            <a:r>
              <a:rPr b="1" lang="en-US" sz="3300" spc="-1" strike="noStrike">
                <a:solidFill>
                  <a:srgbClr val="00a886"/>
                </a:solidFill>
                <a:latin typeface="Arial"/>
              </a:rPr>
              <a:t> Platform: An architectural overview (1)</a:t>
            </a:r>
            <a:endParaRPr b="1" lang="en-US" sz="3300" spc="-1" strike="noStrike">
              <a:solidFill>
                <a:srgbClr val="00a886"/>
              </a:solidFill>
              <a:latin typeface="Arial"/>
            </a:endParaRPr>
          </a:p>
        </p:txBody>
      </p:sp>
      <p:grpSp>
        <p:nvGrpSpPr>
          <p:cNvPr id="107" name=""/>
          <p:cNvGrpSpPr/>
          <p:nvPr/>
        </p:nvGrpSpPr>
        <p:grpSpPr>
          <a:xfrm>
            <a:off x="304920" y="2158920"/>
            <a:ext cx="8534160" cy="3733920"/>
            <a:chOff x="304920" y="2158920"/>
            <a:chExt cx="8534160" cy="3733920"/>
          </a:xfrm>
        </p:grpSpPr>
        <p:sp>
          <p:nvSpPr>
            <p:cNvPr id="108" name=""/>
            <p:cNvSpPr/>
            <p:nvPr/>
          </p:nvSpPr>
          <p:spPr>
            <a:xfrm>
              <a:off x="304920" y="2158920"/>
              <a:ext cx="3276360" cy="37339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09" name=""/>
            <p:cNvSpPr/>
            <p:nvPr/>
          </p:nvSpPr>
          <p:spPr>
            <a:xfrm>
              <a:off x="5562720" y="2158920"/>
              <a:ext cx="3276360" cy="373392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p:txBody>
        </p:sp>
      </p:grpSp>
      <p:grpSp>
        <p:nvGrpSpPr>
          <p:cNvPr id="110" name=""/>
          <p:cNvGrpSpPr/>
          <p:nvPr/>
        </p:nvGrpSpPr>
        <p:grpSpPr>
          <a:xfrm>
            <a:off x="469800" y="4368960"/>
            <a:ext cx="1371600" cy="1447560"/>
            <a:chOff x="469800" y="4368960"/>
            <a:chExt cx="1371600" cy="1447560"/>
          </a:xfrm>
        </p:grpSpPr>
        <p:sp>
          <p:nvSpPr>
            <p:cNvPr id="111" name=""/>
            <p:cNvSpPr/>
            <p:nvPr/>
          </p:nvSpPr>
          <p:spPr>
            <a:xfrm>
              <a:off x="469800" y="4368960"/>
              <a:ext cx="13716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lang="en-US" sz="1600" spc="-1" strike="noStrike">
                  <a:solidFill>
                    <a:srgbClr val="000000"/>
                  </a:solidFill>
                  <a:latin typeface="Arial"/>
                </a:rPr>
                <a:t>CAT-Files</a:t>
              </a:r>
              <a:endParaRPr b="0" lang="en-US" sz="1600" spc="-1" strike="noStrike">
                <a:solidFill>
                  <a:srgbClr val="000000"/>
                </a:solidFill>
                <a:latin typeface="Times New Roman"/>
              </a:endParaRPr>
            </a:p>
          </p:txBody>
        </p:sp>
        <p:sp>
          <p:nvSpPr>
            <p:cNvPr id="112" name=""/>
            <p:cNvSpPr/>
            <p:nvPr/>
          </p:nvSpPr>
          <p:spPr>
            <a:xfrm>
              <a:off x="622080" y="4444920"/>
              <a:ext cx="609480" cy="68544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Rdsdkj Sdd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Sd gghgh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Dsds Ds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Sdhjhjhjk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utura Lt BT"/>
                </a:rPr>
                <a:t>hgh</a:t>
              </a:r>
              <a:endParaRPr b="0" lang="en-US" sz="600" spc="-1" strike="noStrike">
                <a:solidFill>
                  <a:srgbClr val="000000"/>
                </a:solidFill>
                <a:latin typeface="Times New Roman"/>
              </a:endParaRPr>
            </a:p>
          </p:txBody>
        </p:sp>
      </p:grpSp>
      <p:grpSp>
        <p:nvGrpSpPr>
          <p:cNvPr id="113" name=""/>
          <p:cNvGrpSpPr/>
          <p:nvPr/>
        </p:nvGrpSpPr>
        <p:grpSpPr>
          <a:xfrm>
            <a:off x="2006640" y="4368960"/>
            <a:ext cx="1371600" cy="1447560"/>
            <a:chOff x="2006640" y="4368960"/>
            <a:chExt cx="1371600" cy="1447560"/>
          </a:xfrm>
        </p:grpSpPr>
        <p:sp>
          <p:nvSpPr>
            <p:cNvPr id="114" name=""/>
            <p:cNvSpPr/>
            <p:nvPr/>
          </p:nvSpPr>
          <p:spPr>
            <a:xfrm>
              <a:off x="2006640" y="4368960"/>
              <a:ext cx="13716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de-DE" sz="1600" spc="-1" strike="noStrike">
                  <a:solidFill>
                    <a:srgbClr val="000000"/>
                  </a:solidFill>
                  <a:latin typeface="Arial"/>
                </a:rPr>
                <a:t>Component </a:t>
              </a:r>
              <a:br>
                <a:rPr sz="1600"/>
              </a:br>
              <a:r>
                <a:rPr b="1" lang="de-DE" sz="1600" spc="-1" strike="noStrike">
                  <a:solidFill>
                    <a:srgbClr val="000000"/>
                  </a:solidFill>
                  <a:latin typeface="Arial"/>
                </a:rPr>
                <a:t>Repository</a:t>
              </a:r>
              <a:endParaRPr b="0" lang="en-US" sz="1600" spc="-1" strike="noStrike">
                <a:solidFill>
                  <a:srgbClr val="000000"/>
                </a:solidFill>
                <a:latin typeface="Times New Roman"/>
              </a:endParaRPr>
            </a:p>
          </p:txBody>
        </p:sp>
        <p:grpSp>
          <p:nvGrpSpPr>
            <p:cNvPr id="115" name=""/>
            <p:cNvGrpSpPr/>
            <p:nvPr/>
          </p:nvGrpSpPr>
          <p:grpSpPr>
            <a:xfrm>
              <a:off x="2387880" y="4444920"/>
              <a:ext cx="685440" cy="609120"/>
              <a:chOff x="2387880" y="4444920"/>
              <a:chExt cx="685440" cy="609120"/>
            </a:xfrm>
          </p:grpSpPr>
          <p:sp>
            <p:nvSpPr>
              <p:cNvPr id="116" name=""/>
              <p:cNvSpPr/>
              <p:nvPr/>
            </p:nvSpPr>
            <p:spPr>
              <a:xfrm>
                <a:off x="2428200" y="479304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29800" y="487980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49160" y="4662360"/>
                <a:ext cx="282240" cy="8676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9" name=""/>
              <p:cNvSpPr/>
              <p:nvPr/>
            </p:nvSpPr>
            <p:spPr>
              <a:xfrm>
                <a:off x="2831760" y="448812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70120" y="444492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50760" y="4923360"/>
                <a:ext cx="282240" cy="8676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2" name=""/>
              <p:cNvSpPr/>
              <p:nvPr/>
            </p:nvSpPr>
            <p:spPr>
              <a:xfrm>
                <a:off x="2387880" y="4618800"/>
                <a:ext cx="201600" cy="261000"/>
              </a:xfrm>
              <a:prstGeom prst="rect">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71720" y="4705920"/>
                <a:ext cx="201600" cy="173880"/>
              </a:xfrm>
              <a:prstGeom prst="ellipse">
                <a:avLst/>
              </a:prstGeom>
              <a:solidFill>
                <a:srgbClr val="ebeb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87880" y="4488120"/>
                <a:ext cx="282240" cy="87120"/>
              </a:xfrm>
              <a:prstGeom prst="ellipse">
                <a:avLst/>
              </a:prstGeom>
              <a:solidFill>
                <a:srgbClr val="ebebeb"/>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3573000" y="4413240"/>
            <a:ext cx="1909080" cy="677880"/>
            <a:chOff x="3573000" y="4413240"/>
            <a:chExt cx="1909080" cy="677880"/>
          </a:xfrm>
        </p:grpSpPr>
        <p:sp>
          <p:nvSpPr>
            <p:cNvPr id="126" name=""/>
            <p:cNvSpPr/>
            <p:nvPr/>
          </p:nvSpPr>
          <p:spPr>
            <a:xfrm>
              <a:off x="3645000" y="4784760"/>
              <a:ext cx="1828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573000" y="4413240"/>
              <a:ext cx="1909080" cy="67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File Names =</a:t>
              </a:r>
              <a:br>
                <a:rPr sz="1600"/>
              </a:br>
              <a:r>
                <a:rPr b="1" lang="de-DE" sz="1600" spc="-1" strike="noStrike">
                  <a:solidFill>
                    <a:srgbClr val="000000"/>
                  </a:solidFill>
                  <a:latin typeface="Arial"/>
                </a:rPr>
                <a:t>Applications</a:t>
              </a:r>
              <a:endParaRPr b="0" lang="en-US" sz="1600" spc="-1" strike="noStrike">
                <a:solidFill>
                  <a:srgbClr val="000000"/>
                </a:solidFill>
                <a:latin typeface="Times New Roman"/>
              </a:endParaRPr>
            </a:p>
          </p:txBody>
        </p:sp>
      </p:grpSp>
      <p:sp>
        <p:nvSpPr>
          <p:cNvPr id="128" name=""/>
          <p:cNvSpPr/>
          <p:nvPr/>
        </p:nvSpPr>
        <p:spPr>
          <a:xfrm>
            <a:off x="5715000" y="5207040"/>
            <a:ext cx="21337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791320" y="5283360"/>
            <a:ext cx="1981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st of Applications</a:t>
            </a:r>
            <a:endParaRPr b="0" lang="en-US" sz="1400" spc="-1" strike="noStrike">
              <a:solidFill>
                <a:srgbClr val="000000"/>
              </a:solidFill>
              <a:latin typeface="Times New Roman"/>
            </a:endParaRPr>
          </a:p>
        </p:txBody>
      </p:sp>
      <p:grpSp>
        <p:nvGrpSpPr>
          <p:cNvPr id="130" name=""/>
          <p:cNvGrpSpPr/>
          <p:nvPr/>
        </p:nvGrpSpPr>
        <p:grpSpPr>
          <a:xfrm>
            <a:off x="3561840" y="5187960"/>
            <a:ext cx="2093400" cy="629280"/>
            <a:chOff x="3561840" y="5187960"/>
            <a:chExt cx="2093400" cy="629280"/>
          </a:xfrm>
        </p:grpSpPr>
        <p:sp>
          <p:nvSpPr>
            <p:cNvPr id="131" name=""/>
            <p:cNvSpPr/>
            <p:nvPr/>
          </p:nvSpPr>
          <p:spPr>
            <a:xfrm>
              <a:off x="3632040" y="5519880"/>
              <a:ext cx="182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61840" y="5187960"/>
              <a:ext cx="2093400" cy="62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File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an for Application</a:t>
              </a:r>
              <a:endParaRPr b="0" lang="en-US" sz="1600" spc="-1" strike="noStrike">
                <a:solidFill>
                  <a:srgbClr val="000000"/>
                </a:solidFill>
                <a:latin typeface="Times New Roman"/>
              </a:endParaRPr>
            </a:p>
          </p:txBody>
        </p:sp>
      </p:grpSp>
      <p:grpSp>
        <p:nvGrpSpPr>
          <p:cNvPr id="133" name=""/>
          <p:cNvGrpSpPr/>
          <p:nvPr/>
        </p:nvGrpSpPr>
        <p:grpSpPr>
          <a:xfrm>
            <a:off x="609480" y="2692440"/>
            <a:ext cx="7848720" cy="1295280"/>
            <a:chOff x="609480" y="2692440"/>
            <a:chExt cx="7848720" cy="1295280"/>
          </a:xfrm>
        </p:grpSpPr>
        <p:sp>
          <p:nvSpPr>
            <p:cNvPr id="134" name=""/>
            <p:cNvSpPr/>
            <p:nvPr/>
          </p:nvSpPr>
          <p:spPr>
            <a:xfrm>
              <a:off x="609480" y="269244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Server)</a:t>
              </a:r>
              <a:endParaRPr b="0" lang="en-US" sz="1700" spc="-1" strike="noStrike">
                <a:solidFill>
                  <a:srgbClr val="000000"/>
                </a:solidFill>
                <a:latin typeface="Times New Roman"/>
              </a:endParaRPr>
            </a:p>
          </p:txBody>
        </p:sp>
        <p:sp>
          <p:nvSpPr>
            <p:cNvPr id="135" name=""/>
            <p:cNvSpPr/>
            <p:nvPr/>
          </p:nvSpPr>
          <p:spPr>
            <a:xfrm>
              <a:off x="5867280" y="2692440"/>
              <a:ext cx="2590920" cy="1295280"/>
            </a:xfrm>
            <a:prstGeom prst="rect">
              <a:avLst/>
            </a:prstGeom>
            <a:solidFill>
              <a:srgbClr val="9c9c9c"/>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un-Time (Client)</a:t>
              </a:r>
              <a:endParaRPr b="0" lang="en-US" sz="1700" spc="-1" strike="noStrike">
                <a:solidFill>
                  <a:srgbClr val="000000"/>
                </a:solidFill>
                <a:latin typeface="Times New Roman"/>
              </a:endParaRPr>
            </a:p>
          </p:txBody>
        </p:sp>
      </p:grpSp>
      <p:grpSp>
        <p:nvGrpSpPr>
          <p:cNvPr id="136" name=""/>
          <p:cNvGrpSpPr/>
          <p:nvPr/>
        </p:nvGrpSpPr>
        <p:grpSpPr>
          <a:xfrm>
            <a:off x="1523880" y="2920680"/>
            <a:ext cx="812880" cy="609840"/>
            <a:chOff x="1523880" y="2920680"/>
            <a:chExt cx="812880" cy="609840"/>
          </a:xfrm>
        </p:grpSpPr>
        <p:sp>
          <p:nvSpPr>
            <p:cNvPr id="137" name=""/>
            <p:cNvSpPr/>
            <p:nvPr/>
          </p:nvSpPr>
          <p:spPr>
            <a:xfrm flipV="1">
              <a:off x="1600200" y="292032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8" name=""/>
            <p:cNvSpPr/>
            <p:nvPr/>
          </p:nvSpPr>
          <p:spPr>
            <a:xfrm flipV="1">
              <a:off x="1752480" y="3454200"/>
              <a:ext cx="304920" cy="763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flipV="1">
              <a:off x="1828800" y="322668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0" name=""/>
            <p:cNvSpPr/>
            <p:nvPr/>
          </p:nvSpPr>
          <p:spPr>
            <a:xfrm flipV="1">
              <a:off x="1523880" y="3187080"/>
              <a:ext cx="20340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1" name=""/>
            <p:cNvCxnSpPr>
              <a:stCxn id="137" idx="1"/>
              <a:endCxn id="140" idx="3"/>
            </p:cNvCxnSpPr>
            <p:nvPr/>
          </p:nvCxnSpPr>
          <p:spPr>
            <a:xfrm flipH="1">
              <a:off x="1623240" y="2997000"/>
              <a:ext cx="229320" cy="191520"/>
            </a:xfrm>
            <a:prstGeom prst="straightConnector1">
              <a:avLst/>
            </a:prstGeom>
            <a:ln w="15840">
              <a:solidFill>
                <a:srgbClr val="ffffff"/>
              </a:solidFill>
              <a:miter/>
            </a:ln>
          </p:spPr>
        </p:cxnSp>
        <p:cxnSp>
          <p:nvCxnSpPr>
            <p:cNvPr id="142" name=""/>
            <p:cNvCxnSpPr>
              <a:stCxn id="137" idx="3"/>
              <a:endCxn id="139" idx="4"/>
            </p:cNvCxnSpPr>
            <p:nvPr/>
          </p:nvCxnSpPr>
          <p:spPr>
            <a:xfrm flipH="1">
              <a:off x="2080440" y="2958840"/>
              <a:ext cx="26280" cy="270360"/>
            </a:xfrm>
            <a:prstGeom prst="straightConnector1">
              <a:avLst/>
            </a:prstGeom>
            <a:ln w="15840">
              <a:solidFill>
                <a:srgbClr val="ffffff"/>
              </a:solidFill>
              <a:miter/>
            </a:ln>
          </p:spPr>
        </p:cxnSp>
        <p:cxnSp>
          <p:nvCxnSpPr>
            <p:cNvPr id="143" name=""/>
            <p:cNvCxnSpPr>
              <a:stCxn id="140" idx="3"/>
              <a:endCxn id="138" idx="3"/>
            </p:cNvCxnSpPr>
            <p:nvPr/>
          </p:nvCxnSpPr>
          <p:spPr>
            <a:xfrm>
              <a:off x="1725120" y="3282480"/>
              <a:ext cx="72360" cy="183240"/>
            </a:xfrm>
            <a:prstGeom prst="straightConnector1">
              <a:avLst/>
            </a:prstGeom>
            <a:ln w="15840">
              <a:solidFill>
                <a:srgbClr val="ffffff"/>
              </a:solidFill>
              <a:miter/>
            </a:ln>
          </p:spPr>
        </p:cxnSp>
      </p:grpSp>
      <p:grpSp>
        <p:nvGrpSpPr>
          <p:cNvPr id="144" name=""/>
          <p:cNvGrpSpPr/>
          <p:nvPr/>
        </p:nvGrpSpPr>
        <p:grpSpPr>
          <a:xfrm>
            <a:off x="3657600" y="2584440"/>
            <a:ext cx="1828800" cy="677880"/>
            <a:chOff x="3657600" y="2584440"/>
            <a:chExt cx="1828800" cy="677880"/>
          </a:xfrm>
        </p:grpSpPr>
        <p:sp>
          <p:nvSpPr>
            <p:cNvPr id="145" name=""/>
            <p:cNvSpPr/>
            <p:nvPr/>
          </p:nvSpPr>
          <p:spPr>
            <a:xfrm>
              <a:off x="3657600" y="2955960"/>
              <a:ext cx="182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016880" y="2584440"/>
              <a:ext cx="1416600" cy="67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stantiate</a:t>
              </a:r>
              <a:br>
                <a:rPr sz="1600"/>
              </a:br>
              <a:r>
                <a:rPr b="1" lang="de-DE" sz="1600" spc="-1" strike="noStrike">
                  <a:solidFill>
                    <a:srgbClr val="000000"/>
                  </a:solidFill>
                  <a:latin typeface="Arial"/>
                </a:rPr>
                <a:t>Components</a:t>
              </a:r>
              <a:endParaRPr b="0" lang="en-US" sz="1600" spc="-1" strike="noStrike">
                <a:solidFill>
                  <a:srgbClr val="000000"/>
                </a:solidFill>
                <a:latin typeface="Times New Roman"/>
              </a:endParaRPr>
            </a:p>
          </p:txBody>
        </p:sp>
      </p:grpSp>
      <p:cxnSp>
        <p:nvCxnSpPr>
          <p:cNvPr id="147" name=""/>
          <p:cNvCxnSpPr>
            <a:stCxn id="139" idx="6"/>
            <a:endCxn id="148" idx="1"/>
          </p:cNvCxnSpPr>
          <p:nvPr/>
        </p:nvCxnSpPr>
        <p:spPr>
          <a:xfrm>
            <a:off x="2343240" y="3265560"/>
            <a:ext cx="4355280" cy="132480"/>
          </a:xfrm>
          <a:prstGeom prst="straightConnector1">
            <a:avLst/>
          </a:prstGeom>
          <a:ln w="15840">
            <a:solidFill>
              <a:srgbClr val="00ff00"/>
            </a:solidFill>
            <a:miter/>
          </a:ln>
        </p:spPr>
      </p:cxnSp>
      <p:grpSp>
        <p:nvGrpSpPr>
          <p:cNvPr id="149" name=""/>
          <p:cNvGrpSpPr/>
          <p:nvPr/>
        </p:nvGrpSpPr>
        <p:grpSpPr>
          <a:xfrm>
            <a:off x="6553080" y="2868480"/>
            <a:ext cx="1677960" cy="793800"/>
            <a:chOff x="6553080" y="2868480"/>
            <a:chExt cx="1677960" cy="793800"/>
          </a:xfrm>
        </p:grpSpPr>
        <p:sp>
          <p:nvSpPr>
            <p:cNvPr id="150" name=""/>
            <p:cNvSpPr/>
            <p:nvPr/>
          </p:nvSpPr>
          <p:spPr>
            <a:xfrm flipV="1">
              <a:off x="7442280" y="2996640"/>
              <a:ext cx="507960" cy="75960"/>
            </a:xfrm>
            <a:prstGeom prst="rect">
              <a:avLst/>
            </a:prstGeom>
            <a:solidFill>
              <a:srgbClr val="ebebeb"/>
            </a:solidFill>
            <a:ln w="1584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 name=""/>
            <p:cNvSpPr/>
            <p:nvPr/>
          </p:nvSpPr>
          <p:spPr>
            <a:xfrm flipV="1">
              <a:off x="7315200" y="3453840"/>
              <a:ext cx="304920" cy="7596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 name=""/>
            <p:cNvSpPr/>
            <p:nvPr/>
          </p:nvSpPr>
          <p:spPr>
            <a:xfrm flipV="1">
              <a:off x="6553080" y="2920320"/>
              <a:ext cx="507960" cy="745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8" name=""/>
            <p:cNvSpPr/>
            <p:nvPr/>
          </p:nvSpPr>
          <p:spPr>
            <a:xfrm flipV="1">
              <a:off x="6705720" y="3301200"/>
              <a:ext cx="203040" cy="190440"/>
            </a:xfrm>
            <a:prstGeom prst="rect">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54" idx="1"/>
              <a:endCxn id="148" idx="3"/>
            </p:cNvCxnSpPr>
            <p:nvPr/>
          </p:nvCxnSpPr>
          <p:spPr>
            <a:xfrm flipH="1">
              <a:off x="6805080" y="3265200"/>
              <a:ext cx="431280" cy="29160"/>
            </a:xfrm>
            <a:prstGeom prst="straightConnector1">
              <a:avLst/>
            </a:prstGeom>
            <a:ln w="15840">
              <a:solidFill>
                <a:srgbClr val="ffffff"/>
              </a:solidFill>
              <a:miter/>
            </a:ln>
          </p:spPr>
        </p:cxnSp>
        <p:cxnSp>
          <p:nvCxnSpPr>
            <p:cNvPr id="155" name=""/>
            <p:cNvCxnSpPr>
              <a:stCxn id="154" idx="1"/>
              <a:endCxn id="152" idx="0"/>
            </p:cNvCxnSpPr>
            <p:nvPr/>
          </p:nvCxnSpPr>
          <p:spPr>
            <a:xfrm flipH="1" flipV="1">
              <a:off x="6805080" y="3004560"/>
              <a:ext cx="431280" cy="261000"/>
            </a:xfrm>
            <a:prstGeom prst="straightConnector1">
              <a:avLst/>
            </a:prstGeom>
            <a:ln w="15840">
              <a:solidFill>
                <a:srgbClr val="ffffff"/>
              </a:solidFill>
              <a:miter/>
            </a:ln>
          </p:spPr>
        </p:cxnSp>
        <p:cxnSp>
          <p:nvCxnSpPr>
            <p:cNvPr id="156" name=""/>
            <p:cNvCxnSpPr>
              <a:stCxn id="154" idx="1"/>
              <a:endCxn id="151" idx="3"/>
            </p:cNvCxnSpPr>
            <p:nvPr/>
          </p:nvCxnSpPr>
          <p:spPr>
            <a:xfrm>
              <a:off x="7235640" y="3265200"/>
              <a:ext cx="124200" cy="192600"/>
            </a:xfrm>
            <a:prstGeom prst="straightConnector1">
              <a:avLst/>
            </a:prstGeom>
            <a:ln w="15840">
              <a:solidFill>
                <a:srgbClr val="ffffff"/>
              </a:solidFill>
              <a:miter/>
            </a:ln>
          </p:spPr>
        </p:cxnSp>
        <p:sp>
          <p:nvSpPr>
            <p:cNvPr id="157" name=""/>
            <p:cNvSpPr/>
            <p:nvPr/>
          </p:nvSpPr>
          <p:spPr>
            <a:xfrm>
              <a:off x="7696080" y="3301920"/>
              <a:ext cx="304920" cy="304920"/>
            </a:xfrm>
            <a:prstGeom prst="ellipse">
              <a:avLst/>
            </a:prstGeom>
            <a:solidFill>
              <a:srgbClr val="ebebeb"/>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 name=""/>
            <p:cNvCxnSpPr>
              <a:stCxn id="157" idx="2"/>
              <a:endCxn id="150" idx="1"/>
            </p:cNvCxnSpPr>
            <p:nvPr/>
          </p:nvCxnSpPr>
          <p:spPr>
            <a:xfrm flipV="1">
              <a:off x="7688160" y="3080520"/>
              <a:ext cx="7200" cy="374040"/>
            </a:xfrm>
            <a:prstGeom prst="straightConnector1">
              <a:avLst/>
            </a:prstGeom>
            <a:ln w="15840">
              <a:solidFill>
                <a:srgbClr val="ffffff"/>
              </a:solidFill>
              <a:miter/>
            </a:ln>
          </p:spPr>
        </p:cxnSp>
        <p:sp>
          <p:nvSpPr>
            <p:cNvPr id="154" name=""/>
            <p:cNvSpPr/>
            <p:nvPr/>
          </p:nvSpPr>
          <p:spPr>
            <a:xfrm>
              <a:off x="7236000" y="2868480"/>
              <a:ext cx="995040" cy="7938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11:29:41Z</dcterms:created>
  <dc:creator>Tom Gross</dc:creator>
  <dc:description/>
  <dc:language>en-US</dc:language>
  <cp:lastModifiedBy>Fabio Paternò</cp:lastModifiedBy>
  <cp:lastPrinted>2001-01-25T10:47:38Z</cp:lastPrinted>
  <dcterms:modified xsi:type="dcterms:W3CDTF">2002-09-25T15:28:31Z</dcterms:modified>
  <cp:revision>591</cp:revision>
  <dc:subject/>
  <dc:title>template for on grey slide presentation</dc:title>
</cp:coreProperties>
</file>