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875880" y="858960"/>
            <a:ext cx="501660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59080" y="9182160"/>
            <a:ext cx="2059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01-04-12   </a:t>
            </a:r>
            <a:fld id="{3E5CD08D-A1CB-46D1-BAB4-D369F82EB9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Sc in computer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d 1997 Hamburg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uter application and language context - about the interaction between ordinary and formal language during development and use of software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nce 1997 at the university of Karlskrona/Ronneb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ching with the interdisciplinary program ‘people, computers and work’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50% human work science, 50% computer 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 manager for the computer science part (1999-2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of the research group Use Oriented Design and Development of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earch intere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ign for design i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irical research in software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together wit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two other research groups at the department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6 industrial partmners (Ericsson, ABB, VolvoIT e.g.) about 3,5 Million EUR +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900" spc="-1" strike="noStrike">
                <a:solidFill>
                  <a:srgbClr val="000000"/>
                </a:solidFill>
                <a:latin typeface="Arial"/>
              </a:rPr>
              <a:t>matching industrial counterfinancing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municipalities in Blekinge and Stockho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private companies, one software development company, one cal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example: the introduction of a highly tailorable publication tool for inter- and intr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much of the project is a technical project, how much of it is organisation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A new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ing question: how useful is such a flexible database 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what is it useful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the beginning the payments were computed manually.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umberso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oring paper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mi manual computation: using filemaker for the event data and excel sheets for the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irst contract and payment system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tabase were the contracts are administrated, and 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atch procedure that takes each event and computes the respective payment based on the contract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reason for re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certain types of contracts could be administ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r interface unsatisf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rtain contract types have to be handled manually The system is hard to mai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Specifica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pecial purpos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aptation to a changing business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tructure of the common object of work has to be 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pendency on interfaces to 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system controls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22640" y="1905120"/>
            <a:ext cx="948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le, 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aving data about contr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is data is matched by events that trigger concrete 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proof of concept prototypes of parts of the syst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no connection to surrounding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mplementing a flexible user interface and a tailoring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Implementing the matching algorithm that is used to compute the data for the financial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The project did decide against the flexible database</a:t>
            </a: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.) a non standard databas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.) complex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.) us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6240" y="858960"/>
            <a:ext cx="5016600" cy="34732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20440" y="4721040"/>
            <a:ext cx="5127480" cy="4400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nder industrial conditions, a technologically less advanced solution might be the better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jor disadvantages regarding anticip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ilar change effort regarding unanticip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ment and product qualities as important as (at least) change ef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rade 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lexibility vs.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ailorability vs maintenance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adaptability vs maintain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functionality vs qualitative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We started to think about context analytical concept to understand this unexpected outc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564F-4A54-4309-9036-977A866D6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43EA-763C-4EA4-A2FA-0B048C654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B89C2-DA5F-4E21-96CE-989F9FDFD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16F2-5D3F-4E65-91C8-23EBFBD80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DD45-5FD5-4C19-AF5F-BCA2ABD79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3F73-3C8E-4147-85CF-C5D1C5B44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4D16-71DC-42D1-AAF2-7717A471F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41B6-246D-473C-8570-44701AD2D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A5F2-2966-45A4-8F00-B30E10DEF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45D4-DE46-4FC6-B8CC-4E9ABD68A5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856D-C4CC-4F38-8D4E-1233F90AA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383A-16DD-4C56-BE59-A86C7A62C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9640" y="463680"/>
            <a:ext cx="8826480" cy="58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324480"/>
            <a:ext cx="2666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Dittrich  0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logorgb" descr=""/>
          <p:cNvPicPr/>
          <p:nvPr/>
        </p:nvPicPr>
        <p:blipFill>
          <a:blip r:embed="rId2"/>
          <a:stretch/>
        </p:blipFill>
        <p:spPr>
          <a:xfrm>
            <a:off x="85345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520" y="6324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8F91-994B-47A0-9EB0-9E5D6B162D2C}" type="slidenum">
              <a:rPr b="0" lang="sv-S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chang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and business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701064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vonne Dittrich, Olle Linde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ekinge Institute of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artment for Software Engineering and Computer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A0DE-5FAC-4667-8622-F43C62369B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Oriented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and Development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existing since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r. Yvonne Dittrich, Jeanette Eriksson, Christina Hansson, Olle Lindeberg, Kari Rönk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we are today involved in the following proj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Blekinge Engineering Software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Use orientation in the development of mobil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Flexibility and use ori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of IT in Use: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ive Technologies for Public Services</a:t>
            </a:r>
            <a:br>
              <a:rPr sz="24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jectleader: Dr. Sara Eriksén, I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0A42-8388-40EF-82AE-C84F62DE6D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Experiences with Tailo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 in use of database application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Development of a flexible back-office support system for telecommunication provider. Will be subject of the presen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ign of IT in Use: Supportive Technologies for Public Service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Need for ongoing Design in Use. Tailoring practices. Flexibilisation of development processe. (together with Sara Eriksé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Design of a flexible architecture for Action Blocks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Using XML to adjust behavior of ubiquetouos computing systems. </a:t>
            </a:r>
            <a:br>
              <a:rPr sz="16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Master Thesis in Co-operation with the Interactive Institute in Malmoe (Thomas Binde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and other research in the de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The Billing Gateway – </a:t>
            </a:r>
            <a:br>
              <a:rPr sz="2000"/>
            </a:br>
            <a:r>
              <a:rPr b="0" lang="sv-SE" sz="1600" spc="-1" strike="noStrike">
                <a:solidFill>
                  <a:srgbClr val="000000"/>
                </a:solidFill>
                <a:latin typeface="Arial"/>
              </a:rPr>
              <a:t>using domain specific languages to tailor large telecommunication systems (Lars Lundberg, B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AF4D-D243-4AAC-86F0-CD80810FB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ject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ign in Use of Databas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icipant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telecommunication provider, a small software developer and the un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business application to administrate contracts and compute payments based on the contracts and triggered by certai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text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pidly changing business practices require a flexible adaptab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ol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flexible meta-modelling database system allowing to manipulate the data model during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8FFD-BBFF-4127-91A5-E32BF31E88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exibility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good design: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are easily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meta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arsely populated databa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 based combination and prioritisation between different payments triggered by the sam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s of the program control</a:t>
            </a: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 by meta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ed back to be able to test the ada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iloring interface for the system admini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4DA1-32B5-4A01-A1E5-26B481DD82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 between context and techn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change but for whom? when?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ork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ase study wa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urpose software for one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le for futur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76780-3CC1-4829-AA54-08B7358189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0:50:22Z</dcterms:created>
  <dc:creator>Yvonne</dc:creator>
  <dc:description/>
  <dc:language>en-US</dc:language>
  <cp:lastModifiedBy>Silvia</cp:lastModifiedBy>
  <cp:lastPrinted>2001-04-23T06:25:18Z</cp:lastPrinted>
  <dcterms:modified xsi:type="dcterms:W3CDTF">2002-10-04T08:03:13Z</dcterms:modified>
  <cp:revision>34</cp:revision>
  <dc:subject/>
  <dc:title>Participatory and Evolutionary  Software Development</dc:title>
</cp:coreProperties>
</file>