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ct" ContentType="image/x-pict"/>
  <Override PartName="/ppt/media/image9.pct" ContentType="image/x-pict"/>
  <Override PartName="/ppt/media/image10.pct" ContentType="image/x-pict"/>
  <Override PartName="/ppt/media/image11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04760" y="914040"/>
            <a:ext cx="5048280" cy="9046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914040"/>
            <a:ext cx="5048280" cy="9046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4760" y="914040"/>
            <a:ext cx="5048280" cy="9046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4760" y="914040"/>
            <a:ext cx="5048280" cy="9046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4760" y="914040"/>
            <a:ext cx="5048280" cy="9046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4760" y="914040"/>
            <a:ext cx="5048280" cy="9046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914040"/>
            <a:ext cx="5048280" cy="9046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904760" y="914040"/>
            <a:ext cx="5048280" cy="419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04760" y="914040"/>
            <a:ext cx="5048280" cy="9046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04760" y="914040"/>
            <a:ext cx="5048280" cy="9046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4760" y="914040"/>
            <a:ext cx="5048280" cy="9046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33520" y="609480"/>
            <a:ext cx="7953120" cy="5743800"/>
          </a:xfrm>
          <a:prstGeom prst="rect">
            <a:avLst/>
          </a:prstGeom>
          <a:solidFill>
            <a:srgbClr val="ffffff"/>
          </a:solidFill>
          <a:ln w="4752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904760" y="914040"/>
            <a:ext cx="5048280" cy="904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777777"/>
            </a:outerShdw>
          </a:effectLst>
        </p:spPr>
        <p:txBody>
          <a:bodyPr lIns="63360" rIns="63360" tIns="25560" bIns="25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400960" y="6477120"/>
            <a:ext cx="70200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54C254C-62AF-42DE-8390-FC1719F7E895}" type="slidenum">
              <a:rPr b="0" lang="nb-NO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362320" y="609480"/>
            <a:ext cx="44193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228600"/>
            <a:ext cx="617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ser Participation in Evolutionary Develop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477120" y="64008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isa,  23/9 - </a:t>
            </a:r>
            <a:r>
              <a:rPr b="0" lang="nb-NO" sz="10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33720" y="2514600"/>
            <a:ext cx="2666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logo" descr=""/>
          <p:cNvPicPr/>
          <p:nvPr/>
        </p:nvPicPr>
        <p:blipFill>
          <a:blip r:embed="rId2"/>
          <a:stretch/>
        </p:blipFill>
        <p:spPr>
          <a:xfrm>
            <a:off x="5958000" y="68400"/>
            <a:ext cx="1914480" cy="504720"/>
          </a:xfrm>
          <a:prstGeom prst="rect">
            <a:avLst/>
          </a:prstGeom>
          <a:ln w="0">
            <a:noFill/>
          </a:ln>
        </p:spPr>
      </p:pic>
      <p:pic>
        <p:nvPicPr>
          <p:cNvPr id="8" name="apollon" descr=""/>
          <p:cNvPicPr/>
          <p:nvPr/>
        </p:nvPicPr>
        <p:blipFill>
          <a:blip r:embed="rId3"/>
          <a:stretch/>
        </p:blipFill>
        <p:spPr>
          <a:xfrm>
            <a:off x="7896240" y="0"/>
            <a:ext cx="1247760" cy="123336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685800" y="6400800"/>
            <a:ext cx="11430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UD-Net kick-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2120" y="1523880"/>
            <a:ext cx="761976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image" Target="../media/image9.pct"/><Relationship Id="rId3" Type="http://schemas.openxmlformats.org/officeDocument/2006/relationships/image" Target="../media/image10.pct"/><Relationship Id="rId4" Type="http://schemas.openxmlformats.org/officeDocument/2006/relationships/image" Target="../media/image11.pct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intermedia.uio.no/ansatte/morch/research/publications/ead/02Chap.pdf" TargetMode="External"/><Relationship Id="rId2" Type="http://schemas.openxmlformats.org/officeDocument/2006/relationships/hyperlink" Target="http://www.intermedia.uio.no/ansatte/morch/research/publications/ead/02Chap.pdf" TargetMode="External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50640" y="983880"/>
            <a:ext cx="4630680" cy="917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777777"/>
            </a:outerShdw>
          </a:effectLst>
        </p:spPr>
        <p:txBody>
          <a:bodyPr lIns="63360" rIns="63360" tIns="25560" bIns="25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User Participation in 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Evolutionary Development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2819520"/>
            <a:ext cx="7772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Anders Mørch</a:t>
            </a:r>
            <a:br>
              <a:rPr sz="2800"/>
            </a:b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InterMedia</a:t>
            </a:r>
            <a:br>
              <a:rPr sz="2800"/>
            </a:b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University of Oslo</a:t>
            </a:r>
            <a:br>
              <a:rPr sz="2800"/>
            </a:br>
            <a:r>
              <a:rPr b="0" i="1" lang="en-US" sz="2400" spc="-1" strike="noStrike">
                <a:solidFill>
                  <a:srgbClr val="00279f"/>
                </a:solidFill>
                <a:latin typeface="Arial"/>
              </a:rPr>
              <a:t>anders.morch@intermedia.uio.no</a:t>
            </a:r>
            <a:br>
              <a:rPr sz="2400"/>
            </a:br>
            <a:r>
              <a:rPr b="0" i="1" lang="en-US" sz="2400" spc="-1" strike="noStrike">
                <a:solidFill>
                  <a:srgbClr val="00279f"/>
                </a:solidFill>
                <a:latin typeface="Arial"/>
              </a:rPr>
              <a:t>www.intermedia.uio</a:t>
            </a:r>
            <a:r>
              <a:rPr b="0" i="1" lang="nb-NO" sz="2400" spc="-1" strike="noStrike">
                <a:solidFill>
                  <a:srgbClr val="00279f"/>
                </a:solidFill>
                <a:latin typeface="Arial"/>
              </a:rPr>
              <a:t>.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8960" y="837720"/>
            <a:ext cx="6505560" cy="49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777777"/>
            </a:outerShdw>
          </a:effectLst>
        </p:spPr>
        <p:txBody>
          <a:bodyPr lIns="63360" rIns="63360" tIns="25560" bIns="25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Narrowing the micro/macro gap of NL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48120" y="3276720"/>
            <a:ext cx="380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057400" y="594360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2057400" y="1752480"/>
            <a:ext cx="0" cy="4191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176840" y="5105520"/>
            <a:ext cx="738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16920" y="3581280"/>
            <a:ext cx="9914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38680" y="2286000"/>
            <a:ext cx="8146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648320" y="4419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4648320" y="2563200"/>
            <a:ext cx="1440" cy="609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33200" y="2133720"/>
            <a:ext cx="207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Natural 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732480" y="5105520"/>
            <a:ext cx="20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Genetic var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181480" y="3505320"/>
            <a:ext cx="155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000" spc="-1" strike="noStrike">
                <a:solidFill>
                  <a:srgbClr val="ff0000"/>
                </a:solidFill>
                <a:latin typeface="Arial"/>
              </a:rPr>
              <a:t>Individuals</a:t>
            </a:r>
            <a:br>
              <a:rPr sz="2000"/>
            </a:br>
            <a:r>
              <a:rPr b="0" i="1" lang="en-AU" sz="2000" spc="-1" strike="noStrike">
                <a:solidFill>
                  <a:srgbClr val="ff0000"/>
                </a:solidFill>
                <a:latin typeface="Arial"/>
              </a:rPr>
              <a:t>particip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647960" y="3429000"/>
            <a:ext cx="307440" cy="723960"/>
            <a:chOff x="4647960" y="3429000"/>
            <a:chExt cx="307440" cy="723960"/>
          </a:xfrm>
        </p:grpSpPr>
        <p:grpSp>
          <p:nvGrpSpPr>
            <p:cNvPr id="113" name=""/>
            <p:cNvGrpSpPr/>
            <p:nvPr/>
          </p:nvGrpSpPr>
          <p:grpSpPr>
            <a:xfrm>
              <a:off x="4673880" y="3429000"/>
              <a:ext cx="228600" cy="609480"/>
              <a:chOff x="4673880" y="3429000"/>
              <a:chExt cx="228600" cy="609480"/>
            </a:xfrm>
          </p:grpSpPr>
          <p:sp>
            <p:nvSpPr>
              <p:cNvPr id="114" name=""/>
              <p:cNvSpPr/>
              <p:nvPr/>
            </p:nvSpPr>
            <p:spPr>
              <a:xfrm>
                <a:off x="4673880" y="3429000"/>
                <a:ext cx="228600" cy="228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788000" y="365760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4647960" y="3988080"/>
              <a:ext cx="278280" cy="164880"/>
              <a:chOff x="4647960" y="3988080"/>
              <a:chExt cx="278280" cy="164880"/>
            </a:xfrm>
          </p:grpSpPr>
          <p:sp>
            <p:nvSpPr>
              <p:cNvPr id="117" name=""/>
              <p:cNvSpPr/>
              <p:nvPr/>
            </p:nvSpPr>
            <p:spPr>
              <a:xfrm flipH="1">
                <a:off x="4647960" y="39880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773600" y="4000680"/>
                <a:ext cx="15264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4680360" y="3724920"/>
              <a:ext cx="275040" cy="172800"/>
              <a:chOff x="4680360" y="3724920"/>
              <a:chExt cx="275040" cy="172800"/>
            </a:xfrm>
          </p:grpSpPr>
          <p:sp>
            <p:nvSpPr>
              <p:cNvPr id="120" name=""/>
              <p:cNvSpPr/>
              <p:nvPr/>
            </p:nvSpPr>
            <p:spPr>
              <a:xfrm flipV="1">
                <a:off x="4793760" y="3755880"/>
                <a:ext cx="161640" cy="141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 flipV="1">
                <a:off x="4680360" y="3724920"/>
                <a:ext cx="141840" cy="162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124080" y="4267080"/>
            <a:ext cx="381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1523880"/>
            <a:ext cx="14126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3333cc"/>
                </a:solidFill>
                <a:latin typeface="Arial"/>
              </a:rPr>
              <a:t>Unit of </a:t>
            </a:r>
            <a:br>
              <a:rPr sz="1800"/>
            </a:br>
            <a:r>
              <a:rPr b="0" lang="en-AU" sz="1800" spc="-1" strike="noStrike">
                <a:solidFill>
                  <a:srgbClr val="3333cc"/>
                </a:solidFill>
                <a:latin typeface="Arial"/>
              </a:rPr>
              <a:t>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190760" y="3429000"/>
            <a:ext cx="307440" cy="723960"/>
            <a:chOff x="4190760" y="3429000"/>
            <a:chExt cx="307440" cy="723960"/>
          </a:xfrm>
        </p:grpSpPr>
        <p:grpSp>
          <p:nvGrpSpPr>
            <p:cNvPr id="125" name=""/>
            <p:cNvGrpSpPr/>
            <p:nvPr/>
          </p:nvGrpSpPr>
          <p:grpSpPr>
            <a:xfrm>
              <a:off x="4216680" y="3429000"/>
              <a:ext cx="228600" cy="609480"/>
              <a:chOff x="4216680" y="3429000"/>
              <a:chExt cx="228600" cy="609480"/>
            </a:xfrm>
          </p:grpSpPr>
          <p:sp>
            <p:nvSpPr>
              <p:cNvPr id="126" name=""/>
              <p:cNvSpPr/>
              <p:nvPr/>
            </p:nvSpPr>
            <p:spPr>
              <a:xfrm>
                <a:off x="4216680" y="3429000"/>
                <a:ext cx="228600" cy="228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330800" y="365760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4190760" y="3988080"/>
              <a:ext cx="278280" cy="164880"/>
              <a:chOff x="4190760" y="3988080"/>
              <a:chExt cx="278280" cy="164880"/>
            </a:xfrm>
          </p:grpSpPr>
          <p:sp>
            <p:nvSpPr>
              <p:cNvPr id="129" name=""/>
              <p:cNvSpPr/>
              <p:nvPr/>
            </p:nvSpPr>
            <p:spPr>
              <a:xfrm flipH="1">
                <a:off x="4190760" y="39880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316400" y="4000680"/>
                <a:ext cx="15264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4223160" y="3724920"/>
              <a:ext cx="275040" cy="172800"/>
              <a:chOff x="4223160" y="3724920"/>
              <a:chExt cx="275040" cy="172800"/>
            </a:xfrm>
          </p:grpSpPr>
          <p:sp>
            <p:nvSpPr>
              <p:cNvPr id="132" name=""/>
              <p:cNvSpPr/>
              <p:nvPr/>
            </p:nvSpPr>
            <p:spPr>
              <a:xfrm flipV="1">
                <a:off x="4336560" y="3755880"/>
                <a:ext cx="161640" cy="141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flipV="1">
                <a:off x="4223160" y="3724920"/>
                <a:ext cx="141840" cy="162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8960" y="837720"/>
            <a:ext cx="6489720" cy="49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777777"/>
            </a:outerShdw>
          </a:effectLst>
        </p:spPr>
        <p:txBody>
          <a:bodyPr lIns="63360" rIns="63360" tIns="25560" bIns="25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Going t</a:t>
            </a:r>
            <a:r>
              <a:rPr b="1" lang="nb-NO" sz="2800" spc="-1" strike="noStrike">
                <a:solidFill>
                  <a:srgbClr val="3333cc"/>
                </a:solidFill>
                <a:latin typeface="Arial"/>
              </a:rPr>
              <a:t>o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o far is bypassing the issue?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057400" y="2819520"/>
            <a:ext cx="43434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3276720"/>
            <a:ext cx="380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981080" y="594360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1981080" y="1752480"/>
            <a:ext cx="0" cy="4191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45160" y="5105520"/>
            <a:ext cx="738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6920" y="3581280"/>
            <a:ext cx="9914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68840" y="2286000"/>
            <a:ext cx="8146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724280" y="2666520"/>
            <a:ext cx="0" cy="26672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952520" y="2285280"/>
            <a:ext cx="1800" cy="2438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420080" y="1905120"/>
            <a:ext cx="11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91480" y="533412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var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81840" y="3657600"/>
            <a:ext cx="172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Participati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3520" y="1523880"/>
            <a:ext cx="14126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3333cc"/>
                </a:solidFill>
                <a:latin typeface="Arial"/>
              </a:rPr>
              <a:t>Unit of </a:t>
            </a:r>
            <a:br>
              <a:rPr sz="1800"/>
            </a:br>
            <a:r>
              <a:rPr b="0" lang="en-AU" sz="1800" spc="-1" strike="noStrike">
                <a:solidFill>
                  <a:srgbClr val="3333cc"/>
                </a:solidFill>
                <a:latin typeface="Arial"/>
              </a:rPr>
              <a:t>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4343040" y="3429000"/>
            <a:ext cx="307440" cy="723960"/>
            <a:chOff x="4343040" y="3429000"/>
            <a:chExt cx="307440" cy="723960"/>
          </a:xfrm>
        </p:grpSpPr>
        <p:grpSp>
          <p:nvGrpSpPr>
            <p:cNvPr id="149" name=""/>
            <p:cNvGrpSpPr/>
            <p:nvPr/>
          </p:nvGrpSpPr>
          <p:grpSpPr>
            <a:xfrm>
              <a:off x="4368960" y="3429000"/>
              <a:ext cx="228600" cy="609480"/>
              <a:chOff x="4368960" y="3429000"/>
              <a:chExt cx="228600" cy="609480"/>
            </a:xfrm>
          </p:grpSpPr>
          <p:sp>
            <p:nvSpPr>
              <p:cNvPr id="150" name=""/>
              <p:cNvSpPr/>
              <p:nvPr/>
            </p:nvSpPr>
            <p:spPr>
              <a:xfrm>
                <a:off x="4368960" y="3429000"/>
                <a:ext cx="228600" cy="228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483080" y="365760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343040" y="3988080"/>
              <a:ext cx="278280" cy="164880"/>
              <a:chOff x="4343040" y="3988080"/>
              <a:chExt cx="278280" cy="164880"/>
            </a:xfrm>
          </p:grpSpPr>
          <p:sp>
            <p:nvSpPr>
              <p:cNvPr id="153" name=""/>
              <p:cNvSpPr/>
              <p:nvPr/>
            </p:nvSpPr>
            <p:spPr>
              <a:xfrm flipH="1">
                <a:off x="4343040" y="39880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468680" y="4000680"/>
                <a:ext cx="15264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4375440" y="3724920"/>
              <a:ext cx="275040" cy="172800"/>
              <a:chOff x="4375440" y="3724920"/>
              <a:chExt cx="275040" cy="172800"/>
            </a:xfrm>
          </p:grpSpPr>
          <p:sp>
            <p:nvSpPr>
              <p:cNvPr id="156" name=""/>
              <p:cNvSpPr/>
              <p:nvPr/>
            </p:nvSpPr>
            <p:spPr>
              <a:xfrm flipV="1">
                <a:off x="4488840" y="3755880"/>
                <a:ext cx="161640" cy="141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 flipV="1">
                <a:off x="4375440" y="3724920"/>
                <a:ext cx="141840" cy="162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8" name=""/>
          <p:cNvSpPr/>
          <p:nvPr/>
        </p:nvSpPr>
        <p:spPr>
          <a:xfrm>
            <a:off x="3048120" y="4267080"/>
            <a:ext cx="380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962160" y="3429000"/>
            <a:ext cx="307440" cy="723960"/>
            <a:chOff x="3962160" y="3429000"/>
            <a:chExt cx="307440" cy="723960"/>
          </a:xfrm>
        </p:grpSpPr>
        <p:grpSp>
          <p:nvGrpSpPr>
            <p:cNvPr id="160" name=""/>
            <p:cNvGrpSpPr/>
            <p:nvPr/>
          </p:nvGrpSpPr>
          <p:grpSpPr>
            <a:xfrm>
              <a:off x="3988080" y="3429000"/>
              <a:ext cx="228600" cy="609480"/>
              <a:chOff x="3988080" y="3429000"/>
              <a:chExt cx="228600" cy="609480"/>
            </a:xfrm>
          </p:grpSpPr>
          <p:sp>
            <p:nvSpPr>
              <p:cNvPr id="161" name=""/>
              <p:cNvSpPr/>
              <p:nvPr/>
            </p:nvSpPr>
            <p:spPr>
              <a:xfrm>
                <a:off x="3988080" y="3429000"/>
                <a:ext cx="228600" cy="228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102200" y="365760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3962160" y="3988080"/>
              <a:ext cx="278280" cy="164880"/>
              <a:chOff x="3962160" y="3988080"/>
              <a:chExt cx="278280" cy="164880"/>
            </a:xfrm>
          </p:grpSpPr>
          <p:sp>
            <p:nvSpPr>
              <p:cNvPr id="164" name=""/>
              <p:cNvSpPr/>
              <p:nvPr/>
            </p:nvSpPr>
            <p:spPr>
              <a:xfrm flipH="1">
                <a:off x="3962160" y="39880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087800" y="4000680"/>
                <a:ext cx="15264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3994560" y="3724920"/>
              <a:ext cx="275040" cy="172800"/>
              <a:chOff x="3994560" y="3724920"/>
              <a:chExt cx="275040" cy="172800"/>
            </a:xfrm>
          </p:grpSpPr>
          <p:sp>
            <p:nvSpPr>
              <p:cNvPr id="167" name=""/>
              <p:cNvSpPr/>
              <p:nvPr/>
            </p:nvSpPr>
            <p:spPr>
              <a:xfrm flipV="1">
                <a:off x="4107960" y="3755880"/>
                <a:ext cx="161640" cy="141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 flipV="1">
                <a:off x="3994560" y="3724920"/>
                <a:ext cx="141840" cy="162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838080" y="990720"/>
            <a:ext cx="7315200" cy="47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hortening the variation-selection lo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830240" y="1981080"/>
            <a:ext cx="138600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Var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438280" y="2362320"/>
            <a:ext cx="0" cy="3124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438280" y="5486400"/>
            <a:ext cx="5334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4120" y="571500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Natu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36280" y="4191120"/>
            <a:ext cx="1488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eliber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0" y="5029200"/>
            <a:ext cx="160020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41200" y="2590920"/>
            <a:ext cx="1148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3333cc"/>
                </a:solidFill>
                <a:latin typeface="Arial"/>
              </a:rPr>
              <a:t>Genetic</a:t>
            </a:r>
            <a:r>
              <a:rPr b="0" lang="nb-NO" sz="2000" spc="-1" strike="noStrike">
                <a:solidFill>
                  <a:srgbClr val="3333cc"/>
                </a:solidFill>
                <a:latin typeface="Arial"/>
              </a:rPr>
              <a:t>/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5715000"/>
            <a:ext cx="1074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rtifi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438280" y="289548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867280" y="289548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438280" y="43434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733920" y="43434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3809880" y="3048120"/>
            <a:ext cx="1828800" cy="1295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837720"/>
            <a:ext cx="7543800" cy="49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777777"/>
            </a:outerShdw>
          </a:effectLst>
        </p:spPr>
        <p:txBody>
          <a:bodyPr lIns="63360" rIns="63360" tIns="25560" bIns="25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Adopting evolutionary perspectives</a:t>
            </a:r>
            <a:r>
              <a:rPr b="1" lang="nb-NO" sz="2800" spc="-1" strike="noStrike">
                <a:solidFill>
                  <a:srgbClr val="3333cc"/>
                </a:solidFill>
                <a:latin typeface="Arial"/>
              </a:rPr>
              <a:t> to EUD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2120" y="160020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3333cc"/>
                </a:solidFill>
                <a:latin typeface="Arial"/>
              </a:rPr>
              <a:t>Goal</a:t>
            </a:r>
            <a:r>
              <a:rPr b="0" lang="en-AU" sz="2800" spc="-1" strike="noStrike">
                <a:solidFill>
                  <a:srgbClr val="3333cc"/>
                </a:solidFill>
                <a:latin typeface="Arial"/>
              </a:rPr>
              <a:t>: users as </a:t>
            </a:r>
            <a:r>
              <a:rPr b="0" i="1" lang="en-AU" sz="2800" spc="-1" strike="noStrike">
                <a:solidFill>
                  <a:srgbClr val="3333cc"/>
                </a:solidFill>
                <a:latin typeface="Arial"/>
              </a:rPr>
              <a:t>active</a:t>
            </a:r>
            <a:r>
              <a:rPr b="0" lang="en-AU" sz="2800" spc="-1" strike="noStrike">
                <a:solidFill>
                  <a:srgbClr val="3333cc"/>
                </a:solidFill>
                <a:latin typeface="Arial"/>
              </a:rPr>
              <a:t> participants as </a:t>
            </a:r>
            <a:r>
              <a:rPr b="0" i="1" lang="en-AU" sz="2800" spc="-1" strike="noStrike">
                <a:solidFill>
                  <a:srgbClr val="3333cc"/>
                </a:solidFill>
                <a:latin typeface="Arial"/>
              </a:rPr>
              <a:t>creators</a:t>
            </a:r>
            <a:r>
              <a:rPr b="0" lang="en-AU" sz="2800" spc="-1" strike="noStrike">
                <a:solidFill>
                  <a:srgbClr val="3333cc"/>
                </a:solidFill>
                <a:latin typeface="Arial"/>
              </a:rPr>
              <a:t> of evolutionary 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User participation requirement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nit of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variation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should approximate unit of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selection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nit of selection should approximate unit of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Designer perspective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rtificial selecti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liberated variation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600" y="914040"/>
            <a:ext cx="6321600" cy="49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777777"/>
            </a:outerShdw>
          </a:effectLst>
        </p:spPr>
        <p:txBody>
          <a:bodyPr lIns="63360" rIns="63360" tIns="25560" bIns="25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Analogical solution (and metaphor)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62120" y="1676520"/>
            <a:ext cx="76197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Gardening” as analogical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Why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: Gardening provides a level of abstraction that is suitable for user particip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Arial"/>
              </a:rPr>
              <a:t>Two literal examples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runing” as metaphor for artificial selecti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rafting” as metaphor for deliberated variati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161120" cy="49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777777"/>
            </a:outerShdw>
          </a:effectLst>
        </p:spPr>
        <p:txBody>
          <a:bodyPr lIns="63360" rIns="63360" tIns="25560" bIns="25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Artificial  selection: Pruning a bonsai tree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88" name="bonzai4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86400" cy="41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01280" y="837720"/>
            <a:ext cx="5597640" cy="917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777777"/>
            </a:outerShdw>
          </a:effectLst>
        </p:spPr>
        <p:txBody>
          <a:bodyPr lIns="63360" rIns="63360" tIns="25560" bIns="25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Deliberated variation: 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Grafting and budding a fruit tree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38080" y="1676520"/>
            <a:ext cx="7620120" cy="42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grafting2" descr=""/>
          <p:cNvPicPr/>
          <p:nvPr/>
        </p:nvPicPr>
        <p:blipFill>
          <a:blip r:embed="rId1"/>
          <a:stretch/>
        </p:blipFill>
        <p:spPr>
          <a:xfrm>
            <a:off x="5468760" y="2227320"/>
            <a:ext cx="2295720" cy="3429000"/>
          </a:xfrm>
          <a:prstGeom prst="rect">
            <a:avLst/>
          </a:prstGeom>
          <a:ln w="0">
            <a:noFill/>
          </a:ln>
        </p:spPr>
      </p:pic>
      <p:pic>
        <p:nvPicPr>
          <p:cNvPr id="192" name="grafting" descr=""/>
          <p:cNvPicPr/>
          <p:nvPr/>
        </p:nvPicPr>
        <p:blipFill>
          <a:blip r:embed="rId2"/>
          <a:stretch/>
        </p:blipFill>
        <p:spPr>
          <a:xfrm>
            <a:off x="1219320" y="1981080"/>
            <a:ext cx="41907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94920" y="914040"/>
            <a:ext cx="6248520" cy="49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777777"/>
            </a:outerShdw>
          </a:effectLst>
        </p:spPr>
        <p:txBody>
          <a:bodyPr lIns="63360" rIns="63360" tIns="25560" bIns="25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Past work at UiO: End-user tailoring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38080" y="1676520"/>
            <a:ext cx="76186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echniques for deliberated variati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”application grafting”)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ustom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tegr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t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pplication units as basic building b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pplication unit go</a:t>
            </a:r>
            <a:r>
              <a:rPr b="0" lang="nb-NO" sz="2800" spc="-1" strike="noStrike">
                <a:solidFill>
                  <a:srgbClr val="3333cc"/>
                </a:solidFill>
                <a:latin typeface="Arial"/>
              </a:rPr>
              <a:t>es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beyond GUI objects </a:t>
            </a:r>
            <a:r>
              <a:rPr b="0" lang="nb-NO" sz="2800" spc="-1" strike="noStrike">
                <a:solidFill>
                  <a:srgbClr val="3333cc"/>
                </a:solidFill>
                <a:latin typeface="Arial"/>
              </a:rPr>
              <a:t>by </a:t>
            </a:r>
            <a:r>
              <a:rPr b="0" lang="en-AU" sz="2800" spc="-1" strike="noStrike">
                <a:solidFill>
                  <a:srgbClr val="3333cc"/>
                </a:solidFill>
                <a:latin typeface="Arial"/>
              </a:rPr>
              <a:t>providing access to levels of an application  below the</a:t>
            </a:r>
            <a:r>
              <a:rPr b="0" lang="nb-NO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user 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040" y="914040"/>
            <a:ext cx="6885000" cy="49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777777"/>
            </a:outerShdw>
          </a:effectLst>
        </p:spPr>
        <p:txBody>
          <a:bodyPr lIns="63360" rIns="63360" tIns="25560" bIns="25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Evolving BasicDraw into KitchenDesign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39160" y="1752480"/>
            <a:ext cx="7521120" cy="8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buClr>
                <a:srgbClr val="3333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Example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: How to build a specialized draw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rogram from a  generic program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25320" y="3081240"/>
            <a:ext cx="2934000" cy="24354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4799160" y="2782800"/>
            <a:ext cx="3595680" cy="28321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154520" y="5749920"/>
            <a:ext cx="1639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400" spc="-1" strike="noStrike">
                <a:solidFill>
                  <a:srgbClr val="3333cc"/>
                </a:solidFill>
                <a:latin typeface="Arial"/>
              </a:rPr>
              <a:t>BasicDr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99120" y="5735520"/>
            <a:ext cx="21463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400" spc="-1" strike="noStrike">
                <a:solidFill>
                  <a:srgbClr val="3333cc"/>
                </a:solidFill>
                <a:latin typeface="Arial"/>
              </a:rPr>
              <a:t>Kitchen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16200000">
            <a:off x="3396240" y="4149360"/>
            <a:ext cx="157968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ustom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te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498920" y="4540320"/>
            <a:ext cx="581040" cy="0"/>
          </a:xfrm>
          <a:prstGeom prst="line">
            <a:avLst/>
          </a:prstGeom>
          <a:ln w="50760">
            <a:solidFill>
              <a:srgbClr val="fc012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521160" y="4529160"/>
            <a:ext cx="306360" cy="648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7344000" cy="49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777777"/>
            </a:outerShdw>
          </a:effectLst>
        </p:spPr>
        <p:txBody>
          <a:bodyPr lIns="63360" rIns="63360" tIns="25560" bIns="25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Exposing aspects below the user interface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816200" y="1933560"/>
            <a:ext cx="2246040" cy="18352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4406760" y="2009880"/>
            <a:ext cx="2961000" cy="17254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4419720" y="3886200"/>
            <a:ext cx="2120760" cy="23922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2819520" y="3054240"/>
            <a:ext cx="0" cy="130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819520" y="4362480"/>
            <a:ext cx="1617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903400" y="2968560"/>
            <a:ext cx="1411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1892160" y="2619360"/>
            <a:ext cx="393840" cy="369000"/>
            <a:chOff x="1892160" y="2619360"/>
            <a:chExt cx="393840" cy="369000"/>
          </a:xfrm>
        </p:grpSpPr>
        <p:sp>
          <p:nvSpPr>
            <p:cNvPr id="212" name=""/>
            <p:cNvSpPr/>
            <p:nvPr/>
          </p:nvSpPr>
          <p:spPr>
            <a:xfrm>
              <a:off x="1923840" y="2649240"/>
              <a:ext cx="3621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892160" y="2619360"/>
              <a:ext cx="331920" cy="349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4073400" y="2413080"/>
            <a:ext cx="327240" cy="342000"/>
            <a:chOff x="4073400" y="2413080"/>
            <a:chExt cx="327240" cy="342000"/>
          </a:xfrm>
        </p:grpSpPr>
        <p:sp>
          <p:nvSpPr>
            <p:cNvPr id="215" name=""/>
            <p:cNvSpPr/>
            <p:nvPr/>
          </p:nvSpPr>
          <p:spPr>
            <a:xfrm>
              <a:off x="4089240" y="2415960"/>
              <a:ext cx="31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073400" y="2413080"/>
              <a:ext cx="304920" cy="291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4048200" y="3886200"/>
            <a:ext cx="327240" cy="339120"/>
            <a:chOff x="4048200" y="3886200"/>
            <a:chExt cx="327240" cy="339120"/>
          </a:xfrm>
        </p:grpSpPr>
        <p:sp>
          <p:nvSpPr>
            <p:cNvPr id="218" name=""/>
            <p:cNvSpPr/>
            <p:nvPr/>
          </p:nvSpPr>
          <p:spPr>
            <a:xfrm>
              <a:off x="4064040" y="3886200"/>
              <a:ext cx="31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048200" y="3895560"/>
              <a:ext cx="304560" cy="292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2909160" y="2975040"/>
            <a:ext cx="146520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shiftMouse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792880" y="4100400"/>
            <a:ext cx="137376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trlMouse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4"/>
          <a:stretch/>
        </p:blipFill>
        <p:spPr>
          <a:xfrm>
            <a:off x="673200" y="4067280"/>
            <a:ext cx="1828800" cy="213336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282680" y="3457440"/>
            <a:ext cx="0" cy="62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282680" y="345744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652840" y="3051000"/>
            <a:ext cx="0" cy="42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282680" y="3247920"/>
            <a:ext cx="128232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altMouse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1344600" y="3678120"/>
            <a:ext cx="399240" cy="354960"/>
            <a:chOff x="1344600" y="3678120"/>
            <a:chExt cx="399240" cy="354960"/>
          </a:xfrm>
        </p:grpSpPr>
        <p:sp>
          <p:nvSpPr>
            <p:cNvPr id="228" name=""/>
            <p:cNvSpPr/>
            <p:nvPr/>
          </p:nvSpPr>
          <p:spPr>
            <a:xfrm>
              <a:off x="1347120" y="3693960"/>
              <a:ext cx="39672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344600" y="3678120"/>
              <a:ext cx="353880" cy="343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77840" y="914040"/>
            <a:ext cx="6748560" cy="49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777777"/>
            </a:outerShdw>
          </a:effectLst>
        </p:spPr>
        <p:txBody>
          <a:bodyPr lIns="63360" rIns="63360" tIns="25560" bIns="25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Keywords from previous presentations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Natural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Gardening metaph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Runtime tailor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Domain-expert u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From abstract to concr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From concrete to abs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223800" y="914040"/>
            <a:ext cx="2452680" cy="49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777777"/>
            </a:outerShdw>
          </a:effectLst>
        </p:spPr>
        <p:txBody>
          <a:bodyPr lIns="63360" rIns="63360" tIns="25560" bIns="25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Planned work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914400" y="1447920"/>
            <a:ext cx="76183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Arial"/>
              </a:rPr>
              <a:t>Tools and techniques for artificial selection </a:t>
            </a:r>
            <a:r>
              <a:rPr b="0" lang="en-AU" sz="2400" spc="-1" strike="noStrike">
                <a:solidFill>
                  <a:srgbClr val="ff0000"/>
                </a:solidFill>
                <a:latin typeface="Arial"/>
              </a:rPr>
              <a:t>(“application pruning”)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0000"/>
                </a:solidFill>
                <a:latin typeface="Arial"/>
              </a:rPr>
              <a:t>interven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0000"/>
                </a:solidFill>
                <a:latin typeface="Arial"/>
              </a:rPr>
              <a:t>de-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0000"/>
                </a:solidFill>
                <a:latin typeface="Arial"/>
              </a:rPr>
              <a:t>conser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Arial"/>
              </a:rPr>
              <a:t>Component-based systems with embedded “gardening”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Arial"/>
              </a:rPr>
              <a:t>Artificial selection as abstraction mechanism for turning components “off” during execution to cope with superfluous functionality grow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403080" y="914040"/>
            <a:ext cx="2062440" cy="49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777777"/>
            </a:outerShdw>
          </a:effectLst>
        </p:spPr>
        <p:txBody>
          <a:bodyPr lIns="63360" rIns="63360" tIns="25560" bIns="25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References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14400" y="1447920"/>
            <a:ext cx="761832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Arial"/>
              </a:rPr>
              <a:t>An elaborated version of this presentation can be found in the following pap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ørch, A.I. Evolutionary Growth and Control in User Tailorable Systems. In Adaptive Evolutionary Information Systems. N. Patel (ed.). Idea Group Publishing, 2002. </a:t>
            </a:r>
            <a:br>
              <a:rPr sz="2000"/>
            </a:br>
            <a:br>
              <a:rPr sz="20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may take time to download .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	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intermedia.uio.no/ansatte/morch/research/publications/ead/02Chap.pd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781440" y="837720"/>
            <a:ext cx="1365120" cy="49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777777"/>
            </a:outerShdw>
          </a:effectLst>
        </p:spPr>
        <p:txBody>
          <a:bodyPr lIns="63360" rIns="63360" tIns="25560" bIns="25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User participation in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Evolution as guiding principle 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c0128"/>
                </a:solidFill>
                <a:latin typeface="Arial"/>
              </a:rPr>
              <a:t>From natural to artificial ev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c0128"/>
                </a:solidFill>
                <a:latin typeface="Arial"/>
              </a:rPr>
              <a:t>End users as initiators of evolutionary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Level of abstraction appropriate for user participati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en-AU" sz="2400" spc="-1" strike="noStrike">
                <a:solidFill>
                  <a:srgbClr val="ff0000"/>
                </a:solidFill>
                <a:latin typeface="Arial"/>
              </a:rPr>
              <a:t>gardening</a:t>
            </a:r>
            <a:r>
              <a:rPr b="0" lang="nb-NO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etaph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Past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Planned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920" y="837720"/>
            <a:ext cx="5876640" cy="49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777777"/>
            </a:outerShdw>
          </a:effectLst>
        </p:spPr>
        <p:txBody>
          <a:bodyPr lIns="63360" rIns="63360" tIns="25560" bIns="25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User participation in development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279f"/>
                </a:solidFill>
                <a:latin typeface="Arial"/>
              </a:rPr>
              <a:t>User participation in Scandinavian system development has been about how to involve users in the early stages of development </a:t>
            </a:r>
            <a:r>
              <a:rPr b="0" lang="en-AU" sz="2400" spc="-1" strike="noStrike">
                <a:solidFill>
                  <a:srgbClr val="ff0000"/>
                </a:solidFill>
                <a:latin typeface="Arial"/>
              </a:rPr>
              <a:t>(analysis and design)</a:t>
            </a:r>
            <a:r>
              <a:rPr b="0" lang="en-AU" sz="2800" spc="-1" strike="noStrike">
                <a:solidFill>
                  <a:srgbClr val="00279f"/>
                </a:solidFill>
                <a:latin typeface="Arial"/>
              </a:rPr>
              <a:t> and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279f"/>
                </a:solidFill>
                <a:latin typeface="Arial"/>
              </a:rPr>
              <a:t>This is appropriate for easy-to-use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279f"/>
                </a:solidFill>
                <a:latin typeface="Arial"/>
              </a:rPr>
              <a:t>One of the main EUD-Net goal is to move from easy-to-use to easy-to-develop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00279f"/>
                </a:solidFill>
                <a:latin typeface="Arial"/>
              </a:rPr>
              <a:t>Our interest</a:t>
            </a:r>
            <a:r>
              <a:rPr b="0" lang="en-AU" sz="2800" spc="-1" strike="noStrike">
                <a:solidFill>
                  <a:srgbClr val="00279f"/>
                </a:solidFill>
                <a:latin typeface="Arial"/>
              </a:rPr>
              <a:t>: Users as </a:t>
            </a:r>
            <a:r>
              <a:rPr b="0" i="1" lang="en-AU" sz="2800" spc="-1" strike="noStrike">
                <a:solidFill>
                  <a:srgbClr val="00279f"/>
                </a:solidFill>
                <a:latin typeface="Arial"/>
              </a:rPr>
              <a:t>active</a:t>
            </a:r>
            <a:r>
              <a:rPr b="0" lang="en-AU" sz="2800" spc="-1" strike="noStrike">
                <a:solidFill>
                  <a:srgbClr val="00279f"/>
                </a:solidFill>
                <a:latin typeface="Arial"/>
              </a:rPr>
              <a:t> participants in the </a:t>
            </a:r>
            <a:r>
              <a:rPr b="0" i="1" lang="en-AU" sz="2800" spc="-1" strike="noStrike">
                <a:solidFill>
                  <a:srgbClr val="00279f"/>
                </a:solidFill>
                <a:latin typeface="Arial"/>
              </a:rPr>
              <a:t>further</a:t>
            </a:r>
            <a:r>
              <a:rPr b="0" lang="en-AU" sz="2800" spc="-1" strike="noStrike">
                <a:solidFill>
                  <a:srgbClr val="00279f"/>
                </a:solidFill>
                <a:latin typeface="Arial"/>
              </a:rPr>
              <a:t> development of existing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837720"/>
            <a:ext cx="6507000" cy="49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777777"/>
            </a:outerShdw>
          </a:effectLst>
        </p:spPr>
        <p:txBody>
          <a:bodyPr lIns="63360" rIns="63360" tIns="25560" bIns="25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3333cc"/>
                </a:solidFill>
                <a:latin typeface="Arial"/>
              </a:rPr>
              <a:t>Natural evolution as guiding principle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523880"/>
            <a:ext cx="78487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Arial"/>
              </a:rPr>
              <a:t>Evolution by incrementally making small changes to existing systems over long time works remarkab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Arial"/>
              </a:rPr>
              <a:t>A step beyond ”one shot” framework instantiation </a:t>
            </a:r>
            <a:r>
              <a:rPr b="0" lang="en-AU" sz="2400" spc="-1" strike="noStrike">
                <a:solidFill>
                  <a:srgbClr val="ff0000"/>
                </a:solidFill>
                <a:latin typeface="Arial"/>
              </a:rPr>
              <a:t>(e.g. spreadsheet develop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Arial"/>
              </a:rPr>
              <a:t>Principles of natural evolution have been</a:t>
            </a:r>
            <a:r>
              <a:rPr b="0" lang="en-AU" sz="28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3333cc"/>
                </a:solidFill>
                <a:latin typeface="Arial"/>
              </a:rPr>
              <a:t>successfully adopted in many other domains </a:t>
            </a:r>
            <a:r>
              <a:rPr b="0" lang="en-AU" sz="2400" spc="-1" strike="noStrike">
                <a:solidFill>
                  <a:srgbClr val="ff0000"/>
                </a:solidFill>
                <a:latin typeface="Arial"/>
              </a:rPr>
              <a:t>(building architecture, evolution of everyday tools,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Arial"/>
              </a:rPr>
              <a:t>Two levels of evolution: </a:t>
            </a:r>
            <a:r>
              <a:rPr b="0" i="1" lang="en-AU" sz="2800" spc="-1" strike="noStrike">
                <a:solidFill>
                  <a:srgbClr val="3333cc"/>
                </a:solidFill>
                <a:latin typeface="Arial"/>
              </a:rPr>
              <a:t>species</a:t>
            </a:r>
            <a:r>
              <a:rPr b="0" lang="en-AU" sz="2800" spc="-1" strike="noStrike">
                <a:solidFill>
                  <a:srgbClr val="3333cc"/>
                </a:solidFill>
                <a:latin typeface="Arial"/>
              </a:rPr>
              <a:t> and </a:t>
            </a:r>
            <a:r>
              <a:rPr b="0" i="1" lang="en-AU" sz="2800" spc="-1" strike="noStrike">
                <a:solidFill>
                  <a:srgbClr val="3333cc"/>
                </a:solidFill>
                <a:latin typeface="Arial"/>
              </a:rPr>
              <a:t>individ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76160" y="990720"/>
            <a:ext cx="5281560" cy="490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777777"/>
            </a:outerShdw>
          </a:effectLst>
        </p:spPr>
        <p:txBody>
          <a:bodyPr lIns="63360" rIns="63360" tIns="25560" bIns="25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3333cc"/>
                </a:solidFill>
                <a:latin typeface="Arial"/>
              </a:rPr>
              <a:t>Two kinds of natural evolution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182880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Phylogenetic evolution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: The evolution of specie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our gene pool; the gene pool of tre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Ontogenetic evolution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: The evolution of an individual member of a specie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you and me;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tree outside the building we’re 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Hypothesis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: Natural evolution can serve as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nalogy to identify and explain differences between two kinds of software ev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49160" y="914040"/>
            <a:ext cx="5559480" cy="49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777777"/>
            </a:outerShdw>
          </a:effectLst>
        </p:spPr>
        <p:txBody>
          <a:bodyPr lIns="63360" rIns="63360" tIns="25560" bIns="25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Two kinds of software evolution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1676520"/>
            <a:ext cx="74678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Programming language evolution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: The evolution of programming languages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e.g., Simula 67 =&gt; C++ =&gt; Jav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800" spc="-1" strike="noStrike">
                <a:solidFill>
                  <a:srgbClr val="3333cc"/>
                </a:solidFill>
                <a:latin typeface="Arial"/>
              </a:rPr>
              <a:t>Program</a:t>
            </a: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 evolution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: The evolution of an individual membe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a program, an application)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created from a programming languag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Word 1 =&gt; Word 4.0 =&gt; Word 97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rogram evolution was firs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seriously)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tre-ated by Lehman and Belady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IBM OS/36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8280" y="990360"/>
            <a:ext cx="3384360" cy="13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777777"/>
            </a:outerShdw>
          </a:effectLst>
        </p:spPr>
        <p:txBody>
          <a:bodyPr lIns="63360" rIns="63360" tIns="25560" bIns="25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Program evolution 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and  programming 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language evolution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28120" y="1676520"/>
            <a:ext cx="20260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Times New Roman"/>
              </a:rPr>
              <a:t>Layers of program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Times New Roman"/>
              </a:rPr>
              <a:t>code in an applic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54880" y="4114800"/>
            <a:ext cx="226548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Times New Roman"/>
              </a:rPr>
              <a:t>Programming languag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4114800" y="2362320"/>
            <a:ext cx="3733920" cy="1433520"/>
            <a:chOff x="4114800" y="2362320"/>
            <a:chExt cx="3733920" cy="1433520"/>
          </a:xfrm>
        </p:grpSpPr>
        <p:sp>
          <p:nvSpPr>
            <p:cNvPr id="66" name=""/>
            <p:cNvSpPr/>
            <p:nvPr/>
          </p:nvSpPr>
          <p:spPr>
            <a:xfrm>
              <a:off x="5586480" y="3416400"/>
              <a:ext cx="159048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253840" y="2362320"/>
              <a:ext cx="131760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Domain-oriented</a:t>
              </a:r>
              <a:br>
                <a:rPr sz="1400"/>
              </a:b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648320" y="2743200"/>
              <a:ext cx="2617560" cy="30492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175000" y="2819520"/>
              <a:ext cx="1530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Generic extens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367160" y="3048120"/>
              <a:ext cx="3252960" cy="30456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68640" y="3124080"/>
              <a:ext cx="23216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Tailorable generic applic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14800" y="3352680"/>
              <a:ext cx="3733920" cy="30492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14920" y="3429000"/>
              <a:ext cx="26402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Application integration framewor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029200" y="2362320"/>
              <a:ext cx="18288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1066680" y="4572000"/>
            <a:ext cx="4191120" cy="1600200"/>
            <a:chOff x="1066680" y="4572000"/>
            <a:chExt cx="4191120" cy="1600200"/>
          </a:xfrm>
        </p:grpSpPr>
        <p:sp>
          <p:nvSpPr>
            <p:cNvPr id="76" name=""/>
            <p:cNvSpPr/>
            <p:nvPr/>
          </p:nvSpPr>
          <p:spPr>
            <a:xfrm>
              <a:off x="2306520" y="4572000"/>
              <a:ext cx="158580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Visual programming</a:t>
              </a:r>
              <a:br>
                <a:rPr sz="1400"/>
              </a:b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languages (VPL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828800" y="4953240"/>
              <a:ext cx="2617560" cy="30456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356200" y="5029200"/>
              <a:ext cx="15688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cript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47640" y="5257800"/>
              <a:ext cx="3252960" cy="30492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125080" y="5334120"/>
              <a:ext cx="20948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Object-oriented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295280" y="5562720"/>
              <a:ext cx="3733920" cy="30492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739160" y="5639040"/>
              <a:ext cx="2952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Binary languages (e.g. Java bytcod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209680" y="4572000"/>
              <a:ext cx="1828800" cy="381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066680" y="5867640"/>
              <a:ext cx="419112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666440" y="5943600"/>
              <a:ext cx="3083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Hardware description languages (HDL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5562720" y="5181480"/>
            <a:ext cx="2057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637600" y="4876920"/>
            <a:ext cx="182196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Times New Roman"/>
              </a:rPr>
              <a:t>Language evolu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914400" y="4648320"/>
            <a:ext cx="83808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8001000" y="1980720"/>
            <a:ext cx="0" cy="167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5400000">
            <a:off x="7399800" y="2705040"/>
            <a:ext cx="173664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Times New Roman"/>
              </a:rPr>
              <a:t>Program evolu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18391800">
            <a:off x="667440" y="4970520"/>
            <a:ext cx="10173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Trans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208160" y="2895480"/>
            <a:ext cx="287640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ach layer can be implemented 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same (or a different)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057400" y="33526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2057400" y="2666520"/>
            <a:ext cx="1905120" cy="228600"/>
            <a:chOff x="2057400" y="2666520"/>
            <a:chExt cx="1905120" cy="228600"/>
          </a:xfrm>
        </p:grpSpPr>
        <p:sp>
          <p:nvSpPr>
            <p:cNvPr id="95" name=""/>
            <p:cNvSpPr/>
            <p:nvPr/>
          </p:nvSpPr>
          <p:spPr>
            <a:xfrm>
              <a:off x="2057400" y="2666880"/>
              <a:ext cx="1905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2057400" y="266652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413320" y="5410080"/>
            <a:ext cx="24685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E.g. HDL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=&gt; HDL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=&gt; HDL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imula 67 =&gt; C++ =&gt; Jav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880" y="837720"/>
            <a:ext cx="5894640" cy="49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777777"/>
            </a:outerShdw>
          </a:effectLst>
        </p:spPr>
        <p:txBody>
          <a:bodyPr lIns="63360" rIns="63360" tIns="25560" bIns="25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3333cc"/>
                </a:solidFill>
                <a:latin typeface="Arial"/>
              </a:rPr>
              <a:t>From natural to artificial evolution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144792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279f"/>
                </a:solidFill>
                <a:latin typeface="Arial"/>
              </a:rPr>
              <a:t>NL works by two basic mechanisms: genetic </a:t>
            </a:r>
            <a:r>
              <a:rPr b="0" i="1" lang="en-AU" sz="2800" spc="-1" strike="noStrike">
                <a:solidFill>
                  <a:srgbClr val="00279f"/>
                </a:solidFill>
                <a:latin typeface="Arial"/>
              </a:rPr>
              <a:t>variation</a:t>
            </a:r>
            <a:r>
              <a:rPr b="0" lang="en-AU" sz="2800" spc="-1" strike="noStrike">
                <a:solidFill>
                  <a:srgbClr val="00279f"/>
                </a:solidFill>
                <a:latin typeface="Arial"/>
              </a:rPr>
              <a:t> and natural </a:t>
            </a:r>
            <a:r>
              <a:rPr b="0" i="1" lang="en-AU" sz="2800" spc="-1" strike="noStrike">
                <a:solidFill>
                  <a:srgbClr val="00279f"/>
                </a:solidFill>
                <a:latin typeface="Arial"/>
              </a:rPr>
              <a:t>selection</a:t>
            </a:r>
            <a:r>
              <a:rPr b="0" lang="en-AU" sz="2800" spc="-1" strike="noStrike">
                <a:solidFill>
                  <a:srgbClr val="00279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279f"/>
                </a:solidFill>
                <a:latin typeface="Arial"/>
              </a:rPr>
              <a:t>Genetic variation is a </a:t>
            </a:r>
            <a:r>
              <a:rPr b="0" i="1" lang="en-AU" sz="2800" spc="-1" strike="noStrike">
                <a:solidFill>
                  <a:srgbClr val="00279f"/>
                </a:solidFill>
                <a:latin typeface="Arial"/>
              </a:rPr>
              <a:t>micro</a:t>
            </a:r>
            <a:r>
              <a:rPr b="0" lang="en-AU" sz="2800" spc="-1" strike="noStrike">
                <a:solidFill>
                  <a:srgbClr val="00279f"/>
                </a:solidFill>
                <a:latin typeface="Arial"/>
              </a:rPr>
              <a:t> level mechanism that can cause permanent </a:t>
            </a:r>
            <a:r>
              <a:rPr b="0" lang="en-AU" sz="2400" spc="-1" strike="noStrike">
                <a:solidFill>
                  <a:srgbClr val="ff0000"/>
                </a:solidFill>
                <a:latin typeface="Arial"/>
              </a:rPr>
              <a:t>(inheritable)</a:t>
            </a:r>
            <a:r>
              <a:rPr b="0" lang="en-AU" sz="2800" spc="-1" strike="noStrike">
                <a:solidFill>
                  <a:srgbClr val="00279f"/>
                </a:solidFill>
                <a:latin typeface="Arial"/>
              </a:rPr>
              <a:t> change in an organism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279f"/>
                </a:solidFill>
                <a:latin typeface="Arial"/>
              </a:rPr>
              <a:t>Natural selection is a </a:t>
            </a:r>
            <a:r>
              <a:rPr b="0" i="1" lang="en-AU" sz="2800" spc="-1" strike="noStrike">
                <a:solidFill>
                  <a:srgbClr val="00279f"/>
                </a:solidFill>
                <a:latin typeface="Arial"/>
              </a:rPr>
              <a:t>macro</a:t>
            </a:r>
            <a:r>
              <a:rPr b="0" lang="en-AU" sz="2800" spc="-1" strike="noStrike">
                <a:solidFill>
                  <a:srgbClr val="00279f"/>
                </a:solidFill>
                <a:latin typeface="Arial"/>
              </a:rPr>
              <a:t> mechanism that </a:t>
            </a:r>
            <a:br>
              <a:rPr sz="2800"/>
            </a:br>
            <a:r>
              <a:rPr b="0" lang="en-AU" sz="2800" spc="-1" strike="noStrike">
                <a:solidFill>
                  <a:srgbClr val="00279f"/>
                </a:solidFill>
                <a:latin typeface="Arial"/>
              </a:rPr>
              <a:t>is caused by external </a:t>
            </a:r>
            <a:r>
              <a:rPr b="0" lang="en-AU" sz="2400" spc="-1" strike="noStrike">
                <a:solidFill>
                  <a:srgbClr val="ff0000"/>
                </a:solidFill>
                <a:latin typeface="Arial"/>
              </a:rPr>
              <a:t>(environmental)</a:t>
            </a:r>
            <a:r>
              <a:rPr b="0" lang="en-AU" sz="2800" spc="-1" strike="noStrike">
                <a:solidFill>
                  <a:srgbClr val="00279f"/>
                </a:solidFill>
                <a:latin typeface="Arial"/>
              </a:rPr>
              <a:t> fa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279f"/>
                </a:solidFill>
                <a:latin typeface="Arial"/>
              </a:rPr>
              <a:t>The mechanisms are outside the reach of individuals and create a </a:t>
            </a:r>
            <a:r>
              <a:rPr b="0" i="1" lang="en-AU" sz="2800" spc="-1" strike="noStrike">
                <a:solidFill>
                  <a:srgbClr val="00279f"/>
                </a:solidFill>
                <a:latin typeface="Arial"/>
              </a:rPr>
              <a:t>micro/macro g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7T22:27:11Z</dcterms:created>
  <dc:creator>anders</dc:creator>
  <dc:description/>
  <dc:language>en-US</dc:language>
  <cp:lastModifiedBy>Universitetsansatt</cp:lastModifiedBy>
  <cp:lastPrinted>2001-11-17T15:45:34Z</cp:lastPrinted>
  <dcterms:modified xsi:type="dcterms:W3CDTF">2002-09-28T20:21:48Z</dcterms:modified>
  <cp:revision>327</cp:revision>
  <dc:subject/>
  <dc:title>PowerPoint Presentation  -  Method and Rationale for Evolutionary Application Development</dc:title>
</cp:coreProperties>
</file>