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4173E-FE9D-418E-A81E-B84674FE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C89E0-627E-44E1-B2CB-A60B931D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E101F-D6A3-4F43-AFCF-0ACAA1F6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78D41-FB89-4F45-8E13-E07F0786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E2214-2FB6-4D20-95AC-D6B77B1E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D63C2-4DED-4B5C-8D80-6D58C272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0A480-CCCE-4C3A-A869-9AF4F25B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E7B13-7E54-40F8-B08E-BEB7C0D6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4CEEC-0027-4668-91E6-0FEF0D76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A425E-970E-437A-8D57-5F9006DA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0546F-A67D-4A87-950F-78472D09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39232-96B9-40FA-BD89-B12516FB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1981080" y="640080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UD-Net Workshop, Pisa, September 2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2002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6400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10DA-9031-46EC-9940-CDA5C901D3B4}" type="slidenum">
              <a:rPr b="0" lang="it-IT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0" y="5950080"/>
            <a:ext cx="1066680" cy="90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43D6-DE05-475D-AE4D-B911E14030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00400" y="3409920"/>
            <a:ext cx="2590920" cy="2206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End-User Development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 Empowering people to flexibly employ advanced information and communication technology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53341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23-24 September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Pisa (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Information dissemi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0178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3.1 Survey of member research projects, tools, and PhD studies - Responsible partner: FhG/FIT - Man-power: 3.4 person/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3.2 Proceedings workshop organised in conjunction with a main conference- Responsible partner: UMIST- Man-power: 3 person/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3.3 Network web site - Responsible partner: CNR - Man-power: 5 person/mon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val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017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4.1 Evaluation report; including annotated recommendations for improvements  - Responsible partner: UNIBA - Man-power: 10 person/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953120" cy="14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Management and administ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00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5.1 Progress and administrative reports - Responsible partner: CNR - Man-power: 6,5 person/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5.2 Minutes of the executive committee meetings - - Responsible partner: CNR - Man-power: 5 person/mon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ommunication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7600" y="2361960"/>
            <a:ext cx="8726400" cy="36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Web server (http://giove.cnuce.cnr.it/eud-net.ht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BCSW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e for the network management committee to discuss management issue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e for the network management committee and industrial partners to discuss issues related to the network management and industrial impact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e for all the network members to discuss network related issues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e open to the worldwide community to discuss issues related to end-user developmen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This worksh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361960"/>
            <a:ext cx="77724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Background 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iscussion 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S expe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otential EU-US co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Next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88568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 help the European Commission to prepare a research agenda in the end-user development field for the next framewor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 increase contacts among highly-qualified research centres, both academic and industrial, in order to speed-up the production of innovative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moting end-user development principles and practices through a mix of activities, including workshops and participation in international ev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ew CAMELEON Project - Pisa - September 17 200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Initial consorti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33720" y="1817640"/>
            <a:ext cx="624816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esearch Top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991720" cy="43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Adaptive, adaptable and innovative interaction techniqu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RAUNHOFER-FIT, ISTI-C.N.R., Univ. Bar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Philips, University of Paris Sud, University of Bari, Telecom Italia Lab, CENA, Sieme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Visual modelling and multimedia environ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STI-C.N.R., University of Bari, UMIS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Philips, University of Tolouse, University of Paderborn, Think3, Telecom Italia Lab, CENA, University of Cambrid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ooperative end user programming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RAUNHOFER-FIT, UMIS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University of Oslo, Norway;  Blekinge Institute, Sweden; University Paris-Su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otential Application Dom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361960"/>
            <a:ext cx="77724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obil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AD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R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ir Traffic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Home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lanned activ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ＭＳ 明朝"/>
              </a:rPr>
              <a:t>Two EUD-Net workshops, which are a forum for the discussion of innovative research directions and also include a training element of the development of new research proposal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ＭＳ 明朝"/>
              </a:rPr>
              <a:t>Meetings of subset of network members in conjunction with a large existing conference relevant for the topics of the network (for example CHI, HCI, Interact, ICSE, ESEC, …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ＭＳ 明朝"/>
              </a:rPr>
              <a:t>A programme of short-term exchanges and visits aimed at fostering new research cooperation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ＭＳ 明朝"/>
              </a:rPr>
              <a:t>Constructing and updating every four months a roadmap for trends in end-user developm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ＭＳ 明朝"/>
              </a:rPr>
              <a:t>Surveys of Ph.D. studies in the member node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ＭＳ 明朝"/>
              </a:rPr>
              <a:t>Writing of joint pape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ＭＳ 明朝"/>
              </a:rPr>
              <a:t>Integration of prototypes developed in different sites in related proje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Deliverable li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0" y="1890720"/>
            <a:ext cx="563868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esearch coordi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1100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.1 Roadmap of the field  - Responsible partner: FhG/FIT- Man-power: 4.1 person/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.2 Identification of promising action lines for the EC future programme - Responsible partner: CNR- Man-power: 5 person/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.3 Two EUD-Net workshop reports - Responsible partner: UNIBA- Man-power: 4 person/mon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Industrial co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718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2.1 Action plan for industrial area - Responsible partner: UMIST- Man-power: 5 person/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2.2 Industrial forum report- Responsible partner: CNR - Man-power: 5 person/mon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6:58:51Z</dcterms:created>
  <dc:creator/>
  <dc:description/>
  <dc:language>en-US</dc:language>
  <cp:lastModifiedBy>Fabio Paternò</cp:lastModifiedBy>
  <dcterms:modified xsi:type="dcterms:W3CDTF">2002-09-23T08:06:12Z</dcterms:modified>
  <cp:revision>91</cp:revision>
  <dc:subject/>
  <dc:title>Task model-based design of multiplatform web applications</dc:title>
</cp:coreProperties>
</file>