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6310A-DD2F-4001-B001-72F853ED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4F658-9C55-4BEC-A1D9-89EE181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ED4AE-C256-42EB-9DA6-B48DA1C7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E464A-5A10-49CB-A012-C918A0E4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E003-B6CE-48F4-9A23-1E01758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E54CC-6AE9-4419-9724-F9A0E23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678E-4C7A-4A48-A52C-3A0845C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C44D2-F46F-4E4C-9BE8-6D2A809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904D-D867-4191-8ADA-4F7786D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AA53-144F-4E42-AFB7-C995BBA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46BC-456B-42AF-87AC-F727B85F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419F3-3FBB-4D88-A9F8-902456C6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D-Net Workshop, Pisa, September 2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2002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6400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B6C7-0AC9-48C1-9F7E-6D372062D48E}" type="slidenum">
              <a:rPr b="0" lang="it-IT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5950080"/>
            <a:ext cx="1066680" cy="90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EFBE-9567-48EC-BEE1-43382E962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542916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ml.org/" TargetMode="External"/><Relationship Id="rId2" Type="http://schemas.openxmlformats.org/officeDocument/2006/relationships/hyperlink" Target="http://www.uiml.org/" TargetMode="External"/><Relationship Id="rId3" Type="http://schemas.openxmlformats.org/officeDocument/2006/relationships/hyperlink" Target="http://www.uiml.org/" TargetMode="External"/><Relationship Id="rId4" Type="http://schemas.openxmlformats.org/officeDocument/2006/relationships/hyperlink" Target="http://www.ximl.org/" TargetMode="External"/><Relationship Id="rId5" Type="http://schemas.openxmlformats.org/officeDocument/2006/relationships/hyperlink" Target="http://www.ximl.org/" TargetMode="External"/><Relationship Id="rId6" Type="http://schemas.openxmlformats.org/officeDocument/2006/relationships/hyperlink" Target="http://www.ximl.org/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isual Model-based Design of Multi-platform Interactive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CI Group/ISTI-C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23 September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isa (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position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Grouping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Relation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Ordering (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Hierarchy (</a:t>
            </a:r>
            <a:r>
              <a:rPr b="1" lang="it-IT" sz="3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ESA 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238880" y="5029200"/>
            <a:ext cx="1524240" cy="1600200"/>
            <a:chOff x="7238880" y="5029200"/>
            <a:chExt cx="1524240" cy="1600200"/>
          </a:xfrm>
        </p:grpSpPr>
        <p:sp>
          <p:nvSpPr>
            <p:cNvPr id="231" name=""/>
            <p:cNvSpPr/>
            <p:nvPr/>
          </p:nvSpPr>
          <p:spPr>
            <a:xfrm>
              <a:off x="7238880" y="5029200"/>
              <a:ext cx="1524240" cy="1600200"/>
            </a:xfrm>
            <a:prstGeom prst="flowChartDocumen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5181840"/>
              <a:ext cx="13716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W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XHTML Mob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85800" y="2133720"/>
            <a:ext cx="8152920" cy="4495680"/>
            <a:chOff x="685800" y="2133720"/>
            <a:chExt cx="8152920" cy="4495680"/>
          </a:xfrm>
        </p:grpSpPr>
        <p:sp>
          <p:nvSpPr>
            <p:cNvPr id="234" name=""/>
            <p:cNvSpPr/>
            <p:nvPr/>
          </p:nvSpPr>
          <p:spPr>
            <a:xfrm>
              <a:off x="2438280" y="5257800"/>
              <a:ext cx="327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5800" y="350532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914040" y="3124080"/>
              <a:ext cx="1523880" cy="1600200"/>
              <a:chOff x="914040" y="3124080"/>
              <a:chExt cx="1523880" cy="1600200"/>
            </a:xfrm>
          </p:grpSpPr>
          <p:sp>
            <p:nvSpPr>
              <p:cNvPr id="237" name=""/>
              <p:cNvSpPr/>
              <p:nvPr/>
            </p:nvSpPr>
            <p:spPr>
              <a:xfrm>
                <a:off x="914040" y="312408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90000" y="3276720"/>
                <a:ext cx="1371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ml spec of CTT task mod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885840" y="3886200"/>
              <a:ext cx="1523880" cy="1600200"/>
              <a:chOff x="3885840" y="3886200"/>
              <a:chExt cx="1523880" cy="160020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5840" y="388620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961800" y="3962520"/>
                <a:ext cx="13716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Xml spec of operators &amp; abstract interact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42840" y="4800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914040" y="5029200"/>
              <a:ext cx="1523880" cy="1600200"/>
              <a:chOff x="914040" y="5029200"/>
              <a:chExt cx="1523880" cy="1600200"/>
            </a:xfrm>
          </p:grpSpPr>
          <p:sp>
            <p:nvSpPr>
              <p:cNvPr id="244" name=""/>
              <p:cNvSpPr/>
              <p:nvPr/>
            </p:nvSpPr>
            <p:spPr>
              <a:xfrm>
                <a:off x="914040" y="502920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000" y="5181840"/>
                <a:ext cx="13712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ml spec of Enabled Task Set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590560" y="3124080"/>
              <a:ext cx="75960" cy="327672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486040" y="3505320"/>
              <a:ext cx="182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0080" y="4648320"/>
              <a:ext cx="19044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86040" y="4114800"/>
              <a:ext cx="18284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7640" y="4648320"/>
              <a:ext cx="533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314840" y="2133720"/>
              <a:ext cx="1523880" cy="1600200"/>
              <a:chOff x="7314840" y="2133720"/>
              <a:chExt cx="1523880" cy="160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4840" y="2133720"/>
                <a:ext cx="1523880" cy="1600200"/>
              </a:xfrm>
              <a:prstGeom prst="flowChartDocumen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90800" y="2286360"/>
                <a:ext cx="137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XHTM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200040" y="3429000"/>
              <a:ext cx="30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Abstract User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04920" y="1981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nsformation Environment for inteRactivE Systems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urrent TERESA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50524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figura1" descr=""/>
          <p:cNvPicPr/>
          <p:nvPr/>
        </p:nvPicPr>
        <p:blipFill>
          <a:blip r:embed="rId1"/>
          <a:stretch/>
        </p:blipFill>
        <p:spPr>
          <a:xfrm>
            <a:off x="1890720" y="2017800"/>
            <a:ext cx="6354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Filtering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0480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filtering2" descr=""/>
          <p:cNvPicPr/>
          <p:nvPr/>
        </p:nvPicPr>
        <p:blipFill>
          <a:blip r:embed="rId1"/>
          <a:stretch/>
        </p:blipFill>
        <p:spPr>
          <a:xfrm>
            <a:off x="2236680" y="2017800"/>
            <a:ext cx="59166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XML AIU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51452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xml-spec" descr=""/>
          <p:cNvPicPr/>
          <p:nvPr/>
        </p:nvPicPr>
        <p:blipFill>
          <a:blip r:embed="rId1"/>
          <a:stretch/>
        </p:blipFill>
        <p:spPr>
          <a:xfrm>
            <a:off x="2344680" y="2017800"/>
            <a:ext cx="59612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Initial layout for the prototyp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global%20parameters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efining implementation of composition ope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perators" descr=""/>
          <p:cNvPicPr/>
          <p:nvPr/>
        </p:nvPicPr>
        <p:blipFill>
          <a:blip r:embed="rId1"/>
          <a:stretch/>
        </p:blipFill>
        <p:spPr>
          <a:xfrm>
            <a:off x="2743200" y="2017800"/>
            <a:ext cx="43830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hanging design deci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presentazione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6354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46000" y="609120"/>
            <a:ext cx="829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 of the design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48112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summary" descr=""/>
          <p:cNvPicPr/>
          <p:nvPr/>
        </p:nvPicPr>
        <p:blipFill>
          <a:blip r:embed="rId1"/>
          <a:stretch/>
        </p:blipFill>
        <p:spPr>
          <a:xfrm>
            <a:off x="3011400" y="2017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xample of phon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mobile-pres1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968560" cy="3657600"/>
          </a:xfrm>
          <a:prstGeom prst="rect">
            <a:avLst/>
          </a:prstGeom>
          <a:ln w="0">
            <a:noFill/>
          </a:ln>
        </p:spPr>
      </p:pic>
      <p:pic>
        <p:nvPicPr>
          <p:cNvPr id="277" name="mobile-pres3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967120" cy="3657600"/>
          </a:xfrm>
          <a:prstGeom prst="rect">
            <a:avLst/>
          </a:prstGeom>
          <a:ln w="0">
            <a:noFill/>
          </a:ln>
        </p:spPr>
      </p:pic>
      <p:pic>
        <p:nvPicPr>
          <p:cNvPr id="278" name="mobile-pres4" descr=""/>
          <p:cNvPicPr/>
          <p:nvPr/>
        </p:nvPicPr>
        <p:blipFill>
          <a:blip r:embed="rId3"/>
          <a:stretch/>
        </p:blipFill>
        <p:spPr>
          <a:xfrm>
            <a:off x="6175440" y="1981080"/>
            <a:ext cx="2968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ation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ver-increasing introduction of new types of interactive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pplications often need to be accessed through different interactive de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w to support designers and develop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How to obtain interfaces able to adapt to different targets while preserving usabil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ew CAMELEON Project - Pisa - September 17 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5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xample of desktop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desktop-pres1" descr=""/>
          <p:cNvPicPr/>
          <p:nvPr/>
        </p:nvPicPr>
        <p:blipFill>
          <a:blip r:embed="rId1"/>
          <a:stretch/>
        </p:blipFill>
        <p:spPr>
          <a:xfrm>
            <a:off x="3378240" y="2017800"/>
            <a:ext cx="337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rom 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ystem task model to abstract user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hift from task to abstract interaction objec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culation of enable task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uristics for optimization in terms of presentation sets and trans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pping presentation task sets into sets of abstract interaction objects and dialo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 context-dependent information in a set of models that can be used at design-time and run-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tools using information contained in the models to drive the design and development of usable interfaces for multi-targe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Techniques/components supporting development of adaptive/context-depend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ome case studies for validating the methods, techniques an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ask –related issues in multiplatform 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65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ame task on multiple platforms in the same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asks meaningful only on a single platform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pendencies among tasks performed on different plat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ame task on multiple platforms but performed in different man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ne model, many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1472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mpaqArchRomAmb1" descr=""/>
          <p:cNvPicPr/>
          <p:nvPr/>
        </p:nvPicPr>
        <p:blipFill>
          <a:blip r:embed="rId1"/>
          <a:stretch/>
        </p:blipFill>
        <p:spPr>
          <a:xfrm>
            <a:off x="7372440" y="4724280"/>
            <a:ext cx="11206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1371600" y="4800600"/>
            <a:ext cx="2400480" cy="1676520"/>
            <a:chOff x="1371600" y="4800600"/>
            <a:chExt cx="2400480" cy="1676520"/>
          </a:xfrm>
        </p:grpSpPr>
        <p:pic>
          <p:nvPicPr>
            <p:cNvPr id="112" name="computer" descr=""/>
            <p:cNvPicPr/>
            <p:nvPr/>
          </p:nvPicPr>
          <p:blipFill>
            <a:blip r:embed="rId2"/>
            <a:stretch/>
          </p:blipFill>
          <p:spPr>
            <a:xfrm>
              <a:off x="1371600" y="4800600"/>
              <a:ext cx="24004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romana" descr=""/>
            <p:cNvPicPr/>
            <p:nvPr/>
          </p:nvPicPr>
          <p:blipFill>
            <a:blip r:embed="rId3"/>
            <a:stretch/>
          </p:blipFill>
          <p:spPr>
            <a:xfrm>
              <a:off x="1752480" y="5206680"/>
              <a:ext cx="99072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wap" descr=""/>
          <p:cNvPicPr/>
          <p:nvPr/>
        </p:nvPicPr>
        <p:blipFill>
          <a:blip r:embed="rId4"/>
          <a:stretch/>
        </p:blipFill>
        <p:spPr>
          <a:xfrm>
            <a:off x="4608360" y="4800600"/>
            <a:ext cx="648000" cy="1752480"/>
          </a:xfrm>
          <a:prstGeom prst="rect">
            <a:avLst/>
          </a:prstGeom>
          <a:ln w="0">
            <a:noFill/>
          </a:ln>
        </p:spPr>
      </p:pic>
      <p:pic>
        <p:nvPicPr>
          <p:cNvPr id="115" name="museo1" descr=""/>
          <p:cNvPicPr/>
          <p:nvPr/>
        </p:nvPicPr>
        <p:blipFill>
          <a:blip r:embed="rId5"/>
          <a:stretch/>
        </p:blipFill>
        <p:spPr>
          <a:xfrm>
            <a:off x="2743200" y="1873080"/>
            <a:ext cx="3505320" cy="1986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0000">
            <a:off x="2743200" y="3886200"/>
            <a:ext cx="557280" cy="91440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8571000">
            <a:off x="4494960" y="3733920"/>
            <a:ext cx="420840" cy="102240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6415800">
            <a:off x="6659280" y="3474360"/>
            <a:ext cx="593640" cy="1415520"/>
          </a:xfrm>
          <a:prstGeom prst="lightningBol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ERESA in the Reference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27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eresa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724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048120"/>
            <a:ext cx="1371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143360" y="2743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2371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7840" y="2786040"/>
            <a:ext cx="2253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7840" y="2786040"/>
            <a:ext cx="2253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057400"/>
            <a:ext cx="386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ask model for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nvisioned nomadic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276720"/>
            <a:ext cx="23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– desktop   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5920" y="3276720"/>
            <a:ext cx="23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– cellphone  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276720"/>
            <a:ext cx="201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System task model (p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1240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3880" y="2971800"/>
            <a:ext cx="19051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33920" y="3048120"/>
            <a:ext cx="4572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2971800"/>
            <a:ext cx="3124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22860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71800" y="2590920"/>
            <a:ext cx="2056680" cy="434520"/>
            <a:chOff x="2971800" y="2590920"/>
            <a:chExt cx="2056680" cy="434520"/>
          </a:xfrm>
        </p:grpSpPr>
        <p:sp>
          <p:nvSpPr>
            <p:cNvPr id="138" name=""/>
            <p:cNvSpPr/>
            <p:nvPr/>
          </p:nvSpPr>
          <p:spPr>
            <a:xfrm>
              <a:off x="2971800" y="2590920"/>
              <a:ext cx="2056680" cy="4345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4160" y="2677680"/>
              <a:ext cx="1371600" cy="276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ahoma"/>
                </a:rPr>
                <a:t>Filter + Ref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95280" y="37339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3434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 cell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4100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Openwave      …          No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WML,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HTML Mobile, VoiceXML,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43434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desk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541008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Multimedia PC   Graphical PC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Low res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HTML, …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7339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3434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bstract UI –  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410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alm       …       Compaq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35053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800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62120" y="4800600"/>
            <a:ext cx="3808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4800600"/>
            <a:ext cx="1143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120" y="4800600"/>
            <a:ext cx="7621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48006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4800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238520" y="4800600"/>
            <a:ext cx="3812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User Interface Markup Language (U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uim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Mainly developed by Harmonia and Virginia Te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Abstract User Interface Markup Language (AU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XML vocabulary designed to allow the intent of an interaction with a user to be defined.  This work has mainly been carried out at IB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eXtensible Interface Markup Language (XIML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tp://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ximl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n extensible XML specification language for multiple facets of multiple models in a model-based approach. This is developed by a forum driven by RedWhale software (HP and Applied material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119160" y="1081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_s1123"/>
          <p:cNvCxnSpPr>
            <a:stCxn id="162" idx="0"/>
            <a:endCxn id="163" idx="2"/>
          </p:cNvCxnSpPr>
          <p:nvPr/>
        </p:nvCxnSpPr>
        <p:spPr>
          <a:xfrm flipV="1" rot="16200000">
            <a:off x="7499520" y="4869000"/>
            <a:ext cx="168840" cy="183240"/>
          </a:xfrm>
          <a:prstGeom prst="bentConnector3">
            <a:avLst>
              <a:gd name="adj1" fmla="val 50000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64" name="_s1121"/>
          <p:cNvCxnSpPr/>
          <p:nvPr/>
        </p:nvCxnSpPr>
        <p:spPr>
          <a:xfrm flipH="1" flipV="1" rot="5400000">
            <a:off x="6943680" y="4584240"/>
            <a:ext cx="168840" cy="9086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5" name="_s1119"/>
          <p:cNvCxnSpPr>
            <a:stCxn id="166" idx="0"/>
          </p:cNvCxnSpPr>
          <p:nvPr/>
        </p:nvCxnSpPr>
        <p:spPr>
          <a:xfrm flipV="1" rot="16200000">
            <a:off x="4354560" y="4367520"/>
            <a:ext cx="145440" cy="11372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7" name="_s1115"/>
          <p:cNvCxnSpPr/>
          <p:nvPr/>
        </p:nvCxnSpPr>
        <p:spPr>
          <a:xfrm flipH="1" flipV="1" rot="5400000">
            <a:off x="3665160" y="4782600"/>
            <a:ext cx="306720" cy="183240"/>
          </a:xfrm>
          <a:prstGeom prst="bentConnector3">
            <a:avLst>
              <a:gd name="adj1" fmla="val 4653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68" name="_s1105"/>
          <p:cNvCxnSpPr>
            <a:stCxn id="169" idx="0"/>
            <a:endCxn id="170" idx="2"/>
          </p:cNvCxnSpPr>
          <p:nvPr/>
        </p:nvCxnSpPr>
        <p:spPr>
          <a:xfrm flipV="1" rot="16200000">
            <a:off x="5217480" y="4038480"/>
            <a:ext cx="322920" cy="548280"/>
          </a:xfrm>
          <a:prstGeom prst="bentConnector3">
            <a:avLst>
              <a:gd name="adj1" fmla="val 3359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71" name="_s1103"/>
          <p:cNvCxnSpPr>
            <a:stCxn id="172" idx="0"/>
            <a:endCxn id="170" idx="2"/>
          </p:cNvCxnSpPr>
          <p:nvPr/>
        </p:nvCxnSpPr>
        <p:spPr>
          <a:xfrm flipH="1" flipV="1" rot="5400000">
            <a:off x="4764600" y="4132800"/>
            <a:ext cx="322920" cy="359640"/>
          </a:xfrm>
          <a:prstGeom prst="bentConnector3">
            <a:avLst>
              <a:gd name="adj1" fmla="val 33593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73" name="_s1101"/>
          <p:cNvCxnSpPr>
            <a:stCxn id="174" idx="0"/>
            <a:endCxn id="175" idx="2"/>
          </p:cNvCxnSpPr>
          <p:nvPr/>
        </p:nvCxnSpPr>
        <p:spPr>
          <a:xfrm flipH="1" flipV="1" rot="5400000">
            <a:off x="8352360" y="4291200"/>
            <a:ext cx="291240" cy="89640"/>
          </a:xfrm>
          <a:prstGeom prst="bentConnector3">
            <a:avLst>
              <a:gd name="adj1" fmla="val 4962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76" name="_s1099"/>
          <p:cNvCxnSpPr>
            <a:stCxn id="163" idx="0"/>
            <a:endCxn id="177" idx="2"/>
          </p:cNvCxnSpPr>
          <p:nvPr/>
        </p:nvCxnSpPr>
        <p:spPr>
          <a:xfrm flipV="1" rot="16200000">
            <a:off x="7315560" y="4295880"/>
            <a:ext cx="315360" cy="40320"/>
          </a:xfrm>
          <a:prstGeom prst="bentConnector3">
            <a:avLst>
              <a:gd name="adj1" fmla="val 3451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78" name="_s1097"/>
          <p:cNvCxnSpPr>
            <a:stCxn id="179" idx="0"/>
            <a:endCxn id="180" idx="2"/>
          </p:cNvCxnSpPr>
          <p:nvPr/>
        </p:nvCxnSpPr>
        <p:spPr>
          <a:xfrm flipV="1" rot="16200000">
            <a:off x="6403320" y="4303080"/>
            <a:ext cx="315360" cy="26280"/>
          </a:xfrm>
          <a:prstGeom prst="bentConnector3">
            <a:avLst>
              <a:gd name="adj1" fmla="val 34514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1" name="_s1095"/>
          <p:cNvCxnSpPr/>
          <p:nvPr/>
        </p:nvCxnSpPr>
        <p:spPr>
          <a:xfrm flipV="1" rot="16200000">
            <a:off x="7170480" y="2720160"/>
            <a:ext cx="244800" cy="2226240"/>
          </a:xfrm>
          <a:prstGeom prst="bentConnector3">
            <a:avLst>
              <a:gd name="adj1" fmla="val 44182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2" name="_s1093"/>
          <p:cNvCxnSpPr/>
          <p:nvPr/>
        </p:nvCxnSpPr>
        <p:spPr>
          <a:xfrm flipV="1" rot="16200000">
            <a:off x="6694200" y="3196440"/>
            <a:ext cx="244800" cy="1274040"/>
          </a:xfrm>
          <a:prstGeom prst="bentConnector3">
            <a:avLst>
              <a:gd name="adj1" fmla="val 44182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3" name="_s1091"/>
          <p:cNvCxnSpPr/>
          <p:nvPr/>
        </p:nvCxnSpPr>
        <p:spPr>
          <a:xfrm flipV="1" rot="16200000">
            <a:off x="6050880" y="3458520"/>
            <a:ext cx="626040" cy="369000"/>
          </a:xfrm>
          <a:prstGeom prst="bentConnector3">
            <a:avLst>
              <a:gd name="adj1" fmla="val 17318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184" name="_s1089"/>
          <p:cNvCxnSpPr/>
          <p:nvPr/>
        </p:nvCxnSpPr>
        <p:spPr>
          <a:xfrm flipV="1" rot="16200000">
            <a:off x="4043520" y="3856320"/>
            <a:ext cx="264240" cy="3104280"/>
          </a:xfrm>
          <a:prstGeom prst="bentConnector3">
            <a:avLst>
              <a:gd name="adj1" fmla="val 41336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5" name="_s1087"/>
          <p:cNvCxnSpPr/>
          <p:nvPr/>
        </p:nvCxnSpPr>
        <p:spPr>
          <a:xfrm flipV="1" rot="16200000">
            <a:off x="3463200" y="4418640"/>
            <a:ext cx="281880" cy="1961280"/>
          </a:xfrm>
          <a:prstGeom prst="bentConnector3">
            <a:avLst>
              <a:gd name="adj1" fmla="val 3861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6" name="_s1085"/>
          <p:cNvCxnSpPr/>
          <p:nvPr/>
        </p:nvCxnSpPr>
        <p:spPr>
          <a:xfrm flipV="1" rot="16200000">
            <a:off x="2887560" y="4994280"/>
            <a:ext cx="281880" cy="810360"/>
          </a:xfrm>
          <a:prstGeom prst="bentConnector3">
            <a:avLst>
              <a:gd name="adj1" fmla="val 3861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7" name="_s1083"/>
          <p:cNvCxnSpPr/>
          <p:nvPr/>
        </p:nvCxnSpPr>
        <p:spPr>
          <a:xfrm flipV="1" rot="16200000">
            <a:off x="1593360" y="4794840"/>
            <a:ext cx="391320" cy="1045440"/>
          </a:xfrm>
          <a:prstGeom prst="bentConnector3">
            <a:avLst>
              <a:gd name="adj1" fmla="val 2790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88" name="_s1081"/>
          <p:cNvCxnSpPr>
            <a:stCxn id="189" idx="0"/>
          </p:cNvCxnSpPr>
          <p:nvPr/>
        </p:nvCxnSpPr>
        <p:spPr>
          <a:xfrm flipV="1" rot="16200000">
            <a:off x="1173600" y="5222880"/>
            <a:ext cx="372240" cy="224640"/>
          </a:xfrm>
          <a:prstGeom prst="bentConnector3">
            <a:avLst>
              <a:gd name="adj1" fmla="val 29235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0" name="_s1079"/>
          <p:cNvCxnSpPr/>
          <p:nvPr/>
        </p:nvCxnSpPr>
        <p:spPr>
          <a:xfrm flipH="1" flipV="1" rot="5400000">
            <a:off x="856800" y="5130360"/>
            <a:ext cx="140400" cy="680040"/>
          </a:xfrm>
          <a:prstGeom prst="bentConnector2">
            <a:avLst/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1" name="_s1077"/>
          <p:cNvCxnSpPr>
            <a:stCxn id="192" idx="0"/>
            <a:endCxn id="193" idx="2"/>
          </p:cNvCxnSpPr>
          <p:nvPr/>
        </p:nvCxnSpPr>
        <p:spPr>
          <a:xfrm flipV="1" rot="16200000">
            <a:off x="1782360" y="4204800"/>
            <a:ext cx="306720" cy="1338840"/>
          </a:xfrm>
          <a:prstGeom prst="bentConnector3">
            <a:avLst>
              <a:gd name="adj1" fmla="val 3537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4" name="_s1075"/>
          <p:cNvCxnSpPr>
            <a:stCxn id="195" idx="0"/>
            <a:endCxn id="193" idx="2"/>
          </p:cNvCxnSpPr>
          <p:nvPr/>
        </p:nvCxnSpPr>
        <p:spPr>
          <a:xfrm flipH="1" flipV="1" rot="5400000">
            <a:off x="1113480" y="4873680"/>
            <a:ext cx="306720" cy="1080"/>
          </a:xfrm>
          <a:prstGeom prst="bentConnector3">
            <a:avLst>
              <a:gd name="adj1" fmla="val 35370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6" name="_s1073"/>
          <p:cNvCxnSpPr>
            <a:stCxn id="197" idx="0"/>
            <a:endCxn id="198" idx="2"/>
          </p:cNvCxnSpPr>
          <p:nvPr/>
        </p:nvCxnSpPr>
        <p:spPr>
          <a:xfrm flipV="1" rot="16200000">
            <a:off x="2452680" y="3036960"/>
            <a:ext cx="342360" cy="2569320"/>
          </a:xfrm>
          <a:prstGeom prst="bentConnector3">
            <a:avLst>
              <a:gd name="adj1" fmla="val 31789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199" name="_s1071"/>
          <p:cNvCxnSpPr>
            <a:stCxn id="200" idx="0"/>
            <a:endCxn id="198" idx="2"/>
          </p:cNvCxnSpPr>
          <p:nvPr/>
        </p:nvCxnSpPr>
        <p:spPr>
          <a:xfrm flipV="1" rot="16200000">
            <a:off x="1770480" y="3719520"/>
            <a:ext cx="402480" cy="1264320"/>
          </a:xfrm>
          <a:prstGeom prst="bentConnector3">
            <a:avLst>
              <a:gd name="adj1" fmla="val 47358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1" name="_s1069"/>
          <p:cNvCxnSpPr>
            <a:stCxn id="193" idx="0"/>
            <a:endCxn id="198" idx="2"/>
          </p:cNvCxnSpPr>
          <p:nvPr/>
        </p:nvCxnSpPr>
        <p:spPr>
          <a:xfrm flipH="1" flipV="1" rot="5400000">
            <a:off x="1132200" y="4284720"/>
            <a:ext cx="342360" cy="73800"/>
          </a:xfrm>
          <a:prstGeom prst="bentConnector3">
            <a:avLst>
              <a:gd name="adj1" fmla="val 31789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2" name="_s1067"/>
          <p:cNvCxnSpPr>
            <a:stCxn id="170" idx="0"/>
            <a:endCxn id="203" idx="2"/>
          </p:cNvCxnSpPr>
          <p:nvPr/>
        </p:nvCxnSpPr>
        <p:spPr>
          <a:xfrm flipV="1" rot="16200000">
            <a:off x="4023000" y="2873880"/>
            <a:ext cx="178200" cy="1986840"/>
          </a:xfrm>
          <a:prstGeom prst="bentConnector3">
            <a:avLst>
              <a:gd name="adj1" fmla="val 4979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4" name="_s1065"/>
          <p:cNvCxnSpPr>
            <a:stCxn id="198" idx="0"/>
            <a:endCxn id="203" idx="2"/>
          </p:cNvCxnSpPr>
          <p:nvPr/>
        </p:nvCxnSpPr>
        <p:spPr>
          <a:xfrm flipH="1" flipV="1" rot="5400000">
            <a:off x="2140560" y="2977200"/>
            <a:ext cx="178200" cy="1780200"/>
          </a:xfrm>
          <a:prstGeom prst="bentConnector3">
            <a:avLst>
              <a:gd name="adj1" fmla="val 4979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5" name="_s1061"/>
          <p:cNvCxnSpPr>
            <a:stCxn id="206" idx="0"/>
            <a:endCxn id="207" idx="2"/>
          </p:cNvCxnSpPr>
          <p:nvPr/>
        </p:nvCxnSpPr>
        <p:spPr>
          <a:xfrm flipV="1" rot="16200000">
            <a:off x="5129640" y="2373480"/>
            <a:ext cx="332640" cy="1769040"/>
          </a:xfrm>
          <a:prstGeom prst="bentConnector3">
            <a:avLst>
              <a:gd name="adj1" fmla="val 32611"/>
            </a:avLst>
          </a:prstGeom>
          <a:ln w="28440">
            <a:solidFill>
              <a:srgbClr val="00ff00"/>
            </a:solidFill>
            <a:miter/>
          </a:ln>
        </p:spPr>
      </p:cxnSp>
      <p:cxnSp>
        <p:nvCxnSpPr>
          <p:cNvPr id="208" name="_s1059"/>
          <p:cNvCxnSpPr>
            <a:stCxn id="203" idx="0"/>
            <a:endCxn id="207" idx="2"/>
          </p:cNvCxnSpPr>
          <p:nvPr/>
        </p:nvCxnSpPr>
        <p:spPr>
          <a:xfrm flipH="1" flipV="1" rot="5400000">
            <a:off x="3601080" y="2610000"/>
            <a:ext cx="329040" cy="1293120"/>
          </a:xfrm>
          <a:prstGeom prst="bentConnector3">
            <a:avLst>
              <a:gd name="adj1" fmla="val 33077"/>
            </a:avLst>
          </a:prstGeom>
          <a:ln w="28440">
            <a:solidFill>
              <a:srgbClr val="0000ff"/>
            </a:solidFill>
            <a:miter/>
          </a:ln>
        </p:spPr>
      </p:cxnSp>
      <p:cxnSp>
        <p:nvCxnSpPr>
          <p:cNvPr id="209" name="_s1053"/>
          <p:cNvCxnSpPr/>
          <p:nvPr/>
        </p:nvCxnSpPr>
        <p:spPr>
          <a:xfrm flipV="1" rot="16200000">
            <a:off x="7966440" y="2967120"/>
            <a:ext cx="310320" cy="568800"/>
          </a:xfrm>
          <a:prstGeom prst="bentConnector3">
            <a:avLst>
              <a:gd name="adj1" fmla="val 34959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0" name="_s1051"/>
          <p:cNvCxnSpPr>
            <a:stCxn id="211" idx="0"/>
            <a:endCxn id="212" idx="2"/>
          </p:cNvCxnSpPr>
          <p:nvPr/>
        </p:nvCxnSpPr>
        <p:spPr>
          <a:xfrm flipH="1" flipV="1" rot="5400000">
            <a:off x="7430040" y="2994120"/>
            <a:ext cx="305640" cy="510480"/>
          </a:xfrm>
          <a:prstGeom prst="bentConnector3">
            <a:avLst>
              <a:gd name="adj1" fmla="val 35495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3" name="_s1049"/>
          <p:cNvCxnSpPr>
            <a:stCxn id="212" idx="0"/>
            <a:endCxn id="214" idx="2"/>
          </p:cNvCxnSpPr>
          <p:nvPr/>
        </p:nvCxnSpPr>
        <p:spPr>
          <a:xfrm flipV="1" rot="16200000">
            <a:off x="5892480" y="943920"/>
            <a:ext cx="464400" cy="3426480"/>
          </a:xfrm>
          <a:prstGeom prst="bentConnector3">
            <a:avLst>
              <a:gd name="adj1" fmla="val 23351"/>
            </a:avLst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15" name="_s1047"/>
          <p:cNvCxnSpPr>
            <a:stCxn id="207" idx="0"/>
            <a:endCxn id="214" idx="2"/>
          </p:cNvCxnSpPr>
          <p:nvPr/>
        </p:nvCxnSpPr>
        <p:spPr>
          <a:xfrm flipV="1" rot="16200000">
            <a:off x="4182120" y="2654280"/>
            <a:ext cx="459360" cy="1080"/>
          </a:xfrm>
          <a:prstGeom prst="bentConnector3">
            <a:avLst>
              <a:gd name="adj1" fmla="val 2360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" name="_s1035"/>
          <p:cNvCxnSpPr>
            <a:stCxn id="214" idx="0"/>
            <a:endCxn id="217" idx="2"/>
          </p:cNvCxnSpPr>
          <p:nvPr/>
        </p:nvCxnSpPr>
        <p:spPr>
          <a:xfrm flipV="1" rot="16200000">
            <a:off x="4318200" y="2111040"/>
            <a:ext cx="18180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_s1031"/>
          <p:cNvSpPr/>
          <p:nvPr/>
        </p:nvSpPr>
        <p:spPr>
          <a:xfrm>
            <a:off x="3859200" y="1812960"/>
            <a:ext cx="1095480" cy="2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" rIns="108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_s1032"/>
          <p:cNvSpPr/>
          <p:nvPr/>
        </p:nvSpPr>
        <p:spPr>
          <a:xfrm>
            <a:off x="3790800" y="2205000"/>
            <a:ext cx="1239840" cy="22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" rIns="108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_s1046"/>
          <p:cNvSpPr/>
          <p:nvPr/>
        </p:nvSpPr>
        <p:spPr>
          <a:xfrm>
            <a:off x="3908520" y="2884320"/>
            <a:ext cx="1006560" cy="20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" rIns="144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_s1048"/>
          <p:cNvSpPr/>
          <p:nvPr/>
        </p:nvSpPr>
        <p:spPr>
          <a:xfrm>
            <a:off x="7270920" y="2889360"/>
            <a:ext cx="1134720" cy="20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io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_s1050"/>
          <p:cNvSpPr/>
          <p:nvPr/>
        </p:nvSpPr>
        <p:spPr>
          <a:xfrm>
            <a:off x="6915240" y="3421080"/>
            <a:ext cx="8269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" rIns="216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_aio_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_s1052"/>
          <p:cNvSpPr/>
          <p:nvPr/>
        </p:nvSpPr>
        <p:spPr>
          <a:xfrm>
            <a:off x="7945560" y="3425760"/>
            <a:ext cx="92052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" rIns="2520" tIns="1080" bIns="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_aio_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_s1058"/>
          <p:cNvSpPr/>
          <p:nvPr/>
        </p:nvSpPr>
        <p:spPr>
          <a:xfrm>
            <a:off x="2843280" y="3421080"/>
            <a:ext cx="5508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_s1060"/>
          <p:cNvSpPr/>
          <p:nvPr/>
        </p:nvSpPr>
        <p:spPr>
          <a:xfrm>
            <a:off x="5634000" y="3424320"/>
            <a:ext cx="1092240" cy="35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_com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_s1064"/>
          <p:cNvSpPr/>
          <p:nvPr/>
        </p:nvSpPr>
        <p:spPr>
          <a:xfrm>
            <a:off x="747720" y="3956040"/>
            <a:ext cx="1182600" cy="1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_s1066"/>
          <p:cNvSpPr/>
          <p:nvPr/>
        </p:nvSpPr>
        <p:spPr>
          <a:xfrm>
            <a:off x="4521240" y="3956040"/>
            <a:ext cx="1168200" cy="19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" rIns="324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68"/>
          <p:cNvSpPr/>
          <p:nvPr/>
        </p:nvSpPr>
        <p:spPr>
          <a:xfrm>
            <a:off x="874800" y="4492800"/>
            <a:ext cx="78588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_s1070"/>
          <p:cNvSpPr/>
          <p:nvPr/>
        </p:nvSpPr>
        <p:spPr>
          <a:xfrm>
            <a:off x="2209680" y="4572000"/>
            <a:ext cx="787680" cy="2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_s1072"/>
          <p:cNvSpPr/>
          <p:nvPr/>
        </p:nvSpPr>
        <p:spPr>
          <a:xfrm>
            <a:off x="3516480" y="4492800"/>
            <a:ext cx="78552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" rIns="432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i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_s1074"/>
          <p:cNvSpPr/>
          <p:nvPr/>
        </p:nvSpPr>
        <p:spPr>
          <a:xfrm>
            <a:off x="689040" y="5027760"/>
            <a:ext cx="115560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" rIns="54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_choice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76"/>
          <p:cNvSpPr/>
          <p:nvPr/>
        </p:nvSpPr>
        <p:spPr>
          <a:xfrm>
            <a:off x="1951200" y="5027760"/>
            <a:ext cx="130644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" rIns="54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_choice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_s1078"/>
          <p:cNvSpPr/>
          <p:nvPr/>
        </p:nvSpPr>
        <p:spPr>
          <a:xfrm>
            <a:off x="20520" y="5540400"/>
            <a:ext cx="85428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" rIns="612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low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_s1080"/>
          <p:cNvSpPr/>
          <p:nvPr/>
        </p:nvSpPr>
        <p:spPr>
          <a:xfrm>
            <a:off x="968400" y="5540400"/>
            <a:ext cx="100476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" rIns="612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medium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_s1082"/>
          <p:cNvSpPr/>
          <p:nvPr/>
        </p:nvSpPr>
        <p:spPr>
          <a:xfrm>
            <a:off x="2036880" y="5540400"/>
            <a:ext cx="85860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" rIns="684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choice_high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_s1084"/>
          <p:cNvSpPr/>
          <p:nvPr/>
        </p:nvSpPr>
        <p:spPr>
          <a:xfrm>
            <a:off x="2970360" y="5540400"/>
            <a:ext cx="93960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low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_s1086"/>
          <p:cNvSpPr/>
          <p:nvPr/>
        </p:nvSpPr>
        <p:spPr>
          <a:xfrm>
            <a:off x="4022640" y="5540400"/>
            <a:ext cx="108288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" rIns="828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medium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_s1088"/>
          <p:cNvSpPr/>
          <p:nvPr/>
        </p:nvSpPr>
        <p:spPr>
          <a:xfrm>
            <a:off x="5187960" y="5540400"/>
            <a:ext cx="10382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" rIns="828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plechoice_high_card_aio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_s1090"/>
          <p:cNvSpPr/>
          <p:nvPr/>
        </p:nvSpPr>
        <p:spPr>
          <a:xfrm>
            <a:off x="6180120" y="3956040"/>
            <a:ext cx="735120" cy="20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_s1092"/>
          <p:cNvSpPr/>
          <p:nvPr/>
        </p:nvSpPr>
        <p:spPr>
          <a:xfrm>
            <a:off x="6966000" y="3956040"/>
            <a:ext cx="974520" cy="20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st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_s1094"/>
          <p:cNvSpPr/>
          <p:nvPr/>
        </p:nvSpPr>
        <p:spPr>
          <a:xfrm>
            <a:off x="7940520" y="3956040"/>
            <a:ext cx="1203480" cy="23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nd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_s1096"/>
          <p:cNvSpPr/>
          <p:nvPr/>
        </p:nvSpPr>
        <p:spPr>
          <a:xfrm>
            <a:off x="6180120" y="4492800"/>
            <a:ext cx="78588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1098"/>
          <p:cNvSpPr/>
          <p:nvPr/>
        </p:nvSpPr>
        <p:spPr>
          <a:xfrm>
            <a:off x="7043760" y="4473720"/>
            <a:ext cx="89676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_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_s1100"/>
          <p:cNvSpPr/>
          <p:nvPr/>
        </p:nvSpPr>
        <p:spPr>
          <a:xfrm>
            <a:off x="7991640" y="4481640"/>
            <a:ext cx="922320" cy="40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_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_s1102"/>
          <p:cNvSpPr/>
          <p:nvPr/>
        </p:nvSpPr>
        <p:spPr>
          <a:xfrm>
            <a:off x="4352760" y="4492800"/>
            <a:ext cx="78588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_s1104"/>
          <p:cNvSpPr/>
          <p:nvPr/>
        </p:nvSpPr>
        <p:spPr>
          <a:xfrm>
            <a:off x="5187960" y="4492800"/>
            <a:ext cx="928800" cy="22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phic_a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_s1114"/>
          <p:cNvSpPr/>
          <p:nvPr/>
        </p:nvSpPr>
        <p:spPr>
          <a:xfrm>
            <a:off x="3298680" y="5027760"/>
            <a:ext cx="105408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ext_edit_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_s1118"/>
          <p:cNvSpPr/>
          <p:nvPr/>
        </p:nvSpPr>
        <p:spPr>
          <a:xfrm>
            <a:off x="4406760" y="5027760"/>
            <a:ext cx="1176480" cy="23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_edit_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_s1120"/>
          <p:cNvSpPr/>
          <p:nvPr/>
        </p:nvSpPr>
        <p:spPr>
          <a:xfrm>
            <a:off x="6356520" y="5045040"/>
            <a:ext cx="447480" cy="23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3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1122"/>
          <p:cNvSpPr/>
          <p:nvPr/>
        </p:nvSpPr>
        <p:spPr>
          <a:xfrm>
            <a:off x="7043760" y="5045040"/>
            <a:ext cx="12621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o_compos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tructure of the language for abstract user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6:58:51Z</dcterms:created>
  <dc:creator/>
  <dc:description/>
  <dc:language>en-US</dc:language>
  <cp:lastModifiedBy>Fabio Paternò</cp:lastModifiedBy>
  <dcterms:modified xsi:type="dcterms:W3CDTF">2002-09-23T10:41:19Z</dcterms:modified>
  <cp:revision>89</cp:revision>
  <dc:subject/>
  <dc:title>Task model-based design of multiplatform web applications</dc:title>
</cp:coreProperties>
</file>